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FF7E-9749-4819-9E9D-8D06F35A7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4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066680" y="25909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4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3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9" name="Picture 10" descr="aortic dissection"/>
          <p:cNvPicPr/>
          <p:nvPr/>
        </p:nvPicPr>
        <p:blipFill>
          <a:blip r:embed="rId1"/>
          <a:stretch/>
        </p:blipFill>
        <p:spPr>
          <a:xfrm>
            <a:off x="2362320" y="1447920"/>
            <a:ext cx="5410080" cy="4240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2565360" y="5877000"/>
            <a:ext cx="511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of Aortic Dissectio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t all require surgical interven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4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8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103720" y="58672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5" descr="boerhaave annals"/>
          <p:cNvPicPr/>
          <p:nvPr/>
        </p:nvPicPr>
        <p:blipFill>
          <a:blip r:embed="rId1"/>
          <a:stretch/>
        </p:blipFill>
        <p:spPr>
          <a:xfrm>
            <a:off x="5181480" y="1943280"/>
            <a:ext cx="4343400" cy="352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6960" y="1599840"/>
            <a:ext cx="8980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S is not the only cause of potentially life threatening chest p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 history or physical exam can suggest likely alternate diagnoses, none can rule out serious etiolog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or risk for CA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1720" y="123840"/>
            <a:ext cx="8224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7" name="Rectangle 306"/>
          <p:cNvSpPr/>
          <p:nvPr/>
        </p:nvSpPr>
        <p:spPr>
          <a:xfrm>
            <a:off x="7238880" y="629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07"/>
          <p:cNvSpPr/>
          <p:nvPr/>
        </p:nvSpPr>
        <p:spPr>
          <a:xfrm>
            <a:off x="6964200" y="6219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8"/>
          <p:cNvSpPr/>
          <p:nvPr/>
        </p:nvSpPr>
        <p:spPr>
          <a:xfrm>
            <a:off x="657360" y="17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09"/>
          <p:cNvSpPr/>
          <p:nvPr/>
        </p:nvSpPr>
        <p:spPr>
          <a:xfrm>
            <a:off x="852480" y="1297080"/>
            <a:ext cx="814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lihood ratios for MI based on components of the chest pain 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10"/>
          <p:cNvSpPr/>
          <p:nvPr/>
        </p:nvSpPr>
        <p:spPr>
          <a:xfrm>
            <a:off x="2134800" y="1738440"/>
            <a:ext cx="56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of pai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R (9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11"/>
          <p:cNvSpPr/>
          <p:nvPr/>
        </p:nvSpPr>
        <p:spPr>
          <a:xfrm>
            <a:off x="2139480" y="2043000"/>
            <a:ext cx="57099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R arm/should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7 (1.9-1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both arms/should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1 (2.5-6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4 (1.5-3.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L ar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3 (1.7-3.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diaphoresi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0 (1.9-2.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nausea or vomit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9 (1.7-2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orse than previous angina or simila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8 (1.6-2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 previous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cribed as pressu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3 (1.2-1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leuriti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2 (0.1-0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si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har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producible with palp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framammary lo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7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on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6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Lydia Rodriguez</cp:lastModifiedBy>
  <cp:lastPrinted>2009-10-01T01:13:32Z</cp:lastPrinted>
  <dcterms:modified xsi:type="dcterms:W3CDTF">2009-10-09T17:45:37Z</dcterms:modified>
  <cp:revision>72</cp:revision>
  <dc:subject/>
  <dc:title>Evaluation of Chest Pain</dc:title>
</cp:coreProperties>
</file>