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8ECB-A3DB-4F6E-A908-8B75D9B7D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4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3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9" name="Picture 10" descr="aortic dissection"/>
          <p:cNvPicPr/>
          <p:nvPr/>
        </p:nvPicPr>
        <p:blipFill>
          <a:blip r:embed="rId1"/>
          <a:stretch/>
        </p:blipFill>
        <p:spPr>
          <a:xfrm>
            <a:off x="2362320" y="1447920"/>
            <a:ext cx="541008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2565360" y="5877000"/>
            <a:ext cx="51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Aortic Disse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 all require surgical interven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103720" y="5867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5" descr="boerhaave annals"/>
          <p:cNvPicPr/>
          <p:nvPr/>
        </p:nvPicPr>
        <p:blipFill>
          <a:blip r:embed="rId1"/>
          <a:stretch/>
        </p:blipFill>
        <p:spPr>
          <a:xfrm>
            <a:off x="5181480" y="1943280"/>
            <a:ext cx="4343400" cy="352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6960" y="1599840"/>
            <a:ext cx="898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 is not the only cause of potentially life threatening chest p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 history or physical exam can suggest likely alternate diagnoses, none can rule out serious eti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or risk for CA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3840"/>
            <a:ext cx="822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7" name="Rectangle 306"/>
          <p:cNvSpPr/>
          <p:nvPr/>
        </p:nvSpPr>
        <p:spPr>
          <a:xfrm>
            <a:off x="723888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7"/>
          <p:cNvSpPr/>
          <p:nvPr/>
        </p:nvSpPr>
        <p:spPr>
          <a:xfrm>
            <a:off x="6964200" y="621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8"/>
          <p:cNvSpPr/>
          <p:nvPr/>
        </p:nvSpPr>
        <p:spPr>
          <a:xfrm>
            <a:off x="65736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9"/>
          <p:cNvSpPr/>
          <p:nvPr/>
        </p:nvSpPr>
        <p:spPr>
          <a:xfrm>
            <a:off x="852480" y="1297080"/>
            <a:ext cx="81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lihood ratios for MI based on components of the chest pain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10"/>
          <p:cNvSpPr/>
          <p:nvPr/>
        </p:nvSpPr>
        <p:spPr>
          <a:xfrm>
            <a:off x="2134800" y="173844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of pa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R (9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1"/>
          <p:cNvSpPr/>
          <p:nvPr/>
        </p:nvSpPr>
        <p:spPr>
          <a:xfrm>
            <a:off x="2139480" y="2043000"/>
            <a:ext cx="57099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R arm/should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7 (1.9-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both arms/should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1 (2.5-6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4 (1.5-3.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L a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 (1.7-3.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diaphores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0 (1.9-2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nausea or vomi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9 (1.7-2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se than previous angina or simila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8 (1.6-2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 previous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cribed as press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3 (1.2-1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euri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2 (0.1-0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i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producible with palp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ramammary lo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7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n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6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Lydia Rodriguez</cp:lastModifiedBy>
  <cp:lastPrinted>2009-10-01T01:13:32Z</cp:lastPrinted>
  <dcterms:modified xsi:type="dcterms:W3CDTF">2009-10-09T17:45:37Z</dcterms:modified>
  <cp:revision>72</cp:revision>
  <dc:subject/>
  <dc:title>Evaluation of Chest Pain</dc:title>
</cp:coreProperties>
</file>