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14360" y="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86920" y="708120"/>
            <a:ext cx="4713480" cy="353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956440"/>
            <a:ext cx="307008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14360" y="8956440"/>
            <a:ext cx="30704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A37761D-721D-49BB-85FF-012F9E5EF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17222BB-4EBD-497A-9741-47C424E2AC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6E8B998-8E34-497A-B25A-AAC222CBAB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DC90657-7132-4267-9EA5-C2977E13E5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6DA2827-2937-4116-B5B2-0018018012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6F08389-DDEB-4496-8E21-D6DE5B2491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52A472D-AE33-4595-9F6C-B0305EA279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FA6DFFF-E1C8-4492-B46A-8511AE9A29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1D6C026-BADD-486C-9C6F-3D90A0B83F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B380FDF-0669-46B7-8596-A75E721D37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113F3D7-E6E9-4897-95E5-C0E18C9673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62E177D-AE75-43E5-970C-BA781AE308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7CCB5F4-335B-46D1-9142-677D28D6B7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EF8388E-9D2B-4EE4-B016-402A795AF5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88B8A9D-02DB-41A6-9E5C-6DFA2F4B8C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944F927-D9D0-44DB-84E8-ADFB963452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7C5E0E5-6388-48F2-955A-3181B7A0B7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34E88EC-1EAB-421E-BE9F-649BC7C84E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F3FA68F-1FBE-440E-82A8-71C700A4CC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6950DBA-9A7F-4591-9060-57C5DB7EDF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520BC66-20D0-4F22-B718-69BB7A87AC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E4F4B9C-A5D4-40EA-87FD-9AA547092F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FF8A14E-552D-4595-81CD-7D21A25992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10D04F6-2F75-4B48-A09D-DB253459A5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0F8F2FC-230F-43AB-BA70-CBF53308B6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6CE2471-87BD-40D2-8DA5-1B8744165B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1E94A0D-365B-411F-83E3-D58A679119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79DA703-6731-4065-B98B-B3696BA750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D4AA828-1254-40BD-BEE4-CA0B593BD2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CC37197-0647-4B7A-9C2D-03B2FFFFB4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4D61E10-1C2B-491C-9954-AF55EBCEA2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5848A87-FCD6-44EC-B664-1F0012BD0A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D6B90E1-B577-4318-8FD2-42B46689F6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1DF87B8-7DE1-4C5A-A3CC-EB3E1A1372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F01DD3E-E9D9-44F8-9456-E42D9706C6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76B80AE-D33E-4B29-B206-3DC8B0B1CC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775A5D3-7FD7-4EBD-A9A9-2B1B39A4D1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E3623B8-DC92-4C4D-95F7-F573DA5DAA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D1D95FE-2FB4-4949-A8A0-B46B92B1FE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356E92D-0998-4B60-9DFA-E48BB0047E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DD3A1F4-835F-40D8-BDB1-C5F37E4A75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2A940BA-521C-4169-83C4-5D72B771DD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648B40E-D81D-484A-834A-ADC1638B56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008D72E-39FA-4039-8B50-02EACD657B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AD67724-955D-4672-84E8-EED4C57DBF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A261035-0419-453E-8156-4990B91DD0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7A4F0F6-4663-4CB8-B561-957ABF48A6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5479224-0F25-499D-ACF4-508CC3927B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9607C5E-6EC0-4C7F-B9A7-16B640A2DA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635F3EB-2400-4BBE-8346-A0BFB16178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0937C72-0FFA-4A82-8271-9206FA4339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7A6EC44-E73C-481C-8630-3C4CDD47A7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9CCFDC2-6048-4872-A660-D5007FABD3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8E9D8B0-071A-41A3-8E4F-84758ABAA5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2EAA091-E816-4A49-B4A9-AC32C5324A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5D69CCE-14BE-4A06-952A-2A4A52C002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9D0EBCA-D749-443C-B0AD-2DA7A6C08A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3391895-A181-422D-8F44-1173DBD082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651E681-0A50-4BC8-B527-E83315EE1A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F2F3D4D-7D26-415B-BCB1-2EB771AFC1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5A58F1C-8A3A-441D-9EE1-5AE1BEBEA9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8DADC9D-9A3E-459F-9D0A-C004B7D3B6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2B7DF1F-890C-4600-9C6C-DF6333D195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A2D6956-03BB-442C-B30B-1A123D1CDD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B08-10AD-422D-AF8C-1DEAE9E5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D43-EF71-4250-9E79-FA741470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BF6D-1561-4D0E-B90A-63C140F9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79D-2B7D-41B6-8518-C61B71D5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BEAC1-026B-4C72-B3F1-779AE0E1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99307-E588-4185-B7D9-7D11555A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E5859-F9D0-44CD-AB2B-BBE603F5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707C9-0E34-401A-B9CE-DC793C59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CCD49-7721-441C-A95B-DA175899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0E176-45BA-4662-A729-E17EF6E1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F35EB-DEC1-498A-A5AE-4B4B6F9F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B398-23A0-41A5-AE1D-02D571CC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ACB51-1840-4B55-9ED8-152354F5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27D14-9B58-4F6D-9402-2AE00B71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D7677-E685-4BD0-A37D-DA29ADED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8AB46-004D-415C-B07F-567A72FF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626EC-5FF1-4852-9AE1-D660696B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841B-9FF0-418E-A524-1674CA76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FFCA-FB78-4A09-B2EF-042A0F82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9C9-BA28-4A25-B07A-CD3FC3F4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1DB6-5FD4-4979-96FC-D07C8F9A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3D1A-3761-4AEE-A23B-87AE89DE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7674-D6C3-410A-8E38-8DE4B708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AB5C-AE25-4017-9850-3B4E4421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05C4-5D8B-4F15-A304-DA13268B8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24B4-7EA1-4D4E-A18D-7A0E6A26F2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3edff"/>
                </a:solidFill>
                <a:latin typeface="Arial"/>
              </a:rPr>
              <a:t>Carpal Tunnel Syndrome</a:t>
            </a:r>
            <a:endParaRPr b="0" lang="en-US" sz="48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cey Harris-Carriman, M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ysical Medicine and Rehabil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on Conference, CCRM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8,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: Smoking, alcohol, poor nutrition, obesity, high choleste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http://www.ganfyd.org/images/thumb/b/b2/Arm_nerves.png/300px-Arm_nerve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Symptoms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tern recog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 variety of symptoms in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symptoms are more suggestive of CTS than other symp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Symptoms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c symptoms in 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king up with pain and numbness/paresthesias of the h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ggered by driving, holding phone, reading book, typing,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eving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ck 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in hand pos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familiar with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sic neuroanatom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factors involved 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o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gnize the goals and limitations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ign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signs suggestive of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sensation of the lateral 3-1/2 dig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ness of APB and other median-innervated muscles of thenar emin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len’s, reverse Phalen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nel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: Pressure provocation test, hand elevation test, tourniquet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https://www46.safesecureweb.com/positivehealth/permit/Articles/Massage/green58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igns </a:t>
            </a:r>
            <a:r>
              <a:rPr b="0" lang="en-US" sz="4400" spc="-1" strike="noStrike" u="sng">
                <a:solidFill>
                  <a:srgbClr val="b3edff"/>
                </a:solidFill>
                <a:uFillTx/>
                <a:latin typeface="Arial"/>
              </a:rPr>
              <a:t>NOT</a:t>
            </a: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 consistent with C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sensation over the lateral palm (thenar reg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sensation proximal to w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ness of hypothenar muscles or other non-median-innervated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deep tendon ref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 of C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pheral 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rvical radiculopa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chial plexopa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ximal median neuropathy (e.g. in forearm or elb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mononeuroapthy  (e.g. ulnar, radi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lying polyneuropa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 NS (e.g. TIA, small lacunar infarct, myelopath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uloskelet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er pain with distal paresthe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steoarthr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mulative trauma dis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NS: Cervical radicul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4495680" y="1371600"/>
            <a:ext cx="4648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Cervical Radicul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ally mild cases of cervical radicul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6, C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ck pain, radiation to shoulder, arm, +/- dist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se with neck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reflexes and str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ory loss beyond distribution of median ner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NS:  Brachial Plex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800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m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ology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mor,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ed radiation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x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op (e.g. CAB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rogenic 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ommon cause of brachial plex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/motorcycle/bike accident, newbor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per trunk C5/6-Erb’s pal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trunk C8/T1-Klumpke’s pal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etrating (knife, bull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oplasm,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stasis to lymph nodes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comm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especially lymphoma, breast, lung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tumor: Panco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infilration of nerve: Lymphoma, leuk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: Primary nerve sheath tum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eoplastic (unusual): hematoma, vascular anom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layed Radiati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: Progressive, years after ra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correlated with dose of ra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o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x prominent (paresthesias, numbn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Recurrent) Neopla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: Slowly progres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inent p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ner’s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rachial Plex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KA Neuralgic amyotrophy, Parsonage-Tur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iopath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preceded by: viral illness or immunization; also surg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thoracic nerve, anterior interosseous nerve,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er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set: days to weeks after inciting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e pain, awakens from sle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ness and atro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set: Generally after pain subsides (1-2 wee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/- Sensory s/s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urogenic 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ases due to fibrous band between cervical rib and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oracic ri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trunk, C8/T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les: hand intrinsics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p then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1; +/- FPL, FD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ory: Ulnar, M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NS: Proximal Median Neur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3733920" y="1219320"/>
            <a:ext cx="54100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DDx: Proximal Median Neuropathy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ament of Stru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rior Interosseous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e motor: FPL, PQ, FDP  to #2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kay” 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nator Syndrom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le sites of entra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nator te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ertus fibrosus (b/t biceps tendon and proximal flexor forearm musc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neurotic ridge of FDS (sublimis brid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pheral NS: Other Mononeur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nar, Ra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efinition of C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ellation of symptoms and sig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condary to a median neuropathy at the w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4956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NS: Peripheral Polyneur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3581280" y="1219320"/>
            <a:ext cx="5867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NS: Cervical Myel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5257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culoskeletal: Shoulder Pathology with Distal Paresthes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952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S/EMG and 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Nerve Conduction Studies (NCS)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NOTE: NCS sometimes called NCV “Nerve Conduction Velocity”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C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ture here of NCS set-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http://www.eorthopod.com/images/ContentImages/hand/hand_carpal_tunnel/hand_carpal_tunnel_diagnosis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C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 can be useful 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rm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TS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es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r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C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clinical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NCS study must b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ividua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C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 is positive in 91-98% of patients with clinically diagnosed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Source: Keles et al, Diagnostic precision of ultrasonography in patients with CTS, Am J Phys Med Rehabil 2005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k of false negatives on NC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enerally implies very mild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agnostic Ultrasound 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-time imaging of median nerve in carpal tu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ative and quantita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s can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sectional area (CSA) of median ner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wing of flexor retinacu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ttening of median nerve in carpal tu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agnostic Ultrasound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ly new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s in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s in treatment, ultrasound-guided injection of steroid into carpal tu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Treatment of C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6" descr="http://z.about.com/d/orthopedics/1/0/4/5/wristsplint.jpg"/>
          <p:cNvPicPr/>
          <p:nvPr/>
        </p:nvPicPr>
        <p:blipFill>
          <a:blip r:embed="rId1"/>
          <a:stretch/>
        </p:blipFill>
        <p:spPr>
          <a:xfrm>
            <a:off x="-228600" y="0"/>
            <a:ext cx="96012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-781200" y="-114480"/>
            <a:ext cx="1070640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6775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ummary and Conclusion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TS: Summary and Conclusion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agnosis of CTS is made o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nic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tern recog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at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history, physical, 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Etiolog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TS case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iopath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ummary and Conclusion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can be useful 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rm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TS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es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r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trasound can be a helpful adjunct in assessing and treating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carriman@g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Etiolog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percentage of CTS due to an identifiable cause, such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M, RA, thyroid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itions that increase total body fluid (e.g. pregnancy, hemodialy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wrist lesion (e.g. cyst, fracture, infection, tum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enital (e.g. small carpal tunn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: F 3x&gt;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&gt; younger; very rare in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k prevalence in women &gt;5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ain medical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rs that use hands and wrists repetitively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pecially with high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ic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0:53:09Z</dcterms:created>
  <dc:creator>Stacey</dc:creator>
  <dc:description/>
  <dc:language>en-US</dc:language>
  <cp:lastModifiedBy>lthomas</cp:lastModifiedBy>
  <dcterms:modified xsi:type="dcterms:W3CDTF">2009-05-08T15:14:56Z</dcterms:modified>
  <cp:revision>65</cp:revision>
  <dc:subject/>
  <dc:title>Carpal Tunnel Syndrome</dc:title>
</cp:coreProperties>
</file>