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9BBBA7-61C4-4B8A-9B74-14330EFA3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521A20-F5B0-4DBF-8578-A989189F7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6376A0C-B298-44EB-8A77-ADEAE41D8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458BF98-DEB2-4AFC-AD9D-BC72BE8F1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BDB4B25-DBD3-412C-8AE8-E13344AE4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6C273E-80B1-457D-8949-1E1C7E1494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FE65F8-7992-4582-A559-533362AF04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702E27-A4EE-40D0-8A53-10E9CC7DD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DE88DA-3581-4D90-B7EC-048DD39BF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23B615-0C9E-4D0A-B372-A1859A81F3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94D02E8-4734-427E-AB13-AA81D6694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A88B3C-2C05-43FC-96E4-9EC34E031A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4F7096B-E918-4BD4-9C86-4508A6F49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767FFE-FEAC-4D88-ABA6-C4FCED10BC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14AC13-DD3F-4E80-89B4-5BAF7DF2F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20F44A-C68E-45DA-812F-9C346A77A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E44023-E29E-47ED-B983-00C7A3D62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38C9CC-2F1D-4F0F-AF3E-BC9D40C245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43DDF4B-07CC-4F02-B1AE-775E29974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9D545E-7623-4613-81FC-94F721429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E75406B-CA7B-42DA-A08F-A09754145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E06763-D5DD-4062-B385-C97572688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9EB086-C854-4680-856C-434812736D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D63021-89C7-465C-90CC-EC18693879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7C35C1-8232-4874-A0CC-5FD15BEF7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9A6D10A-6C03-48F8-8AA3-09736B8E39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90849D-CB9D-4FA5-946A-C518D40C9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B47C82-F00D-4848-8AD5-A0356751F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4C9AD8-D688-4263-8CB9-53DCA1CB1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3924CB-1F64-46BC-B629-2C5E9A461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6D47D7-A6DF-4A16-A717-154806A49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A1285A-3948-4099-BA5C-982D85D81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2C03EC-A9DF-43E7-AB68-F458603D4C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7299A3-AE2B-4629-A855-0B1D997CC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218C8C-543E-4A4C-B6AB-5F8FE047E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58AC3B-0E32-47E8-AA20-0ADA7D891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55ED687-460D-4160-8B5B-11F5D6FFE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3076140-B6A7-438E-9370-DB900D473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EF86A6-0198-42D1-9202-C4300ED87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C407691-4D14-4161-B53C-641C130359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539F80-C63D-4C71-85D1-A0EA80AF50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E7CE69-7098-48CA-8A08-9002F59D3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37678B-0C09-4E79-A2D8-11001E377E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675400-AC61-4142-8EF9-E2BBFAD39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AAD540-8BB9-4213-911D-8EAC1DF71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3DD2897-B21B-4125-AF58-5BD2390A3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968E2F-A028-4DFA-9453-31673951E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EA1B000-A2E0-4088-A015-F2D9B0C1FF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E0D18D-EF7D-49E7-8BBA-8A19488426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DBAA811-AB84-40C8-9994-04112C71C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FEB2C8-98B0-42B5-8C94-6EC132919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222C1D-3FBE-4BE8-9E0E-F0BE3DD31B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B4F92CE-5C83-49E5-B378-E028A5D481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FC065E-0F2A-4CAF-9C97-5D5BB04E0A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2D844BA-C425-41E1-8AA3-F6D90D8C7A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61A7F40-4CB8-4571-9D80-B4C722E023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69A943-DF4A-403F-82B1-AE00A44AA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27CE3AC-9DB3-42F9-ACA9-73C49A4964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A156A8-358A-4CBF-9CD4-DF37B2B36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D1E64B-5AD4-4FC8-AA9E-1DF00FF78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1CBDB4-81C8-4984-B0FB-3D935AC9F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6F372D-7FEF-4ECA-B635-06D620A07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D3EEE6-60DE-410E-9F18-6428DD425F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4720" y="8956800"/>
            <a:ext cx="307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B4810B-1BA3-4A73-B350-80C583AB28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DEF-848C-4093-8AFF-8E917755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95F-DE0D-4CF2-B357-9E0D6553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659-A0FF-4F00-B47E-59128611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B45-3B6D-493E-8EE4-6F8D8E06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1AAE-17E1-4D85-AD14-4E70466F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F63E6-EDFD-468B-856D-032C16D1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60732-B12E-4739-A9E3-D7A72FC3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9A7A4-099F-4969-BC3C-7235AF9A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64572-E266-470D-83CF-CB997C04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4BEF4-D8C9-4A63-A822-B0AB7BAB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7DC06-D7DE-43E8-83E3-D15EB0BC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543-4111-46F4-977D-5DC8D1D2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D02C1-B3EB-4D6E-BED2-1C4E681B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8546F-0E96-45DA-9C13-1B494FA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8273-F354-4F71-BF83-48E03FE6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A777-D778-4E69-89ED-C627EDF3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7276-9496-4F29-B35B-EC335D33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8E8-03D4-4EEA-9DE4-AE990A9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E98-8811-49EE-97E4-F2B1F5F9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735-EB84-44B8-8F5F-721C9F1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35E-080F-47BC-9E48-06955CDF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2D1-2FA4-4399-B451-5827346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F09-0E09-4833-B0E4-90DCBC7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347-4729-4000-B021-57723F8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5478-E010-47F2-9A5C-DD2A6980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22C-A607-4A89-8AAA-6DF5B9228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3edff"/>
                </a:solidFill>
                <a:latin typeface="Arial"/>
              </a:rPr>
              <a:t>Carpal Tunnel Syndrome</a:t>
            </a:r>
            <a:endParaRPr b="0" lang="en-US" sz="48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cey Harris-Carriman, M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on Conference, CCR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8,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: Smoking, alcohol, poor nutrition, obesity, high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ttp://www.ganfyd.org/images/thumb/b/b2/Arm_nerves.png/300px-Arm_nerve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 variety of symptoms in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ymptoms are more suggestive of CTS than other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Symptom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 symptoms in 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king up with pain and numbness/paresthesias of the h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gered by driving, holding phone, reading book, typing,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ving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ck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hand pos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amiliar with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neuroanato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factors involved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ze the goals and limitations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signs suggestive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f the lateral 3-1/2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APB and other median-innervated muscles of thenar emin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len’s, reverse Phal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ne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: Pressure provocation test, hand elevation test, tournique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s://www46.safesecureweb.com/positivehealth/permit/Articles/Massage/green58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igns </a:t>
            </a:r>
            <a:r>
              <a:rPr b="0" lang="en-US" sz="4400" spc="-1" strike="noStrike" u="sng">
                <a:solidFill>
                  <a:srgbClr val="b3edff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 consistent with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over the lateral palm (thenar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sensation proximal to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 of hypothenar muscles or other non-median-innervat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deep tendon ref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rvical radicul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chial plex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ximal median neuropathy (e.g. in forearm or elb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ononeuroapthy  (e.g. ulnar, radi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lying polyneuropat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NS (e.g. TIA, small lacunar infarct, myelopath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oskele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er pain with distal paresth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teoart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trauma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Cervical Radicul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ecially mild cases of cervical radic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6, C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, radiation to shoulder, arm, +/- dis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e with neck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reflexes a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ory loss beyond distribution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 Brachial Plex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800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ology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mor,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ed radiation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op (e.g. CAB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genic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ommon cause of brachial plex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/motorcycle/bike accident, new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per trunk C5/6-Erb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trunk C8/T1-Klumpke’s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etrating (knife, bull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oplasm,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stasis to lymph nodes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comm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especially lymphoma, breast, lung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tumor: Panco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infilration of nerve: Lymphoma, leuk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: Primary nerve sheath tum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eoplastic (unusual): hematoma, vascular anom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layed Radi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Progressive, years after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correlated with dose of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x prominent (paresthesias, numb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Recurrent) Neopla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set: Slowly progres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nent p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ner’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rachial Plex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A Neuralgic amyotrophy, Parsonage-Tur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eceded by: viral illness or immunization; also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horacic nerve, anterior interosseous nerve,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days to weeks after inciting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pain, awakens from sl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 and atro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set: Generally after pain subsides (1-2 wee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/- Sensory s/s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Dx: Brachial Plexopath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urogenic 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ases due to fibrous band between cervical rib and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r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runk, C8/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les: hand intrinsics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 then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1; +/- FPL, F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y: Ulnar, M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roximal Median 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41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DDx: Proximal Median Neuropath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ament of Stru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Interosseou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e motor: FPL, PQ, FDP  to #2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ay” 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or Syndro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sites of entra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nator te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ertus fibrosus (b/t biceps tendon and proximal flexor forearm musc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neurotic ridge of FDS (sublimis 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pheral NS: Other Mononeur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ar, Ra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efinition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ellation of symptoms and sig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condary to a median neuropathy at the w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pheral NS: Peripheral Polyneur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867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NS: Cervical Mye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257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fferential Diagnos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culoskeletal: Shoulder Pathology with Distal Paresthes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/EMG and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3edff"/>
                </a:solidFill>
                <a:latin typeface="Arial"/>
              </a:rPr>
              <a:t>Nerve Conduction Studies (NCS)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NOTE: NCS sometimes called NCV “Nerve Conduction Velocity”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ture here of NCS set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http://www.eorthopod.com/images/ContentImages/hand/hand_carpal_tunnel/hand_carpal_tunnel_diagnos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clin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NCS study must 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vidu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C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 is positive in 91-98% of patients with clinically diagnose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Source: Keles et al, Diagnostic precision of ultrasonography in patients with CTS, Am J Phys Med Rehabil 2005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 of false negatives on NC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enerally implies very mild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 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-time imaging of median nerve in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 and quantit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can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 area (CSA) of median ner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ing of flexor retina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tening of median nerve in carpal tu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Diagnostic Ultrasound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ly new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in treatment, ultrasound-guided injection of steroid into carpal tu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ology and Risk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 of the Upp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: Symptoms and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and 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reatment of CT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http://z.about.com/d/orthopedics/1/0/4/5/wristsplint.jpg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-781200" y="-114480"/>
            <a:ext cx="1070640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6775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TS: 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CTS is made 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tern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a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history, physical, differential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 cas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iopa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mmary and Conclusion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S/EMG can be useful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rm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es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trasound can be a helpful adjunct in assessing and treating 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carrima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tiology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percentage of CTS due to an identifiable cause,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M, RA, thyroid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s that increase total body fluid (e.g. pregnancy, hemodialy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wrist lesion (e.g. cyst, fracture, infection, tum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(e.g. small carpal tu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: F 3x&gt;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&gt; younger; very rare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k prevalence in women &gt;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edic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rs that use hands and wrists repetitively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with high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0:53:09Z</dcterms:created>
  <dc:creator>Stacey</dc:creator>
  <dc:description/>
  <dc:language>en-US</dc:language>
  <cp:lastModifiedBy>lthomas</cp:lastModifiedBy>
  <dcterms:modified xsi:type="dcterms:W3CDTF">2009-05-08T15:14:56Z</dcterms:modified>
  <cp:revision>65</cp:revision>
  <dc:subject/>
  <dc:title>Carpal Tunnel Syndrome</dc:title>
</cp:coreProperties>
</file>