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088400" cy="94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4014360" y="0"/>
            <a:ext cx="307044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86920" y="708120"/>
            <a:ext cx="4713480" cy="353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0" y="8956440"/>
            <a:ext cx="3070080" cy="47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4014360" y="8956440"/>
            <a:ext cx="3070440" cy="47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EBDF206-27EC-4149-9A56-8DCC86F0C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9F7E8CA-8AA8-4BD7-AA4F-32A2D9E022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1E0B98B-B0B8-4FB1-952D-D0A56D88EC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F551A30-7BBD-406E-9C3F-93628226DF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7F031BE-B0D3-4628-AE55-2D63C08895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E3B2CA6-47FA-418B-A8F0-E20B5AA750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379F0CB-BFEA-428E-946F-0F9E352B23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147A11C-CDC3-4BD3-BC51-36EAE013FB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4311C8F-E83C-441B-9E29-CC438C546D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87AC40C-00CD-4281-918C-C5A0C57255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F92C7E8-D20F-45CB-938C-E3BCEC446C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D08119E-02A6-4D6A-88EE-BE8B638EE2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4D11D96-8CDF-4AE2-B6B0-BBC88254F3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DF99F01-0FFE-446B-8367-BBDB4A651F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B62874C-6F22-480E-8C3A-21F0676E52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EFFEED9-5E2D-49A6-BFDE-BD357F329E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40B7438-DE14-461C-8157-44E8C24103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DDB99B9-EC08-40EB-B991-F7F2C86A56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1C7077E-B464-4104-96C8-53E648751C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88F6A6D-B0B5-4EC9-9F3F-5BF06BBC11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A016645-D014-41BC-B0B4-54EF174C26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68BAC56-6107-4F7B-A79E-74F80D75FD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92409F1-0B7D-4CB3-A2A4-2780525CE1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D2A9FBF-AB34-4F5D-B21B-A6EC2480EC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560D0DD-22B4-4040-A5AC-8BB714BBFC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3104770-62D2-436E-9137-031B35118F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262F22B-A831-4FAF-A933-987E304250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39A71BE-FE78-4344-955D-6BC41815B0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6261C96-DB68-44F4-9D18-42606671FF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B3F1350-C6BE-494A-A775-B7B08570A8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EDC6522-DF44-4C78-B8B3-FAE997A0CC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F3F663F-1A62-4FA8-B7A1-95E1A26411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3B96BAB-603F-4529-83A1-49E4EAE62A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480542A-CB35-4792-89BA-DAA171932C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8D545EC-FD1A-47FF-91E7-FE6D0E22C0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B362551-97D6-4117-A377-39762DEEB8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9CC9884-BF74-44B0-985C-D1E2679343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017B212-D6CD-47C8-A1C4-923ACDCCA3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F2B8FEC-CEDC-44D3-AD83-BCD27DE2CC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3941794-DA58-4708-BDB9-7518DE2577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14ED988-3BC5-4334-AABD-EFF86E22A7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63ECDF1-4098-4405-84B6-467C2AC725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3B5EFF7-65CD-4D4E-8A52-044FAF5608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0DAF8FD-3E4B-4E4D-B4FB-5B96C57A18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56C0A18-189F-42CB-B019-1F0A3083AB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BD531CC-1067-441B-BEE4-F6B2602B57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D789E98-786D-439E-81EB-27773BC574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3F8094B-34EE-4191-8AB5-001E51FC01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7EAE9A5-517E-4534-8007-1FBE5D1817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7A270B6-27B5-4268-A1A2-A8A5278E81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619E63B-ED58-44B8-8500-D73628EC0E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5465656-CF74-4D56-B8E5-48350917B2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1DFD789-79F8-4398-BD14-376813FBA0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96AA322-28B1-49DC-8968-387BDD5A5D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C09EC44-EE3D-451C-A44A-444E08A498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1102C63-AABC-4ECC-BF4C-17437F99C5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5A6FC87-D1F6-4634-8467-575FF7740F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D32B827-6A63-47AD-BBF0-E605F26920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93A0C0A-424C-4EFB-910B-DEB16FFE73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B654B3F-89EF-4704-90B4-DF7517F6B6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C402355-2E6A-4A24-A222-7B78764D88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309CAC4-89EA-47B8-A248-46696261C5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9F4B0D7-DB60-4F35-AA8E-4F7F4D17A8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B2BF175-F823-4168-A0F7-22A338FCED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771F-0E02-41FD-9AFB-8A5DFF3B9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A223-FB54-49B1-9AA7-D65678CE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81FE-6134-4321-98AC-21D6CC256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3680-E32B-43C3-8069-8FA68CC6D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B41D7-1D83-40BC-AB58-16F4E6A68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64B95-8A6E-4039-8C96-9383004E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CFEFBD-8082-49E5-B76B-A9CFF67C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954280-7D54-430A-AA47-ED1C69E8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7C3982-1E13-47B8-8E58-761D64C5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A87D5E-CE99-48E7-8DCA-9B4C0C6C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EBD53-9A23-4A1F-85B2-0A4B32FA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B545-B48B-41EF-888B-CFBE7CF0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0E7893-A9D1-4B71-A0D0-5C564D0D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1385B-E468-4BED-BEC9-DEE2890B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761BC3-1FEA-4AB9-B3F0-BDB0D397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784CBB-C3E4-4FD3-B5B4-F0AA5FABD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13A77-8C32-4665-8F46-5D480704D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781D-5540-4B45-8822-30C0E001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7E0A-E742-4F6D-9DF0-8EA44B08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69D0-3DCF-4700-8EE0-567AA135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6A1D-810E-43D3-A0D8-386087D7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D38C-2D14-4F11-8FB4-A0ADCB53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503E-A51A-4DF2-A0EF-4A763B2A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9CDF-FE8C-42F2-BDC6-3B093E38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BCE3-4699-4899-A058-F285B0D25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A57B-7EAC-4336-A702-61972582A1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3edff"/>
                </a:solidFill>
                <a:latin typeface="Arial"/>
              </a:rPr>
              <a:t>Carpal Tunnel Syndrome</a:t>
            </a:r>
            <a:endParaRPr b="0" lang="en-US" sz="48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cey Harris-Carriman, M.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ysical Medicine and Rehabili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on Conference, CCRM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8, 20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Risk Factor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: Smoking, alcohol, poor nutrition, obesity, high choleste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iology and Risk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uroanatomy of the Upper Li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is: Symptoms and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CS/EMG and 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http://www.ganfyd.org/images/thumb/b/b2/Arm_nerves.png/300px-Arm_nerves.png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iology and Risk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anatomy of the Upper Li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nosis: Symptoms and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CS/EMG and 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edff"/>
                </a:solidFill>
                <a:latin typeface="Arial"/>
              </a:rPr>
              <a:t>Symptoms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tern recog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de variety of symptoms in 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symptoms are more suggestive of CTS than other sympt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edff"/>
                </a:solidFill>
                <a:latin typeface="Arial"/>
              </a:rPr>
              <a:t>Symptoms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ic symptoms in C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king up with pain and numbness/paresthesias of the h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ggered by driving, holding phone, reading book, typing, wr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eving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ick 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s in hand pos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familiar with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sic neuroanatom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the upper li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factors involved i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nos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gnize the goals and limitations of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eatm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Sign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y signs suggestive of 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ired sensation of the lateral 3-1/2 dig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kness of APB and other median-innervated muscles of thenar emin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len’s, reverse Phalen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nel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: Pressure provocation test, hand elevation test, tourniquet t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https://www46.safesecureweb.com/positivehealth/permit/Articles/Massage/green58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Signs </a:t>
            </a:r>
            <a:r>
              <a:rPr b="0" lang="en-US" sz="4400" spc="-1" strike="noStrike" u="sng">
                <a:solidFill>
                  <a:srgbClr val="b3edff"/>
                </a:solidFill>
                <a:uFillTx/>
                <a:latin typeface="Arial"/>
              </a:rPr>
              <a:t>NOT</a:t>
            </a: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 consistent with CT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ired sensation over the lateral palm (thenar reg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ired sensation proximal to w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kness of hypothenar muscles or other non-median-innervated mus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ired deep tendon refle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iology and Risk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anatomy of the Upper Li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is: Symptoms and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CS/EMG and 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ifferential Diagnosis of CT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pheral 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rvical radiculopath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achial plexopath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ximal median neuropathy (e.g. in forearm or elb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 mononeuroapthy  (e.g. ulnar, radi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derlying polyneuropath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ral NS (e.g. TIA, small lacunar infarct, myelopath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culoskelet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ulder pain with distal paresthe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steoarthrit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mulative trauma dis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ifferential Diagnosi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pheral NS: Cervical radiculopat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4495680" y="1371600"/>
            <a:ext cx="4648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Dx: Cervical Radiculopathy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pecially mild cases of cervical radiculopat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6, C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ck pain, radiation to shoulder, arm, +/- dist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se with neck m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ired reflexes and streng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ory loss beyond distribution of median ner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iology and Risk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anatomy of the Upper Li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is: Symptoms and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CS/EMG and 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ifferential Diagnosi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pheral NS:  Brachial Plexopat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4343400" y="990720"/>
            <a:ext cx="48006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Dx: Brachial Plexopathy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comm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iology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mor, M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ayed radiation inj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ex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op (e.g. CAB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urogenic 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Dx: Brachial Plexopathy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common cause of brachial plexopat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chanis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/motorcycle/bike accident, newbor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per trunk C5/6-Erb’s pal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trunk C8/T1-Klumpke’s pal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etrating (knife, bull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Dx: Brachial Plexopathy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eoplasm, 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astasis to lymph nodes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st comm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, especially lymphoma, breast, lung canc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l tumor: Panco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 infilration of nerve: Lymphoma, leuke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: Primary nerve sheath tum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neoplastic (unusual): hematoma, vascular anom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Dx: Brachial Plexopathy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layed Radiatio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V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set: Progressive, years after rad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 correlated with dose of rad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or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x prominent (paresthesias, numbn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(Recurrent) Neopla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set: Slowly progres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minent pa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rner’s syndr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Dx: Brachial Plexopathy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rachial Plex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KA Neuralgic amyotrophy, Parsonage-Tur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iopath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ten preceded by: viral illness or immunization; also surg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ng thoracic nerve, anterior interosseous nerve, 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ulder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set: days to weeks after inciting ev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re pain, awakens from slee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kness and atrop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set: Generally after pain subsides (1-2 week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/- Sensory s/s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Dx: Brachial Plexopathy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eurogenic 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ases due to fibrous band between cervical rib and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oracic ri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r trunk, C8/T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cles: hand intrinsics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p then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1; +/- FPL, FD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sory: Ulnar, MAB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ifferential Diagnosi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pheral NS: Proximal Median Neuropat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3733920" y="1219320"/>
            <a:ext cx="54100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edff"/>
                </a:solidFill>
                <a:latin typeface="Arial"/>
              </a:rPr>
              <a:t>DDx: Proximal Median Neuropathy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u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ament of Stru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erior Interosseous Syndr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re motor: FPL, PQ, FDP  to #2-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kay” 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nator Syndrom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sible sites of entra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nator te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certus fibrosus (b/t biceps tendon and proximal flexor forearm musc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oneurotic ridge of FDS (sublimis bridg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ifferential Diagnosi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pheral NS: Other Mononeuropat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lnar, Rad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efinition of CT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tellation of symptoms and sig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condary to a median neuropathy at the w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449568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ifferential Diagnosi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00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pheral NS: Peripheral Polyneuropat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3581280" y="1219320"/>
            <a:ext cx="58676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ifferential Diagnosi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NS: Cervical Myelopat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3886200" y="1295280"/>
            <a:ext cx="5257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ifferential Diagnosi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culoskeletal: Shoulder Pathology with Distal Paresthes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1"/>
          <a:stretch/>
        </p:blipFill>
        <p:spPr>
          <a:xfrm>
            <a:off x="4191120" y="1371600"/>
            <a:ext cx="4952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iology and Risk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anatomy of the Upper Li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is: Symptoms and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CS/EMG and 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edff"/>
                </a:solidFill>
                <a:latin typeface="Arial"/>
              </a:rPr>
              <a:t>Nerve Conduction Studies (NCS)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NOTE: NCS sometimes called NCV “Nerve Conduction Velocity”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NC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cture here of NCS set-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4" descr="http://www.eorthopod.com/images/ContentImages/hand/hand_carpal_tunnel/hand_carpal_tunnel_diagnosis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NC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CS can be useful i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irm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TS an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sess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r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NC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ten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the clinical exa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NCS study must b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dividualiz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NC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CS is positive in 91-98% of patients with clinically diagnosed 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Source: Keles et al, Diagnostic precision of ultrasonography in patients with CTS, Am J Phys Med Rehabil 2005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sk of false negatives on NC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enerally implies very mild 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iagnostic Ultrasound 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-time imaging of median nerve in carpal tunn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litative and quantitati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ments can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ss-sectional area (CSA) of median ner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wing of flexor retinacul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ttening of median nerve in carpal tun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iology and Risk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anatomy of the Upper Li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is: Symptoms and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CS/EMG and 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iagnostic Ultrasound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ively new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ds in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ds in treatment, ultrasound-guided injection of steroid into carpal tunn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iology and Risk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anatomy of the Upper Li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is: Symptoms and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CS/EMG and 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Treatment of CT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6" descr="http://z.about.com/d/orthopedics/1/0/4/5/wristsplint.jpg"/>
          <p:cNvPicPr/>
          <p:nvPr/>
        </p:nvPicPr>
        <p:blipFill>
          <a:blip r:embed="rId1"/>
          <a:stretch/>
        </p:blipFill>
        <p:spPr>
          <a:xfrm>
            <a:off x="-228600" y="0"/>
            <a:ext cx="960120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-781200" y="-114480"/>
            <a:ext cx="1070640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-228600" y="-228600"/>
            <a:ext cx="96775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Summary and Conclusion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TS: Summary and Conclusion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iagnosis of CTS is made o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nic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o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ttern recog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stemati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history, physical, differential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Etiology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CTS case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diopath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Summary and Conclusion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CS/EMG can be useful i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irm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TS an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sess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r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ltrasound can be a helpful adjunct in assessing and treating 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ed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carriman@gmail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Etiology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5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 percentage of CTS due to an identifiable cause, such 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M, RA, thyroid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ditions that increase total body fluid (e.g. pregnancy, hemodialys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1200" y="1600200"/>
            <a:ext cx="4035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l wrist lesion (e.g. cyst, fracture, infection, tumo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genital (e.g. small carpal tunne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Risk Factor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der: F 3x&gt;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der &gt; younger; very rare in child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ak prevalence in women &gt;5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Risk Factor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ily hi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rtain medical cond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ers that use hands and wrists repetitively,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pecially with high fo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ic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4419720" y="1676520"/>
            <a:ext cx="4724280" cy="5181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00:53:09Z</dcterms:created>
  <dc:creator>Stacey</dc:creator>
  <dc:description/>
  <dc:language>en-US</dc:language>
  <cp:lastModifiedBy>lthomas</cp:lastModifiedBy>
  <dcterms:modified xsi:type="dcterms:W3CDTF">2009-05-08T15:14:56Z</dcterms:modified>
  <cp:revision>65</cp:revision>
  <dc:subject/>
  <dc:title>Carpal Tunnel Syndrome</dc:title>
</cp:coreProperties>
</file>