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021815-F432-42CA-B20B-C7CFA2B86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277AA0-EB13-4501-9612-73E475D64C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C24CDD2-588B-4C98-AB60-BDB466B22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79FBE74-3694-4A01-B5B3-8EE2725A07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6DE0E3-C245-48CA-B678-7AF85A5A4F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8B1BB7-91BE-4172-97F0-865DAAE479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27B6FE-0B56-4E06-BEC2-ACA0039A82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BC9E30-87F2-4821-A73E-038D42C512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CFE6CC-0FC8-47CE-9FA7-FD0DFB3BD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BEADE9-98B0-4359-8734-C3E53E1390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6885AC-3473-47FD-A2B6-BA7A7E3B6E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7828A75-515F-4C2B-94D1-264DA4942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FBD051-F781-4332-869B-0FB01056E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584B7A-C7D8-4D52-A1C8-474BBEB13B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92C68D-5CA4-4945-8C96-F44805EEEF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C20B7F-4C9E-467B-86E6-396DCFEF7B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9B8A394-0DBE-47C1-BA0B-CF3E0533FE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738883-4021-4D1D-9249-9C28970B41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EA4D72-99E4-434B-B4B2-511952A00C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A463219-4A4F-446D-9A2F-A4F9D1353C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CCB845-9FF8-4943-9061-ACE8279CD5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36FD16-16A4-40AA-AF51-189CFED164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A9E542-7FF6-4524-A290-B3C888D0F5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7F1B0C-FFCD-4F45-8777-49B3D2CEF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EE96B3-B0AC-4E2E-AC5A-C50B6C249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16DB91-32C5-451E-ADC7-4746B9847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BC7156C-879E-4D9B-A08D-3E0355A50A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D34677-E4C3-4B55-AF98-25BB62E415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B82E77-6DFF-43A3-940E-0D5E1E052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A249AB1-5AFA-4B7E-B97E-27D3C4B786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98017E3-F092-480C-8BFB-0C885A53F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BEF59A-EBBF-4314-8369-05C6D2140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073F8B-4618-4029-A57D-E2EC92DA84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DFFF24-1200-4B17-91C0-EC5C9F63E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AC6385-43B2-46DF-A2D8-0DCA3E2CC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C19F48-33A4-456C-87FE-A9CEFC83F4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272FED-137D-4B95-B408-3DF1965916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028FB3-C0E9-46BA-ADD1-99BAB9603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6D1EE7-4CE3-441C-8DD2-C74009787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565184-127B-433E-9E4A-06F51460B8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BCAEA46-7F39-493C-9D5A-81DDA0B9CA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048747-62FE-482B-A66B-4A0915A8EA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E46F03D-5FCC-44E7-84C0-D7A289525C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8B4F6B-CE36-4ACD-B3A8-92A7651DE0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60588B-806A-422C-BCD9-A7C4CE703C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A371B0-C8CE-4C78-8EAE-0DD1341A7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3BF694-2AB8-40A6-B8B6-66DB1889FF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22E1AEE-CC4A-42D9-A5FC-0F78A3E8B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4B4E93-90A1-4F16-B958-052E455B07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13B075-0E83-4DBD-890A-110DC5CE1F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9692D1-6C88-4E1C-8004-731E256E8E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0034A9D-D705-4F79-B180-54640187D1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C6CC65-C1E5-43D9-B850-A0B3752FE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91F6C9-006D-4063-8006-1E6FB21AC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758B16-B793-4EA9-92E9-DF8445C66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70CCF3-5502-47D1-9536-F344EAF27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742688-8C96-4934-BB3A-EB7A01C43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95178EA-BF47-481C-A314-553459FF96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A56AD8-A695-466E-9972-13E1607FDF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515008-769C-403B-B9AB-47B4F8E443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4EF2B04-DCF7-4597-BFBC-E5ADF39CEA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0D2882C-2C79-4B89-B995-655980EDE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2FFD1E-B91E-42B1-B61C-8CAA96B8C0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016864A-BEAA-4679-940C-85AF942C58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C06-07EB-41D8-A67D-587B111F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9F3-FB57-4C2A-A6E8-0A13403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81F-E7D2-48E4-AD62-5DF0EEBF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45F-CC43-4CB2-8789-A1F64465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E4964-DC95-4441-8A59-069ED4EB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54003-A5DF-4649-9B40-E4BE251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C81F9-1F1B-4871-AFCD-EEDC0D0A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9A316-EBE4-4FE6-B71C-210EBD98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9AD79-E4E3-4208-BD4C-82EA651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7932-F2A3-45AB-83FE-780DF424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C4891-37EB-4535-A5E0-72775BAA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CBB-CA96-48CD-8D68-27EEFE3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0E574-8D0D-463A-88D9-A9A449CB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69AE7-5122-4CF4-9B7C-6D70371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A5BCB-0A18-4147-ADCE-2B46F82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3A8FF-EB58-467E-A53A-0153BB01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DC5B0-B797-4ACF-BD15-BB4FF16B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0C4-374E-4CA7-9639-653B3338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4CE-A39A-4C86-A561-8AD92D19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EA6-340D-4879-8BF4-C2CDAFE3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185-D114-47B9-BD64-334D61DD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A05-C840-4A24-9892-640CC9A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830-9F54-4581-AC31-E0276240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FF1-661D-4024-A01C-CA8DFAE4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154-0E65-4478-9176-551287F2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8308-36E6-4FF8-AF41-ADE87319EC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edff"/>
                </a:solidFill>
                <a:latin typeface="Arial"/>
              </a:rPr>
              <a:t>Carpal Tunnel Syndrome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cey Harris-Carriman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on Conference, CCR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8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: Smoking, alcohol, poor nutrition, obesity, high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www.ganfyd.org/images/thumb/b/b2/Arm_nerves.png/300px-Arm_nerve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variety of symptoms in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ymptoms are more suggestive of CTS than other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symptoms in 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ing up with pain and numbness/paresthesias of the h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ed by driving, holding phone, reading book, typing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ck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hand pos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amiliar with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neuroanato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factors involved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goals and limitations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signs suggestive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f the lateral 3-1/2 dig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APB and other median-innervated muscles of thenar emin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en’s, reverse Phal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: Pressure provocation test, hand elevation test, tourniquet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s://www46.safesecureweb.com/positivehealth/permit/Articles/Massage/green5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 </a:t>
            </a:r>
            <a:r>
              <a:rPr b="0" lang="en-US" sz="4400" spc="-1" strike="noStrike" u="sng">
                <a:solidFill>
                  <a:srgbClr val="b3edff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 consistent with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ver the lateral palm (thenar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proximal to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hypothenar muscles or other non-median-innervat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deep tendon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vical radicul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chial plex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imal median neuropathy (e.g. in forearm or elb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ononeuroapthy  (e.g. ulnar, rad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lying polyneur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NS (e.g. TIA, small lacunar infarct, myelopath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oskele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er pain with distal paresthe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teoart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trauma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Cervical Radicul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mild cases of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6, C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pain, radiation to shoulder, arm, +/- dist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e with neck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reflexes a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loss beyond distribution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 Brachial Plex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olog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,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ed radiation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op (e.g. CAB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genic 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cause of brachial plex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/motorcycle/bike accident, new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trunk C5/6-Erb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trunk C8/T1-Klumpke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trating (knife, bull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oplasm,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stasis to lymph nodes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comm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especially lymphoma, breast, 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tumor: Pan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infilration of nerve: Lymphoma, leuk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: Primary nerve sheath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eoplastic (unusual): hematoma, vascular anom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ayed Radi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Progressive, years after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correlated with dose of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x prominent (paresthesias, numb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Recurrent) Ne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Slowly pro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nent p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ner’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achial 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 Neuralgic amyotrophy, Parsonage-Tur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eceded by: viral illness or immunization; also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horacic nerve, anterior interosseous nerve,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e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days to weeks after inciting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pain, awakens fro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and atro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Generally after pain subsides (1-2 wee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/- Sensory s/s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urogenic 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due to fibrous band between cervical rib a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oracic r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trunk, C8/T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s: hand intrinsic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 then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1; +/- FPL, F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: Ulnar, M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roximal Median 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410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DDx: Proximal Median Neuropath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ment of Stru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Interosseou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motor: FPL, PQ, FDP  to #2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ay”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or Syndro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sites of entra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nator t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ertus fibrosus (b/t biceps tendon and proximal flexor forearm musc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neurotic ridge of FDS (sublimis 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S: Other Mono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, Ra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efinition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ellation of symptoms and sig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condary to a median neuropathy at the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eripheral Poly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867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: Cervical Mye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uloskeletal: Shoulder Pathology with Distal Paresthes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/EMG and 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Nerve Conduction Studies (NCS)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NOTE: NCS sometimes called NCV “Nerve Conduction Velocity”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 here of NCS se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http://www.eorthopod.com/images/ContentImages/hand/hand_carpal_tunnel/hand_carpal_tunnel_diagnos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clin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CS study must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vidu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is positive in 91-98% of patients with clinically diagnose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Source: Keles et al, Diagnostic precision of ultrasonography in patients with CTS, Am J Phys Med Rehabil 2005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of false negatives on NC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nerally implies very mil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imaging of median nerve in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 and quantit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ca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area (CSA)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wing of flexor retina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tening of median nerve in carpal tu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new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treatment, ultrasound-guided injection of steroid into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reatment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http://z.about.com/d/orthopedics/1/0/4/5/wristsplint.jpg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-781200" y="-114480"/>
            <a:ext cx="1070640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TS: 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CTS is made 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a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istory, physical, 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 cas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can be a helpful adjunct in assessing and treating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carriman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percentage of CTS due to an identifiable cause,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, RA, thyroid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s that increase total body fluid (e.g. pregnancy, hemodialy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wrist lesion (e.g. cyst, fracture, infection, tum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(e.g. small carpal tu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: F 3x&gt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&gt; younger; very rare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revalence in women &gt;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that use hands and wrists repetitively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with high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0:53:09Z</dcterms:created>
  <dc:creator>Stacey</dc:creator>
  <dc:description/>
  <dc:language>en-US</dc:language>
  <cp:lastModifiedBy>lthomas</cp:lastModifiedBy>
  <dcterms:modified xsi:type="dcterms:W3CDTF">2009-05-08T15:14:56Z</dcterms:modified>
  <cp:revision>65</cp:revision>
  <dc:subject/>
  <dc:title>Carpal Tunnel Syndrome</dc:title>
</cp:coreProperties>
</file>