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80D2-479E-46B5-95BE-C1983FCFA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C93D-234F-4DEF-811C-58C7AC273BE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allowed to leave the hospital as he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patient's physician assesses the patient and determines that he does not have decision-making capacity.  He is not capable of making an autonomous, informed decision about his own care.  The physician and hospital have a responsibility to provide medical care for this incapacitated, vulnerabl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placed on a 5150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5150 and other LPS holds are appropriate only for primary psychiatric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the emergency chest tube be placed without the patient's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Yes.  Under the circumstances of medical emergency and absent immediately available proxy, medical care necessary to alleviate severe pain or to avoid serious disability or death can and should be provided to incapacitated patients.  Time permitting, at CCRMC we use the "Certification of Emergency in Lieu of Consent" (MR-527 - also known as the "Two-Physician Emergency Form") for this circum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A28B-16E3-4CAD-A9CA-61710BAA0A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 ‘failure’ of 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popn – not surprised if die w/in 1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lements:  target popn / MD orders / portable / legal cov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E6C2-AF3B-4BF6-AAE5-112D3103B1C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no agency/DM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92E5-66B6-4431-986E-19F3A74671C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developmentally 14 yo; as early as 9; “mature minors”, “ass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080E-688E-4620-8218-EA7DBA6FBBA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084B-6F80-44FB-A5C2-840419233E4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CD1C-66C4-46A3-99F8-88132497F27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EN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ntinuity</a:t>
            </a:r>
            <a:r>
              <a:rPr b="0" lang="en-US" sz="1200" spc="-1" strike="noStrike">
                <a:solidFill>
                  <a:srgbClr val="000000"/>
                </a:solidFill>
                <a:latin typeface="Arial"/>
              </a:rPr>
              <a:t> of decisions.  ??? </a:t>
            </a:r>
            <a:r>
              <a:rPr b="1" lang="en-US" sz="1200" spc="-1" strike="noStrike">
                <a:solidFill>
                  <a:srgbClr val="000000"/>
                </a:solidFill>
                <a:latin typeface="Arial"/>
              </a:rPr>
              <a:t>“authenticity”</a:t>
            </a:r>
            <a:r>
              <a:rPr b="0" lang="en-US" sz="1200" spc="-1" strike="noStrike">
                <a:solidFill>
                  <a:srgbClr val="000000"/>
                </a:solidFill>
                <a:latin typeface="Arial"/>
              </a:rPr>
              <a:t> - ? Represents a consistent statement of the patients values or continuation of patient’s narrativ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0487-F475-4AA5-BF91-DC3CAD6AC2B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ST (“Informed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xy judgment of moral int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uthority of loving, trusted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and community trusted to de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has strong subjective appreciation of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my good recedes – it becomes their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tient’s prefer (70-80%) fam (c MD) to decide, even if never discussed or if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M moral authority based upon continuing the 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William T”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gitimates moral relevance of others’ interests (fam; care givers;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Challenge to Hippocratic ethic “for this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ternalism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ights model  (ID proxy </a:t>
            </a: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earch for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on’t focus on decision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ell me about your father.” &gt; values and narrative &gt; MD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D remains patient advocate – must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hared decision-making” – MD shares responsibility and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utual obligation / shared quest / consensus – NOT rights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cence &gt; Right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perative search for p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focus on decision mode.  Meet early – ideally, before maj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ell me about your father.”  =&gt;  values / narrative &gt; MD rec based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D remains pt advocate (moral agent) –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ecision-making” – MD shares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tual obligation/shared quest/consensus – not Rights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2394-CDDC-45A7-A1DF-292E07B8567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time – “Deciding for Ourselves” – history of emergence of our respect for autonomous dm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a:t>
            </a:r>
            <a:r>
              <a:rPr b="0" lang="en-US" sz="1200" spc="-1" strike="noStrike">
                <a:solidFill>
                  <a:srgbClr val="000000"/>
                </a:solidFill>
                <a:latin typeface="Wingdings"/>
                <a:ea typeface="Wingdings"/>
              </a:rPr>
              <a:t></a:t>
            </a:r>
            <a:r>
              <a:rPr b="0" lang="en-US" sz="1200" spc="-1" strike="noStrike">
                <a:solidFill>
                  <a:srgbClr val="000000"/>
                </a:solidFill>
                <a:latin typeface="Arial"/>
              </a:rPr>
              <a:t>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 “Deciding for Others” – when can’t be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l this “paternalism” (negative connotatio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common in much of wor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Interference with, limitation of, or usurpation of individual autonomy justified by reasons referring exclusively to the welfare or needs of the person whose autonomy is being compromised.”</a:t>
            </a:r>
            <a:r>
              <a:rPr b="0" i="1" lang="en-US" sz="1000" spc="-1" strike="noStrike">
                <a:solidFill>
                  <a:srgbClr val="000000"/>
                </a:solidFill>
                <a:latin typeface="Arial"/>
              </a:rPr>
              <a:t>(Mappes and DeGrazia)</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ak” = patient has limited decision-making capacity.  Usually ethically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rong” = patient’s decision-making capacity is intact.  Ethically dispu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C8D1-B68C-47F5-BC68-C1FC37172C4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2CEA-7ACC-4B81-A4F0-B821E72BF87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 “self” + “rule” =&gt;&gt;  Requires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includes given </a:t>
            </a:r>
            <a:r>
              <a:rPr b="1" lang="en-US" sz="1200" spc="-1" strike="noStrike">
                <a:solidFill>
                  <a:srgbClr val="000000"/>
                </a:solidFill>
                <a:latin typeface="Arial"/>
              </a:rPr>
              <a:t>inform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illness-states diminish the autonomy of the patient &gt;&gt; call for beneficent pate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7516-A82D-47EE-86BA-CD91F827771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rovers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1B25-CFB9-4A1C-A1F0-5F4ACC11C14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gorithm for process of SDM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4E03-04BA-4C42-86A6-117A8500A9C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M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MC vws Compet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 understand; evaluate; deliberate; communicate (+ no relevant de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content/outcome, but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tuation depend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liding scale” (?chea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me dependent – fluctuates &gt; reass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inlan – 1976 – role of family as surro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family? – want it / know pt (SJ) / unique concern/ bear burdens / priva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Mking” – Pres’ Com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J</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4944-ADE5-4B8C-8B90-7002F3C539F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F66E-66B6-4571-BBB1-74331B024D3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27513-9E97-4609-A136-7CB6AE00C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09400-0E7E-445F-B51C-CB257C47C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2B862-1FDA-44A6-AA8D-1DE9C15CB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1A16C-4ACA-4E79-801A-12EA22778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60287-FD39-43EC-AB96-3272165EE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3E3D8-A188-464C-8DB8-B38B5A754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E7B6D-F319-4490-BBA1-0867A3245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BF51E-FC7F-4E95-A342-3A8F43D77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DD349-AEC5-4525-BD61-087527B78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1987C-50C7-44D5-803E-90096685E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7BAEF-0775-4801-BFDA-39E8D63CB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5CC56-0E8B-4DB6-AE67-FB19269F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1AFE3-B729-4A08-BAFE-BA9D554A5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822B6-CFD5-408D-A871-D9A5F7B49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41CFF-9FE3-4BAB-A2E4-031CF89FC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70D1F-24E1-4472-8C5A-60DBAF674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A108C-8875-49E9-AE3A-D85AFDE37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6F5FF-2F48-454F-8C8B-1265DB5A9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40A1A-99AB-4E6D-8D1A-2274523DB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FC012-05B5-4D78-AD36-5A3BB66D8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70312-3F86-4046-A251-108C19ED4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8454-EEAA-4353-9D01-760A00FF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D0592-E89E-43C5-AEF5-3E39F72D3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F6BD-0B1F-4A5D-A745-F10B831B9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F236-8B06-495B-B6EC-945F5EC88692}"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3E87-03BA-4FD3-BD07-A7D454C99116}"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NICAL DECISION-MAKING:  </a:t>
            </a:r>
            <a:r>
              <a:rPr b="1" i="1" lang="en-US" sz="3600" spc="-1" strike="noStrike">
                <a:solidFill>
                  <a:srgbClr val="003366"/>
                </a:solidFill>
                <a:latin typeface="Arial"/>
              </a:rPr>
              <a:t>Deciding for Other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4470480" cy="1822320"/>
          </a:xfrm>
          <a:prstGeom prst="rect">
            <a:avLst/>
          </a:prstGeom>
          <a:noFill/>
          <a:ln w="0">
            <a:noFill/>
          </a:ln>
        </p:spPr>
        <p:txBody>
          <a:bodyPr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Jon Stanger, MD, MDiv, MH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Medical Ethics &amp; Humanities Serie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tra Costa Regional Medical Center</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2" name="PlaceHolder 2"/>
          <p:cNvSpPr>
            <a:spLocks noGrp="1"/>
          </p:cNvSpPr>
          <p:nvPr>
            <p:ph/>
          </p:nvPr>
        </p:nvSpPr>
        <p:spPr>
          <a:xfrm>
            <a:off x="1142640" y="2514600"/>
            <a:ext cx="75438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patient is admitted following trauma, including head injury with resulting altered mental status.  He is confused, disoriented and unable to understand his situation.  He resists all medical interventions, thrashes, and says, "Let me go.  I want to leave."  He has a chest injury requiring emergent chest tube placement.  There is no family or other appropriate surrogate immediately available.</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Should the patient be allowed to leave the hospital or should he be placed on a 5150 hold?</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Will you place the chest tube without the patient's cons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4" name="PlaceHolder 2"/>
          <p:cNvSpPr>
            <a:spLocks noGrp="1"/>
          </p:cNvSpPr>
          <p:nvPr>
            <p:ph/>
          </p:nvPr>
        </p:nvSpPr>
        <p:spPr>
          <a:xfrm>
            <a:off x="1142640" y="2437920"/>
            <a:ext cx="7543800" cy="3962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ea typeface="Times New Roman"/>
              </a:rPr>
              <a:t>A patient is brought to the ED from an extended care facility with fever, cough, and somnolence.  The patient </a:t>
            </a:r>
            <a:r>
              <a:rPr b="0" lang="en-US" sz="2400" spc="-1" strike="noStrike">
                <a:solidFill>
                  <a:srgbClr val="003366"/>
                </a:solidFill>
                <a:latin typeface="Arial"/>
              </a:rPr>
              <a:t>does not respond to questions and is in respiratory distress.  No family or proxy is immediately available.  The EMTs show you a bright pink POLST she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What is this form?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does it differ from an advance direct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4" descr=""/>
          <p:cNvPicPr/>
          <p:nvPr/>
        </p:nvPicPr>
        <p:blipFill>
          <a:blip r:embed="rId1">
            <a:alphaModFix amt="73000"/>
          </a:blip>
          <a:stretch/>
        </p:blipFill>
        <p:spPr>
          <a:xfrm>
            <a:off x="1905120" y="196920"/>
            <a:ext cx="5167080" cy="668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4 year-old boy adamantly refuses stitching of a scalp laceration despite all efforts to convince hi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9" name="PlaceHolder 2"/>
          <p:cNvSpPr>
            <a:spLocks noGrp="1"/>
          </p:cNvSpPr>
          <p:nvPr>
            <p:ph/>
          </p:nvPr>
        </p:nvSpPr>
        <p:spPr>
          <a:xfrm>
            <a:off x="1142640" y="2514240"/>
            <a:ext cx="75438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12 year-old girl with advanced cancer refuses a fourth round of chemotherapy.  The treatment offers no realistic hope of cure but could potentially extend the patient’s life by several months.  The parents want the treat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Forcing of Treatment</a:t>
            </a:r>
            <a:endParaRPr b="1" lang="en-US" sz="3600" spc="-1" strike="noStrike">
              <a:solidFill>
                <a:srgbClr val="006666"/>
              </a:solidFill>
              <a:latin typeface="Arial"/>
            </a:endParaRPr>
          </a:p>
        </p:txBody>
      </p:sp>
      <p:sp>
        <p:nvSpPr>
          <p:cNvPr id="131" name="PlaceHolder 2"/>
          <p:cNvSpPr>
            <a:spLocks noGrp="1"/>
          </p:cNvSpPr>
          <p:nvPr>
            <p:ph/>
          </p:nvPr>
        </p:nvSpPr>
        <p:spPr>
          <a:xfrm>
            <a:off x="1143000" y="2666520"/>
            <a:ext cx="7696080" cy="3581640"/>
          </a:xfrm>
          <a:prstGeom prst="rect">
            <a:avLst/>
          </a:prstGeom>
          <a:noFill/>
          <a:ln w="0">
            <a:noFill/>
          </a:ln>
        </p:spPr>
        <p:txBody>
          <a:bodyPr anchor="t">
            <a:normAutofit/>
          </a:bodyPr>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Patient lacks decisional capacity.</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ork closely with surrogat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alternativ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patient resistance in benefit/burden calculu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Explain to patient why actions are taken.</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Strive for patient’s assent.</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Minimize restraints and interventions to extent consistent with quality of care.</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ES</a:t>
            </a:r>
            <a:endParaRPr b="1" lang="en-US" sz="3600" spc="-1" strike="noStrike">
              <a:solidFill>
                <a:srgbClr val="006666"/>
              </a:solidFill>
              <a:latin typeface="Arial"/>
            </a:endParaRPr>
          </a:p>
        </p:txBody>
      </p:sp>
      <p:sp>
        <p:nvSpPr>
          <p:cNvPr id="133" name="PlaceHolder 2"/>
          <p:cNvSpPr>
            <a:spLocks noGrp="1"/>
          </p:cNvSpPr>
          <p:nvPr>
            <p:ph/>
          </p:nvPr>
        </p:nvSpPr>
        <p:spPr>
          <a:xfrm>
            <a:off x="914400" y="2971800"/>
            <a:ext cx="82296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Authenticity and durability of advance directiv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cian recommend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ologic markers of decisional capacit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35" name="PlaceHolder 2"/>
          <p:cNvSpPr>
            <a:spLocks noGrp="1"/>
          </p:cNvSpPr>
          <p:nvPr>
            <p:ph/>
          </p:nvPr>
        </p:nvSpPr>
        <p:spPr>
          <a:xfrm>
            <a:off x="914040" y="2057400"/>
            <a:ext cx="80010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200" spc="-1" strike="noStrike">
                <a:solidFill>
                  <a:srgbClr val="003366"/>
                </a:solidFill>
                <a:latin typeface="Arial"/>
              </a:rPr>
              <a:t>Mr. W has severe COPD.  He has required intubation a number a times – the last few involving long, difficult ICU courses with extended periods of weaning.  After discussions with his primary doctor, he has completed an Advance Directive dictating against any future intubations.  He arrives in the ED severely short of breath.  You look him in the eyes and say, “I see you have an advance directive.  No tube this time, right?”  Mr. W gasps, “Please help me.”  You respond, “Do you want the tube again?”  Struggling to breath, the patient says, “Yes, help me.  Help me.”</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66"/>
                </a:solidFill>
                <a:latin typeface="Arial"/>
              </a:rPr>
              <a:t>What do you do?</a:t>
            </a:r>
            <a:endParaRPr b="0" lang="en-US" sz="2200" spc="-1" strike="noStrike">
              <a:solidFill>
                <a:srgbClr val="003366"/>
              </a:solidFill>
              <a:latin typeface="Arial"/>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PARADIGMS</a:t>
            </a:r>
            <a:endParaRPr b="1" lang="en-US" sz="3600" spc="-1" strike="noStrike">
              <a:solidFill>
                <a:srgbClr val="006666"/>
              </a:solidFill>
              <a:latin typeface="Arial"/>
            </a:endParaRPr>
          </a:p>
        </p:txBody>
      </p:sp>
      <p:sp>
        <p:nvSpPr>
          <p:cNvPr id="13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Narrativ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Justic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eficence Mod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38" name="Text Box 2"/>
          <p:cNvSpPr/>
          <p:nvPr/>
        </p:nvSpPr>
        <p:spPr>
          <a:xfrm>
            <a:off x="2666880" y="1828800"/>
            <a:ext cx="40388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Whose death is it anyway?”</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03" name="Picture 2" descr="C:\My Documents\Jon's\Jon downloads\amputation-18th century-StThomas'sHosp"/>
          <p:cNvPicPr/>
          <p:nvPr/>
        </p:nvPicPr>
        <p:blipFill>
          <a:blip r:embed="rId1"/>
          <a:stretch/>
        </p:blipFill>
        <p:spPr>
          <a:xfrm>
            <a:off x="228600" y="693720"/>
            <a:ext cx="8683560" cy="54673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40"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CONDITIONS OF AUTONOMOUS DECISION-MAKING</a:t>
            </a:r>
            <a:endParaRPr b="1" lang="en-US" sz="3600" spc="-1" strike="noStrike">
              <a:solidFill>
                <a:srgbClr val="006666"/>
              </a:solidFill>
              <a:latin typeface="Arial"/>
            </a:endParaRPr>
          </a:p>
        </p:txBody>
      </p:sp>
      <p:sp>
        <p:nvSpPr>
          <p:cNvPr id="105" name="PlaceHolder 2"/>
          <p:cNvSpPr>
            <a:spLocks noGrp="1"/>
          </p:cNvSpPr>
          <p:nvPr>
            <p:ph/>
          </p:nvPr>
        </p:nvSpPr>
        <p:spPr>
          <a:xfrm>
            <a:off x="2209680" y="2361960"/>
            <a:ext cx="601992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Agenc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sion-making capacity to act as free moral agent.</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Libert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from coercion, manipulation.</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uasion does not limit liberty.</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br>
              <a:rPr sz="3600"/>
            </a:br>
            <a:r>
              <a:rPr b="1" lang="en-US" sz="2400" spc="-1" strike="noStrike">
                <a:solidFill>
                  <a:srgbClr val="006666"/>
                </a:solidFill>
                <a:latin typeface="Arial"/>
              </a:rPr>
              <a:t>Through interactive discussion and case studies participants will be able to …</a:t>
            </a:r>
            <a:endParaRPr b="1" lang="en-US" sz="2400" spc="-1" strike="noStrike">
              <a:solidFill>
                <a:srgbClr val="006666"/>
              </a:solidFill>
              <a:latin typeface="Arial"/>
            </a:endParaRPr>
          </a:p>
        </p:txBody>
      </p:sp>
      <p:sp>
        <p:nvSpPr>
          <p:cNvPr id="107" name="PlaceHolder 2"/>
          <p:cNvSpPr>
            <a:spLocks noGrp="1"/>
          </p:cNvSpPr>
          <p:nvPr>
            <p:ph/>
          </p:nvPr>
        </p:nvSpPr>
        <p:spPr>
          <a:xfrm>
            <a:off x="1523880" y="2209680"/>
            <a:ext cx="685800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linical assessment of decision-making capacit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 the process of surrogate decision-making, including “who” should decide and “on what basis” decisions should be mad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different types of advance directives and appreciate the strengths and weaknesses of each.</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gnize the role for POLST forms.</a:t>
            </a:r>
            <a:endParaRPr b="0" lang="en-US" sz="20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09" name="PlaceHolder 2"/>
          <p:cNvSpPr>
            <a:spLocks noGrp="1"/>
          </p:cNvSpPr>
          <p:nvPr>
            <p:ph/>
          </p:nvPr>
        </p:nvSpPr>
        <p:spPr>
          <a:xfrm>
            <a:off x="1142640" y="2057040"/>
            <a:ext cx="75438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A 72 year-old man with multiple medical problems – including mild dementia, hypertension, CHF, and insulin-dependent diabetes with blindness and bilateral BKAs – is brought in from home with new hemiparesis, cough and fev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should we make a decision as to whether intubation should be undertaken in the event that his respiratory status deteriorates?</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LGORITHM FOR PROCESS OF</a:t>
            </a:r>
            <a:br>
              <a:rPr sz="2800"/>
            </a:br>
            <a:r>
              <a:rPr b="1" lang="en-US" sz="2800" spc="-1" strike="noStrike">
                <a:solidFill>
                  <a:srgbClr val="006666"/>
                </a:solidFill>
                <a:latin typeface="Arial"/>
              </a:rPr>
              <a:t>SURROGATE DECISION-MAKING</a:t>
            </a:r>
            <a:endParaRPr b="1" lang="en-US" sz="2800" spc="-1" strike="noStrike">
              <a:solidFill>
                <a:srgbClr val="006666"/>
              </a:solidFill>
              <a:latin typeface="Arial"/>
            </a:endParaRPr>
          </a:p>
        </p:txBody>
      </p:sp>
      <p:sp>
        <p:nvSpPr>
          <p:cNvPr id="111" name="PlaceHolder 2"/>
          <p:cNvSpPr>
            <a:spLocks noGrp="1"/>
          </p:cNvSpPr>
          <p:nvPr>
            <p:ph/>
          </p:nvPr>
        </p:nvSpPr>
        <p:spPr>
          <a:xfrm>
            <a:off x="2743200" y="2590560"/>
            <a:ext cx="3657600" cy="1066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MC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Arial"/>
            </a:endParaRPr>
          </a:p>
        </p:txBody>
      </p:sp>
      <p:sp>
        <p:nvSpPr>
          <p:cNvPr id="112" name="Rectangle 2051"/>
          <p:cNvSpPr/>
          <p:nvPr/>
        </p:nvSpPr>
        <p:spPr>
          <a:xfrm>
            <a:off x="1143000" y="3581280"/>
            <a:ext cx="2971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WHO ?</a:t>
            </a:r>
            <a:endParaRPr b="0" lang="en-US" sz="2000" spc="-1" strike="noStrike">
              <a:solidFill>
                <a:srgbClr val="003366"/>
              </a:solidFill>
              <a:latin typeface="Times New Roman"/>
            </a:endParaRPr>
          </a:p>
        </p:txBody>
      </p:sp>
      <p:sp>
        <p:nvSpPr>
          <p:cNvPr id="113" name="Rectangle 2051"/>
          <p:cNvSpPr/>
          <p:nvPr/>
        </p:nvSpPr>
        <p:spPr>
          <a:xfrm>
            <a:off x="4952880" y="3581280"/>
            <a:ext cx="32767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OW ?</a:t>
            </a:r>
            <a:endParaRPr b="0" lang="en-US" sz="2000" spc="-1" strike="noStrike">
              <a:solidFill>
                <a:srgbClr val="003366"/>
              </a:solidFill>
              <a:latin typeface="Times New Roman"/>
            </a:endParaRPr>
          </a:p>
        </p:txBody>
      </p:sp>
      <p:sp>
        <p:nvSpPr>
          <p:cNvPr id="114" name="TextBox 6"/>
          <p:cNvSpPr/>
          <p:nvPr/>
        </p:nvSpPr>
        <p:spPr>
          <a:xfrm>
            <a:off x="1676520" y="464832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Court appointe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Advance directive (P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Relation/Moral intimacy</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t>
            </a:r>
            <a:r>
              <a:rPr b="0" lang="en-US" sz="1800" spc="-1" strike="noStrike">
                <a:solidFill>
                  <a:srgbClr val="003366"/>
                </a:solidFill>
                <a:latin typeface="Times New Roman"/>
              </a:rPr>
              <a:t>Shared decision-making”</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15" name="TextBox 7"/>
          <p:cNvSpPr/>
          <p:nvPr/>
        </p:nvSpPr>
        <p:spPr>
          <a:xfrm>
            <a:off x="5181480" y="464832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Advance directive (I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Substituted judgm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Best interes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 dur="2000"/>
                                        <p:tgtEl>
                                          <p:spTgt spid="1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 dur="2000"/>
                                        <p:tgtEl>
                                          <p:spTgt spid="11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2"/>
                                        </p:tgtEl>
                                        <p:attrNameLst>
                                          <p:attrName>style.visibility</p:attrName>
                                        </p:attrNameLst>
                                      </p:cBhvr>
                                      <p:to>
                                        <p:strVal val="visible"/>
                                      </p:to>
                                    </p:set>
                                    <p:animEffect filter="fade" transition="in">
                                      <p:cBhvr additive="repl">
                                        <p:cTn id="17" dur="2000"/>
                                        <p:tgtEl>
                                          <p:spTgt spid="1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gtEl>
                                        <p:attrNameLst>
                                          <p:attrName>style.visibility</p:attrName>
                                        </p:attrNameLst>
                                      </p:cBhvr>
                                      <p:to>
                                        <p:strVal val="visible"/>
                                      </p:to>
                                    </p:set>
                                    <p:animEffect filter="fade" transition="in">
                                      <p:cBhvr additive="repl">
                                        <p:cTn id="22" dur="20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gtEl>
                                        <p:attrNameLst>
                                          <p:attrName>style.visibility</p:attrName>
                                        </p:attrNameLst>
                                      </p:cBhvr>
                                      <p:to>
                                        <p:strVal val="visible"/>
                                      </p:to>
                                    </p:set>
                                    <p:animEffect filter="fade" transition="in">
                                      <p:cBhvr additive="repl">
                                        <p:cTn id="27" dur="2000"/>
                                        <p:tgtEl>
                                          <p:spTgt spid="11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16" name="Text Box 2"/>
          <p:cNvSpPr/>
          <p:nvPr/>
        </p:nvSpPr>
        <p:spPr>
          <a:xfrm>
            <a:off x="2209680" y="1828800"/>
            <a:ext cx="49532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Sinefeld – The Comeback?”</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18" name="PlaceHolder 2"/>
          <p:cNvSpPr>
            <a:spLocks noGrp="1"/>
          </p:cNvSpPr>
          <p:nvPr>
            <p:ph/>
          </p:nvPr>
        </p:nvSpPr>
        <p:spPr>
          <a:xfrm>
            <a:off x="1142640" y="2285640"/>
            <a:ext cx="754380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000" spc="-1" strike="noStrike">
                <a:solidFill>
                  <a:srgbClr val="003366"/>
                </a:solidFill>
                <a:latin typeface="Arial"/>
                <a:ea typeface="Times New Roman"/>
              </a:rPr>
              <a:t>A 32 year-old man is in a permanent vegetative state following traumatic cardiac arrest with prolonged hypoxia.  He has a valid advance directive naming his mother as proxy and explicitly stating he would not want to be kept alive with artificial nutrition and hydration should he ever be in a PVS.</a:t>
            </a:r>
            <a:r>
              <a:rPr b="0" lang="en-US" sz="2000" spc="-1" strike="noStrike">
                <a:solidFill>
                  <a:srgbClr val="003366"/>
                </a:solidFill>
                <a:latin typeface="Arial"/>
              </a:rPr>
              <a:t>  His mother understands his wishes, but states that, as his mother, she could never authorize discontinuation of life-sustaining fluid and nutrition.  After an initial meeting, she has refused to meet further with the team and does not respond to phone messag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Must the team follow her decision to continue A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Proxy</a:t>
            </a:r>
            <a:endParaRPr b="1" lang="en-US" sz="3600" spc="-1" strike="noStrike">
              <a:solidFill>
                <a:srgbClr val="006666"/>
              </a:solidFill>
              <a:latin typeface="Arial"/>
            </a:endParaRPr>
          </a:p>
        </p:txBody>
      </p:sp>
      <p:sp>
        <p:nvSpPr>
          <p:cNvPr id="120" name="PlaceHolder 2"/>
          <p:cNvSpPr>
            <a:spLocks noGrp="1"/>
          </p:cNvSpPr>
          <p:nvPr>
            <p:ph/>
          </p:nvPr>
        </p:nvSpPr>
        <p:spPr>
          <a:xfrm>
            <a:off x="1142640" y="2895480"/>
            <a:ext cx="7086600" cy="3353040"/>
          </a:xfrm>
          <a:prstGeom prst="rect">
            <a:avLst/>
          </a:prstGeom>
          <a:noFill/>
          <a:ln w="0">
            <a:noFill/>
          </a:ln>
        </p:spPr>
        <p:txBody>
          <a:bodyPr anchor="t">
            <a:normAutofit/>
          </a:bodyPr>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Ready</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lling</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Able</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conflict-of-interest </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psychological antipathy’</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7:28Z</dcterms:created>
  <dc:creator>Roland Jonathan Stanger</dc:creator>
  <dc:description/>
  <dc:language>en-US</dc:language>
  <cp:lastModifiedBy>lthomas</cp:lastModifiedBy>
  <dcterms:modified xsi:type="dcterms:W3CDTF">2010-03-03T23:59:51Z</dcterms:modified>
  <cp:revision>41</cp:revision>
  <dc:subject/>
  <dc:title>“REFUSAL OF CARE”</dc:title>
</cp:coreProperties>
</file>