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BC7-8DFF-4778-95A7-702BD9B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E33-9620-4646-94F3-F4B96065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A3F-5E8B-408F-9983-9A0FC2AC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72A-79D5-4CB3-8C77-58D1F94A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522-79F0-496F-B5D2-AA172A97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87CE-B405-4C82-B116-455644F5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DB82-0C3C-438A-85F8-A2A0C0D0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021C-F4B9-4562-BF81-3A4ADBB0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6F0B-3A5E-4449-B855-BB15851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F3BB-66BD-4FE9-A509-3CE0E217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8B3B-7BBF-4AF5-880E-9BDE927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C334-CD3A-4B05-BDFB-7E50C83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07BB-91B3-491B-837D-1C55448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D89-487B-4C92-853E-118694D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1E2-C5A8-41E0-8371-6B7350DD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2C29-4C5C-4CA6-9D0C-A7D193CC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D9C-BC58-429D-964D-34ACF125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23F-388E-41A4-BE53-4F6A90DA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A8F-E525-4E94-824A-B949B32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7F6-DB38-4903-8B6D-312B6DF9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F06-CDF0-44A2-A7BE-783FBD77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305-70AB-4575-8059-A9991DA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5D6-99AD-4FD9-9B8B-5251AA6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B8F-B732-4FC5-83FB-097BF66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868A-2BE3-423A-AC08-9B1D14CC8D9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CE5B-34A4-4419-A502-72AF26E0589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aren Burt, M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rector, Integrative Health Pr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Questionair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olunteers call patients in 1-4 weeks and ask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Was the Doula helpful during the labor and birth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hat was most helpful about the Doula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breathing help          Massage           compress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positioning           comforting word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Would you recommend a doula to your friend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  Comm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sues that Aros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ing a smooth entry into L&amp;D – with nursing and medical suppo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oula commitment to continuous support can be exhau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olunteer status of the organizers / support te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oulas involved – several more in the w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volunteering for administration as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~2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Assisted Birt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nominated for Service Excellence Awar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llent reception by nurs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Next Trainin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 - Aug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pe for 10-15 new traine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tribute flyer to anyone interested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Q 2 month mini-trainings:  Spanish phrases, ergonomics, back labor, positioning, massage, inductions and augmentations, epidurals,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 – Collaborator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tasha Pinto, MD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US" sz="17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Year resident:  involved with UCSD Doula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ogram (now extensive).  We adapted their material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s. Lisa Keller and Karen Burt –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oth involved in Natural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Birthing for 30 years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z Hunter, RN: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previously a midwife.   Coordinator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ex Dronkers, RN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rom Netherlands.  Schedul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ole Hagin, CNM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idwife for 30+ years.  Trai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 Volunteers: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valuation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Herstory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terials from UCSD adapte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  Mission, Policy and Procedures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trategy and Actions, Standards of Practic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Training:  February 7,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rse Focus Group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questions, concerns, fears, expectation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et the Doula’s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urses and doulas me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erienced Doula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osen to do the first couple of births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low roll out in April of more doulas on-c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going Doula Potluck/trainings Q 2 mont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at is a Doula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 can give support to pregnant women and their families – before, during and after the birth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end, mentor, and labor coac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ulas in many cultures – usually women with a lot of life exper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labor: provide continuous physical, emotional and informational suppor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rivate sector: provide advocacy for a safe and satisfying birth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erspectives in Childbirth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ealth Care System :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 the top priority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Laboring Woman:  Birth is a Life Passage in which both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SAFETY and SATISFACTION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ave great significance  - affects:  </a:t>
            </a:r>
            <a:r>
              <a:rPr b="0" lang="en-US" sz="1900" spc="-1" strike="noStrike">
                <a:solidFill>
                  <a:srgbClr val="ffff00"/>
                </a:solidFill>
                <a:latin typeface="Constantia"/>
              </a:rPr>
              <a:t>self esteem,   parenting,  breast-feeding skills ,  immediate birth outcomes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atisfaction:  influenced more by  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quality of support she receives, feeling in control of herself, and feeling she was actively involved in decision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than by degree of pain, number of interventions, or even the medical outcomes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o are the CCRMC Doulas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ng women interested in Doula, nursing, or midwifery as a prof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ttracted to assisting in the peri-natal time, especially bir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lder women desiring to ment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oulas (in the private sector) who want to donate their skills to the underserved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Role at CCRMC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inuous labor support (Non-Medical)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chrane Library published in 2003: 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“Women who had continuous intra-partum support were less likely to have intra-partum analgesia, operative birth or to report dissatisfaction with their childbirth experiences.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rsing often too busy,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though they would like to be ther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oulas  On-Call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: two 12 hr or one 24 hr shift per month – stay for birth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Available for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who are alo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2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aboring women </a:t>
            </a:r>
            <a:r>
              <a:rPr b="0" lang="en-US" sz="1700" spc="-1" strike="noStrike">
                <a:solidFill>
                  <a:srgbClr val="ffffff"/>
                </a:solidFill>
                <a:latin typeface="Constantia"/>
              </a:rPr>
              <a:t>whose family is unable to support them well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n with epidura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uture:  possible expansion of rol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Doula Birth Suppor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reath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assa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irthing B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sition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mbul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presses hot and col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uided Imagery / visualiz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Musi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Light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erbal Encouragemen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struction and Support for Partners and Family memb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mmunication with Nursing and Medical personn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Evaluation:  Birth Log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imip/Multi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thni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pres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urs of Labor / Stage when Doula arriv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ven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in Manag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livery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(NSVD, VBAC, Vacuum, Forceps, C-Sec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come of baby 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weight, Apgars, gestational age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00:28Z</dcterms:created>
  <dc:creator>Karen Burt</dc:creator>
  <dc:description/>
  <dc:language>en-US</dc:language>
  <cp:lastModifiedBy>lthomas</cp:lastModifiedBy>
  <dcterms:modified xsi:type="dcterms:W3CDTF">2009-05-26T18:30:58Z</dcterms:modified>
  <cp:revision>18</cp:revision>
  <dc:subject/>
  <dc:title>CCRMC Volunteer Doula Program</dc:title>
</cp:coreProperties>
</file>