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EF3C-2C9A-4245-97DC-3A5A153B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196A-7773-4792-8C86-D6629922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0F19-7033-45B5-A112-41B21DBC3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F90A-2674-461A-8A32-795720B5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2002-43F0-4986-B660-BF8EC7F40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EB2F-80B8-459B-83E6-FE708489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90B9-0409-463B-8557-64D73A55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64A3-246D-43FC-8BE8-A5A27050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7EEF-C798-4150-8913-F499C3CC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8575-9410-43C9-9946-6C1D5F28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07AC-216A-4790-914E-04C8F800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9F30-EFF8-4AA9-8F3D-98B563F1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1637-A0A7-45AD-8C23-1538D951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5257-7991-44CD-8D98-2BE6EFAB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8983-9135-4CFF-91B5-D3D2F9B9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68A0-006F-477E-80F9-D149A93CA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D544-830F-4BAD-B576-B3B568A34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6031-B43A-478F-B1F0-75167286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5BB5-CAF9-4D6A-BD48-D43D60BC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6CDE-B348-4348-AAC0-18901F9E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CC6A-17AE-4E72-B42E-24D035E3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B46F-8621-41A5-B8FD-23828620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FB0D-D5CB-42F1-9110-50B14718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1487-28BA-4886-84F4-31A03EEC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B52A-50B0-41D8-91BC-A063C04EF26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23DD-85A4-48A9-BDA2-D46A9095489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61440" cy="2011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Karen Burt, M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rector, Integrative Health Progra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Evaluation:  Questionair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Volunteers call patients in 1-4 weeks and ask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 Was the Doula helpful during the labor and birth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  What was most helpful about the Doula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                       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breathing help          Massage           compresses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                                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positioning           comforting words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  Would you recommend a doula to your friend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  Commen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Issues that Aros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king a smooth entry into L&amp;D – with nursing and medical suppor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doula commitment to continuous support can be exhaust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Volunteer status of the organizers / support tea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Successe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10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Doulas involved – several more in the wing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ulas volunteering for administration assistan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~20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ula Assisted Birth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ula nominated for Service Excellence Awar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cellent reception by nursing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Next Training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id - Augus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ope for 10-15 new traine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stribute flyer to anyone interested!!!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Q 2 month mini-trainings:  Spanish phrases, ergonomics, back labor, positioning, massage, inductions and augmentations, epidurals, etc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Herstory – Collaborator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atasha Pinto, MD –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1</a:t>
            </a:r>
            <a:r>
              <a:rPr b="0" lang="en-US" sz="1700" spc="-1" strike="noStrike" baseline="30000">
                <a:solidFill>
                  <a:srgbClr val="ffffff"/>
                </a:solidFill>
                <a:latin typeface="Constantia"/>
              </a:rPr>
              <a:t>st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 Year resident:  involved with UCSD Doula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Program (now extensive).  We adapted their materials.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rs. Lisa Keller and Karen Burt –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both involved in Natural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                                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Birthing for 30 years.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oz Hunter, RN: 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previously a midwife.   Coordinator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lex Dronkers, RN: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from Netherlands.  Scheduling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role Hagin, CNM: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idwife for 30+ years.  Training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ula Volunteers: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Evaluation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Herstory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terials from UCSD adapted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:  Mission, Policy and Procedures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trategy and Actions, Standards of Practice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rst Training:  February 7, 2009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urse Focus Groups: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questions, concerns, fears, expectations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eet the Doula’s: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Nurses and doulas met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perienced Doula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hosen to do the first couple of births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low roll out in April of more doulas on-call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ngoing Doula Potluck/trainings Q 2 month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What is a Doula?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ulas  can give support to pregnant women and their families – before, during and after the birth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riend, mentor, and labor coach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ulas in many cultures – usually women with a lot of life experienc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 labor: provide continuous physical, emotional and informational suppor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 private sector: provide advocacy for a safe and satisfying birth experien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Perspectives in Childbirth: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Health Care System :  </a:t>
            </a:r>
            <a:r>
              <a:rPr b="0" lang="en-US" sz="2400" spc="-1" strike="noStrike">
                <a:solidFill>
                  <a:srgbClr val="ffff00"/>
                </a:solidFill>
                <a:latin typeface="Constantia"/>
              </a:rPr>
              <a:t>SAFETY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s the top priority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Laboring Woman:  Birth is a Life Passage in which both </a:t>
            </a:r>
            <a:r>
              <a:rPr b="0" lang="en-US" sz="2400" spc="-1" strike="noStrike">
                <a:solidFill>
                  <a:srgbClr val="ffff00"/>
                </a:solidFill>
                <a:latin typeface="Constantia"/>
              </a:rPr>
              <a:t>SAFETY and SATISFACTION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have great significance  - affects:  </a:t>
            </a:r>
            <a:r>
              <a:rPr b="0" lang="en-US" sz="1900" spc="-1" strike="noStrike">
                <a:solidFill>
                  <a:srgbClr val="ffff00"/>
                </a:solidFill>
                <a:latin typeface="Constantia"/>
              </a:rPr>
              <a:t>self esteem,   parenting,  breast-feeding skills ,  immediate birth outcomes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atisfaction:  influenced more by  </a:t>
            </a:r>
            <a:r>
              <a:rPr b="0" lang="en-US" sz="2400" spc="-1" strike="noStrike">
                <a:solidFill>
                  <a:srgbClr val="ffff00"/>
                </a:solidFill>
                <a:latin typeface="Constantia"/>
              </a:rPr>
              <a:t>quality of support she receives, feeling in control of herself, and feeling she was actively involved in decisions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than by degree of pain, number of interventions, or even the medical outcomes</a:t>
            </a:r>
            <a:r>
              <a:rPr b="0" lang="en-US" sz="2400" spc="-1" strike="noStrike">
                <a:solidFill>
                  <a:srgbClr val="ffff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Who are the CCRMC Doulas?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Young women interested in Doula, nursing, or midwifery as a profess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omen attracted to assisting in the peri-natal time, especially birth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lder women desiring to mentor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fessional Doulas (in the private sector) who want to donate their skills to the underserved popul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Doula Role at CCRMC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ontinuous labor support (Non-Medical)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ochrane Library published in 2003: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“Women who had continuous intra-partum support were less likely to have intra-partum analgesia, operative birth or to report dissatisfaction with their childbirth experiences.”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Nursing often too busy,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though they would like to be there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Doulas  On-Call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: two 12 hr or one 24 hr shift per month – stay for birth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Available for: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Laboring women who are alon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Laboring women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whose family is unable to support them well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Even with epidural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Future:  possible expansion of rol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Doula Birth Suppor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Breathing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Massag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Birthing Ball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Positioning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Ambulati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Compresses hot and cold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Guided Imagery / visualizati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Music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Lighting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Shower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Verbal Encouragemen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Instruction and Support for Partners and Family member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Communication with Nursing and Medical personnel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Evaluation:  Birth Log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imip/Multip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anguag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thnicit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amily pres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ours of Labor / Stage when Doula arrive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terventio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ain Managem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elivery </a:t>
            </a: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(NSVD, VBAC, Vacuum, Forceps, C-Sec)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utcome of baby 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(weight, Apgars, gestational age)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23:00:28Z</dcterms:created>
  <dc:creator>Karen Burt</dc:creator>
  <dc:description/>
  <dc:language>en-US</dc:language>
  <cp:lastModifiedBy>lthomas</cp:lastModifiedBy>
  <dcterms:modified xsi:type="dcterms:W3CDTF">2009-05-26T18:30:58Z</dcterms:modified>
  <cp:revision>18</cp:revision>
  <dc:subject/>
  <dc:title>CCRMC Volunteer Doula Program</dc:title>
</cp:coreProperties>
</file>