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930-BAAB-439F-9F04-02DFB89F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C14-FDF6-4A31-BF28-D128C486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A3F-814A-4DB9-9A24-F558A3A1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6EC-8AB9-49B8-A93D-7D323925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E853-2746-4E11-91A4-336B7CC7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AB95-D449-4525-90C9-1722FD5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B85-A1AE-4918-B022-E42D53B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F81E-6FEC-47F0-8CA9-D126BA83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885F-B633-40B5-A42F-53285E7F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128-388D-4D5E-B917-5F11E269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8410-79BA-4454-A90E-7E4B77C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4C9-89A6-4B8D-8C79-6F6C310E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1456-5E2D-4FE9-937B-E131C2E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B639-100A-4C92-89CF-8A36537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405A-6B07-43ED-BC7D-C45695F4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214B-0E1F-45E4-AF35-CEA369A2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E8C-2BB4-4BC1-9A42-C80E97B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745-6B8A-455B-848B-01F7CA3D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762-7302-4379-9356-E2BD563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E75-762D-44C9-88CE-7DB046BA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0C3-A6F5-451E-9BA4-3DE85890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667-23BF-4CCC-A77C-AB6E2BF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3CF-8419-43FF-B2A4-9A9ECE48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244-005D-45D1-8278-E4BC774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9902-975E-4FA1-8F74-F027EB88D61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D10E-A406-43AA-9D68-C54840744B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ren Burt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rector, Integrative Health Pr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Questionair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olunteers call patients in 1-4 weeks and ask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Was the Doula helpful during the labor and birth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hat was most helpful about the Doul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breathing help          Massage           compress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ositioning           comforting word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ould you recommend a doula to your frien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Com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sues that Aros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ing a smooth entry into L&amp;D – with nursing and medical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oula commitment to continuous support can be exhau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 status of the organizers / support te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oulas involved – several more in the w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volunteering for administration as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~2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Assisted Birt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nominated for Service Excellence Aw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llent reception by nurs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rain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 - Aug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pe for 10-15 new train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tribute flyer to anyone interested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 2 month mini-trainings:  Spanish phrases, ergonomics, back labor, positioning, massage, inductions and augmentations, epidurals,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 – Collaborato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asha Pinto, MD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US" sz="17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Year resident:  involved with UCSD Doul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ogram (now extensive).  We adapted their material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s. Lisa Keller and Karen Burt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oth involved in Natural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irthing for 30 year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z Hunter, RN: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eviously a midwife.   Coordinator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ex Dronkers, RN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om Netherlands.  Schedul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e Hagin, CNM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idwife for 30+ years.  Trai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Volunteers: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aluatio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erials from UCSD adapte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  Mission, Policy and Procedures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trategy and Actions, Standards of Pract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Training:  February 7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rse Focus Group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questions, concerns, fears, expectation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et the Doula’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urses and doulas me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erienced Doula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osen to do the first couple of birth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low roll out in April of more doulas on-c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going Doula Potluck/trainings Q 2 mont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a Doula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 can give support to pregnant women and their families – before, during and after the birth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, mentor, and labor coac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in many cultures – usually women with a lot of life exper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labor: provide continuous physical, emotional and informational suppo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rivate sector: provide advocacy for a safe and satisfying birth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erspectives in Childbirth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alth Care System :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the top priority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boring Woman:  Birth is a Life Passage in which both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 and SATISFACT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great significance  - affects:  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self esteem,   parenting,  breast-feeding skills ,  immediate birth outcom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atisfaction:  influenced more by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quality of support she receives, feeling in control of herself, and feeling she was actively involved in decision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than by degree of pain, number of interventions, or even the medical outcomes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o are the CCRMC Doulas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ng women interested in Doula, nursing, or midwifery as a prof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ttracted to assisting in the peri-natal time, especially bir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women desiring to ment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oulas (in the private sector) who want to donate their skills to the underserved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Role at CCRMC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inuous labor support (Non-Medical)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chrane Library published in 2003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“Women who had continuous intra-partum support were less likely to have intra-partum analgesia, operative birth or to report dissatisfaction with their childbirth experiences.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rsing often too busy,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ough they would like to be ther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ulas  On-Call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: two 12 hr or one 24 hr shift per month – stay for birth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Available for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who are alo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whose family is unable to support them wel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n with epidura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uture:  possible expansion of ro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Birth Suppor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eath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assa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irthing B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sition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mbul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presses hot and col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ided Imagery / visualiz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usi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ight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erbal Encouragem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struction and Support for Partners and Family memb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munication with Nursing and Medical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Birth Lo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ip/Mult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thni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pres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urs of Labor / Stage when Doula arri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ven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 Manag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livery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(NSVD, VBAC, Vacuum, Forceps, C-Sec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come of baby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weight, Apgars, gestational age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00:28Z</dcterms:created>
  <dc:creator>Karen Burt</dc:creator>
  <dc:description/>
  <dc:language>en-US</dc:language>
  <cp:lastModifiedBy>lthomas</cp:lastModifiedBy>
  <dcterms:modified xsi:type="dcterms:W3CDTF">2009-05-26T18:30:58Z</dcterms:modified>
  <cp:revision>18</cp:revision>
  <dc:subject/>
  <dc:title>CCRMC Volunteer Doula Program</dc:title>
</cp:coreProperties>
</file>