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F5F2-BA4F-4F86-AFCD-8DEC62CA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333-2116-4870-A57C-6FA9A0A6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947-6E75-40C9-BDD8-524D13DE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9C5-CC06-4E4F-82B4-06C4B7B4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5A8A-928A-49F5-83E3-33BEF729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AF6A-107D-43B3-A371-7A20D1C2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A662-A89D-458E-A52F-7B3B741C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8531-E409-44D0-AC0E-60B723BC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2497-271A-4053-AB68-4BEE9DB5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C56F-A640-466A-9888-DC7091CC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83FA-CCD3-4BA5-B184-5DD0C426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40F8-7BCD-4305-9737-301C3DD9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B1FB-AC02-4D11-8D7C-6768B8C0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1C87-6460-45C4-A6E3-B4BBD0E0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95DD-0100-4BE8-9DE4-6813A456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2CDA-281A-4ED2-B6B7-7EBBECF6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ADF7-0768-495D-84B2-CDD1B13A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0609-3E6C-4334-9108-01EFA035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D17-B2D7-4321-BDD1-201326CD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E85-D21E-4539-AE71-8D7D26F2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CFE-7F24-4D11-8129-A28761FB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243-506B-46C1-8B58-B45296E1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C16A-F591-4E5F-B66F-64F357CF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8781-5525-4CFA-9807-CF8B947A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B9B3-2124-4EFE-AE25-B06A3470692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48F6-089D-419E-9615-1A462D9DE77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aren Burt, M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rector, Integrative Health Progra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Evaluation:  Questionair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Volunteers call patients in 1-4 weeks and ask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Was the Doula helpful during the labor and birth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 What was most helpful about the Doula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                      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breathing help          Massage           compresses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                               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positioning           comforting words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 Would you recommend a doula to your friend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 Comm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Issues that Aros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king a smooth entry into L&amp;D – with nursing and medical suppor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doula commitment to continuous support can be exhaust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olunteer status of the organizers / support tea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Success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Doulas involved – several more in the wing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s volunteering for administration assista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~20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 Assisted Birth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 nominated for Service Excellence Awar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ellent reception by nursing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Next Trainin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id - Augus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pe for 10-15 new traine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stribute flyer to anyone interested!!!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Q 2 month mini-trainings:  Spanish phrases, ergonomics, back labor, positioning, massage, inductions and augmentations, epidurals, et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rstory – Collaborator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atasha Pinto, MD –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1</a:t>
            </a:r>
            <a:r>
              <a:rPr b="0" lang="en-US" sz="1700" spc="-1" strike="noStrike" baseline="30000">
                <a:solidFill>
                  <a:srgbClr val="ffffff"/>
                </a:solidFill>
                <a:latin typeface="Constantia"/>
              </a:rPr>
              <a:t>st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Year resident:  involved with UCSD Doula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Program (now extensive).  We adapted their materials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rs. Lisa Keller and Karen Burt –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both involved in Natural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            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Birthing for 30 years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oz Hunter, RN: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previously a midwife.   Coordinator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ex Dronkers, RN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from Netherlands.  Scheduling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role Hagin, CNM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idwife for 30+ years.  Trainin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 Volunteers: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valuation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rstory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terials from UCSD adapted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:  Mission, Policy and Procedures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trategy and Actions, Standards of Practic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rst Training:  February 7, 200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urse Focus Groups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questions, concerns, fears, expectation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et the Doula’s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Nurses and doulas met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perienced Doula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osen to do the first couple of births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low roll out in April of more doulas on-cal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going Doula Potluck/trainings Q 2 month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hat is a Doula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s  can give support to pregnant women and their families – before, during and after the birth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iend, mentor, and labor coach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s in many cultures – usually women with a lot of life experie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labor: provide continuous physical, emotional and informational suppor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private sector: provide advocacy for a safe and satisfying birth experie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Perspectives in Childbirth: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ealth Care System :  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SAFETY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s the top priority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Laboring Woman:  Birth is a Life Passage in which both 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SAFETY and SATISFACTION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ave great significance  - affects:  </a:t>
            </a:r>
            <a:r>
              <a:rPr b="0" lang="en-US" sz="1900" spc="-1" strike="noStrike">
                <a:solidFill>
                  <a:srgbClr val="ffff00"/>
                </a:solidFill>
                <a:latin typeface="Constantia"/>
              </a:rPr>
              <a:t>self esteem,   parenting,  breast-feeding skills ,  immediate birth outcomes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atisfaction:  influenced more by  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quality of support she receives, feeling in control of herself, and feeling she was actively involved in decisions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than by degree of pain, number of interventions, or even the medical outcomes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ho are the CCRMC Doulas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ng women interested in Doula, nursing, or midwifery as a profess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omen attracted to assisting in the peri-natal time, especially birth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lder women desiring to mento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fessional Doulas (in the private sector) who want to donate their skills to the underserved popul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Doula Role at CCRMC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ntinuous labor support (Non-Medical)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chrane Library published in 2003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“Women who had continuous intra-partum support were less likely to have intra-partum analgesia, operative birth or to report dissatisfaction with their childbirth experiences.”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Nursing often too busy,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though they would like to be there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oulas  On-Call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: two 12 hr or one 24 hr shift per month – stay for birth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Available for: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aboring women who are alon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aboring women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whose family is unable to support them wel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Even with epidural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Future:  possible expansion of rol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Doula Birth Suppor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reathing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assag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irthing Bal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ositioning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Ambul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ompresses hot and col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Guided Imagery / visualiz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usic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ighting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howe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Verbal Encouragemen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nstruction and Support for Partners and Family member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ommunication with Nursing and Medical personne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Evaluation:  Birth Lo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imip/Multi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nguag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thnic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amily pres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urs of Labor / Stage when Doula arriv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terven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in Manage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livery </a:t>
            </a: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(NSVD, VBAC, Vacuum, Forceps, C-Sec)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utcome of baby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(weight, Apgars, gestational age)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23:00:28Z</dcterms:created>
  <dc:creator>Karen Burt</dc:creator>
  <dc:description/>
  <dc:language>en-US</dc:language>
  <cp:lastModifiedBy>lthomas</cp:lastModifiedBy>
  <dcterms:modified xsi:type="dcterms:W3CDTF">2009-05-26T18:30:58Z</dcterms:modified>
  <cp:revision>18</cp:revision>
  <dc:subject/>
  <dc:title>CCRMC Volunteer Doula Program</dc:title>
</cp:coreProperties>
</file>