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800D-6B69-40D3-9714-1E9FF5C07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C1DF-0838-4C04-9862-1AFB6B7739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C863-FAD4-423C-B775-8B73483782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social No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s: embarrassment, change lifestyle, not convenient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dentified as a important factor in Surgeon General Report in 198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mula companies know this so they use it as a marketing to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Focus group of low income mexican americans: lack supportive environment, embarassment about nursing in public, breastfeeding is restrictive and inconveni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me women make the re: BF without input from spouse. “I decided on my own. The only thing my husband said is ‘Watch your it’. Id ont want nobody seeing i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y pregnant women and new mother believe BF in public ws never appropr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women said bottle-feeeding was the only acceptable option for feeding a baby in public. A women did say that it’s better to pump before going out and take a bott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ck Support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 medical authorities recommend breast milk and rate of initiation is high but rates for initiation and duration is 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ther it’s lacking support and encouragement at the stage of prenatal, perinatal or postnat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me hospitals still provide free formu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thers involved in WIC targeted breastfeeding education vs. routine prenatal education were more likely to breastfeed longer: 76 days vs. 30 day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I had [my baby] at the hospital, I wanted to BF, but I did not get no one who was going to teach me. And just me by myself, you know, I did it, and it was real painful. Because I didn’t know what I was doing and my breast was always hurting. I didn’t do it right, so I stopped doing it. And I think that if someone would have helped and showed me how to do it, I think I would have still been BF my son. I tried to, but I couldn’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cial support network of women who have BF who support their BF decision are more likely to initiate and contine to B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income viet american: WIC BF counselor, friends, doctors most supportive and great influence to moehter’s deciding how to feed their baby. Surprisingly, nurses’ opinions were less impora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pport group: 67% of EBF and duration for people doing 6-visit vs. 50% 3-visit vs. 12% no counselin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just the availability of the program…but the accessi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C5FC-AB2D-402E-8509-F19DA81772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773D-60E5-487C-913C-9892E4B42B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FDEB-223F-446F-A0FA-CCDCE8A95F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C263-4FBF-454F-90A8-C48AAA1182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50DA-B99F-40CB-BA16-51B556754F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774F-3B86-44EC-9973-5CDA921CCC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BC13-5078-4FA2-A867-28090C96C3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09D7-DABE-402E-B193-C2A10C6C95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2FE3-8BAB-4D94-883A-FD97E96720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C39E-6928-4AFB-A3C0-819C8EF3DF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E0FB-8960-4A73-9BB7-53367ACC71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5FC0-6B96-4DFC-8335-C3D5E7BD0E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6760-F2FB-4A3A-986D-2F2590E764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AD60-9733-4DD1-ADFA-442420820A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BC57-21EB-407C-9A95-9FEC026EC1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08D0-9157-48B5-A4FF-1E0288CC95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F981-9C13-48CD-BCAD-AC90679C1F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AACB-FC28-4162-A0FF-CE7B913871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D0C42-4818-430A-A692-C2924A7D7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F78F3-D08F-4B99-B20A-FC2EA7CF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CA8AC-0D64-4B21-942A-605BC767D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F16AB-F3FB-4067-805A-4B994A1D5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FD93-8501-46E8-B4AA-F8624B992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37DF-E758-43A2-928F-42A5B3ED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3682-B661-4BC3-ABD9-6F7E2986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E219-BB65-4CFF-A257-D9C3BA97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FF52-DBF7-45D5-B11B-F15DC0FE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87EE-9C04-474B-B550-13277FD1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880D-6240-4D55-B43A-8C90819F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8CE44-7C69-42E3-9EE6-6DBC1F3B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BD2F-B42E-4E15-8903-F7C072C7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72CE-3871-4F99-A752-5BE4C7DA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081E-FDAE-4252-B9BF-0D754CEC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4DA6-3CAC-4B9D-A6D6-3650152C7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19A7-2B53-48CA-A60C-AB2042FFC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ACD41-6EBD-4277-8F4B-0B549F28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9A051-7415-4BC4-904D-004449A5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5951E-401C-41E8-A050-300803E0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AEC42-5220-4F94-B7B7-2E61A538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054E2-3DE5-4771-9918-276A5C7C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E5515-319A-4EF7-ABBA-AD0C3B52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2B650-0325-4EAA-B0F5-5C3F102A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6630-5E32-453B-A145-DCD4A75615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9F2C-7A3D-4B42-B0AB-908D432DB7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Promoting the Bes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ulie Pham, 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pidemi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380880" y="1488960"/>
            <a:ext cx="838224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cial Barri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t Social N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’s hard to BF in public with people watching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 don’t want to see [women feeding her baby]…something you do in private…it shocked me because I’ve never seen that, no in public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ck Suppo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 the hospital…I didn’t really know whether I wanted to BF or not, so they just went ahead and right away gave him the bottle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cial Barri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cking Role Mod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 didn’t know what was going on with my breast and milk and things like that. I really didn’t know too much so I just stopped. I asked my mother-in-law but she didn’t know. “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ck Supportive Working Environ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 work, so I can’t BF. I don’t have tim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 have to stay home, you can’t go anywhere or do anything else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onal Barri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inful, Sore nipp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rceived inadequate milk supp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ternal fatig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xie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pr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or breastfeeding experi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fid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gative attitu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ultural Barri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ultu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cent immigrants vs US born/Years in 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di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acti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m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le of personal support syst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OT a barri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wareness/Knowled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F is healthier for the baby…babies get less sick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[Babies] grow faster and fatter.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 felt [my baby] close to me… I bonded a lot better with her.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”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makes babies healthier less cranky, and they get fewer earaches.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tained more “vitamins” than formula; babies are smar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F “because I could lose weight faster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our uterus shrinks up faster when BF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ints of Influ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838080" y="1278000"/>
            <a:ext cx="762012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ints of Influence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reconception/Interconcep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nowledge development and plan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rth contro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gnan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enting Strateg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nual visi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portunity to provide benefits, address misconceptions or concerns/ques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int of Influence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ntenata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riod of high inter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equent clinic visi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king behavior and health decis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nseling on EBF correlates with higher rate of EB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lp define intention to EB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dress counterforce: misconceptions, formula advertisements, et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int of Influence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erinatal (Birth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riod when birthing process can affect initiation, duration and exclusivity of B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bies born in Baby-Friendly Hospitals are 28% more likely to EBF and 2x the rate of duration from 6-12wk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e studies show SVD babies  are 1.5x more likely to initiate EBF vs. C/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port states receiving epidurals have significance in earlier cessation of EB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jectiv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are Goals for My Community Medicine Project to Promote Breastfeed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ntify Points of Influence to Promote Breastfee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iew Barriers to Initiate and Continue Breastfee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cuss Clinical Experiences on Perceived Obstacles and Ways to Promote Breastfee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int of Influence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erinatal (Birth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Baby Friendly Hospitals: Ten Steps to Successful Breastfeeding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Maintain a written BF policy that is routinely communicated to all staff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Train all staff skills necessary to implement policy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Inform all pregnant mom about benefits and management of BF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Help moms initiate BF w/in 1 hr of birth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Show moms how to BF and maintain lactation, even if mom/baby are separted.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Give babies no food or drink other than breastmilk, unless medically indicated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Practice “rooming-in” for 24hrs a day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Encourage unrestricted BF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Give no pacifiers or artificial nipples to BF babies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Foster the establishment of BF support groups and refer moms on D/C.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int of Influence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mmediate Postpartum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s period is highly associated with initation and duration of B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ing relationship with mother and inf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vercome factors that can interrupt immediate BF: immediate BF, skin-to-skin cont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pplemental formula without indication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unsuccessful EB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oid use of pacifi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F counseling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greater effect on EBF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int of Influence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ays 3-12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lk “comes in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aptation after dischar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stablishing routin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ther-Infant bond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mily/Friends supp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crease contact with medical professiona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estions, concer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equate wt gain, Milk insufficiency, BF proble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int of Influence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ay 12 – Week 6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ate of EBF drops significantly during this time peri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tablish mother/baby interac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fficiency of milk produ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bject to societal nor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lanning to return to work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int of Influence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eeks 6 – 12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intenance of sufficient milk produ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sconception of supplemental food by 3 months of a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sperception that formula = breast mil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ctational Amenorrhea Meth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ception will not occur in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6 w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requent infant suckling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uppression of ovulation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delay the return of menses in postpartum peri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99.5% effective with perfect use; 98% with typical use during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6 w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turning to wor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int of Influence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onths 4 - 6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itical period in continuation of EB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rop-off in rates of EB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sperception of infants’ nutritional nee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aptation to social influences and health worker inpu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urn to work - 80% return to 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y ca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hare Your Experi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are the points of influence you’ve used to promote BF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are the barriers from your experien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Have a great day!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ank yo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ty Medicine Projec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east is B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 part se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ta Colle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terature Review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firm with Medical Professionals and Moth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alysis and Develop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plemen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reastfeed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althy People 2010 Go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itiation – 75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 6 months – 5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 12 months – 25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merican Academy of Pediatrics Recommendatio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clusively breastfeeding for 6 month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tinue with appropriate food through first ye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fini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clus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O: breast milk from the mother or a wet nurse, or expressed breat milk and no other liquids or solid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itiated immediately after bir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til 6 mos of life and continue up to 2 y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ti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pplement breast milk with formul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 of Breastfeed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Infa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rease risk of infectious disea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mplete nutrition for growth and hydr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velopmental and psychosocial benefi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duce chronic disea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rease SIDS and tooth dec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Moth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duce risk of chronic disea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elp with recovery after birt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sychosocial benefi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 of Breastfeed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Famil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althier infan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ss health care expen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ss time off wor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wer food co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Socie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ved $ fo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mul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ealth 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pidemi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fore 2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ntury – nearly 10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930’s – rise in popularity of artificial mil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 Early 1970’s – 25% initiated; 5% at 6 month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rting 1970’s – increase rate and du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ss medically intrusi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re natural bir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998 – All time high of 64.3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pidemiology</a:t>
            </a:r>
            <a:br>
              <a:rPr sz="4000"/>
            </a:b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BF among women in the Maternal and Infant Health Assessment (2005-2006)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4" name="Object 4"/>
          <p:cNvGraphicFramePr/>
          <p:nvPr/>
        </p:nvGraphicFramePr>
        <p:xfrm>
          <a:off x="0" y="2009880"/>
          <a:ext cx="4572000" cy="31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09880"/>
                    <a:ext cx="4572000" cy="31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6"/>
          <p:cNvGraphicFramePr/>
          <p:nvPr/>
        </p:nvGraphicFramePr>
        <p:xfrm>
          <a:off x="4502160" y="2009880"/>
          <a:ext cx="4651200" cy="32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2160" y="2009880"/>
                    <a:ext cx="4651200" cy="32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9:11:38Z</dcterms:created>
  <dc:creator>Julie Thao Pham</dc:creator>
  <dc:description/>
  <dc:language>en-US</dc:language>
  <cp:lastModifiedBy>HCMARTINEZ</cp:lastModifiedBy>
  <dcterms:modified xsi:type="dcterms:W3CDTF">2009-12-18T20:53:43Z</dcterms:modified>
  <cp:revision>12</cp:revision>
  <dc:subject/>
  <dc:title>Breastfeeding is Best</dc:title>
</cp:coreProperties>
</file>