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5686-4844-4630-B201-D64D8E9E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DFAD-AD34-40F7-A66B-53955762EB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E669-C454-4AA4-8536-60BAEFF55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social N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s: embarrassment, change lifestyle, not convenient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ed as a important factor in Surgeon General Report in 19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ula companies know this so they use it as a marketing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Focus group of low income mexican americans: lack supportive environment, embarassment about nursing in public, breastfeeding is restrictive and inconven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women make the re: BF without input from spouse. “I decided on my own. The only thing my husband said is ‘Watch your it’. Id ont want nobody seeing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y pregnant women and new mother believe BF in public ws never appropr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women said bottle-feeeding was the only acceptable option for feeding a baby in public. A women did say that it’s better to pump before going out and take a bott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ck Suppor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medical authorities recommend breast milk and rate of initiation is high but rates for initiation and duration is 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ther it’s lacking support and encouragement at the stage of prenatal, perinatal or postnat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hospitals still provide free formu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thers involved in WIC targeted breastfeeding education vs. routine prenatal education were more likely to breastfeed longer: 76 days vs. 30 day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I had [my baby] at the hospital, I wanted to BF, but I did not get no one who was going to teach me. And just me by myself, you know, I did it, and it was real painful. Because I didn’t know what I was doing and my breast was always hurting. I didn’t do it right, so I stopped doing it. And I think that if someone would have helped and showed me how to do it, I think I would have still been BF my son. I tried to, but I couldn’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 support network of women who have BF who support their BF decision are more likely to initiate and contine to B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income viet american: WIC BF counselor, friends, doctors most supportive and great influence to moehter’s deciding how to feed their baby. Surprisingly, nurses’ opinions were less impora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ort group: 67% of EBF and duration for people doing 6-visit vs. 50% 3-visit vs. 12% no counsel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just the availability of the program…but the access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3688-E130-4952-82B4-6A652EC946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783E-0DF1-4392-AF35-A6D78986D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86FF-8664-4203-960F-58F7DA19F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FF2F-5859-4747-9ECB-F57199F524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635F-55AC-42BB-A157-DF008C5D0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E0E5-5934-48AC-A461-119902384F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9CF-D904-4088-AE86-40112CAD57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4439-D1EA-478F-81AA-B298BC5FAD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9FF7-15C3-4968-A733-48D1D5D382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C1A1-F82B-4E51-9024-99FA65E193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892D-04A7-41CC-9CDE-6A3A4DDAE8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DD3E-0B70-4A86-93AE-FADA924E6D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68BB-801A-49E6-9526-56B5A9827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7C1B-FCA7-4D76-A743-EA4BA7BAE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07EE-BB0F-43B7-9846-1D43F48D3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0256-5450-44EF-8E8C-C2B0F51ABE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6BFE-8267-4D98-AEBF-D7DDCC7E8D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7B27-F262-4AF7-AF1F-E3C82366D3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F250-B322-468C-9EB6-3CB979A1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295A3-33E0-4E42-AEFC-F7644AE7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E2D3-E771-44EC-A9D5-10BB9FDF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E208-8369-493E-8F25-E6C39F80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3169-69EE-46B3-B983-F2E7D6D6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B3CE-CBCC-4B3B-823B-D7A0223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50F6-FDCC-4437-9FE5-2C64407C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BD4E-D7EF-4EC7-B164-0C67BB65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F3B4-3AF1-43BD-AE32-4B63591E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B1CD-D717-4A8E-8E64-DD6BD49F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5BF3-09CD-4C0C-B4DB-AD81B39A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0E56-9938-4F5F-B450-C99915C1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4C44-2EE5-4A84-BFA5-787B9D1F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7145-CAF7-4736-8C79-3AE1C3BE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5AC9-E574-4AC5-AFDD-41C16206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7499-445C-4491-AA10-A24555F9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843F-DE5D-40F4-AAB4-BB1CA4F5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E77E-35CC-44AF-89FC-121D182C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CEE7-7FA5-4E51-91AE-E51BA18C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A4F2-2365-447C-90E4-A45CC44F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0BFE-7540-4BB7-A8F3-BB449C6D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B9B8-18CF-4147-BC8B-84C2DE44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2B95-B252-43EB-A789-1006D4E8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FC8B-755E-416B-B4C9-A409529E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1FE3-EC3B-4794-8D98-4EE92C2411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699B-DBAF-4015-B63D-F8313805D2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moting the Bes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ie Pham,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em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80880" y="1488960"/>
            <a:ext cx="83822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Social 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’s hard to BF in public with people watching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don’t want to see [women feeding her baby]…something you do in private…it shocked me because I’ve never seen that, no in public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the hospital…I didn’t really know whether I wanted to BF or not, so they just went ahead and right away gave him the bottl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ing Role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didn’t know what was going on with my breast and milk and things like that. I really didn’t know too much so I just stopped. I asked my mother-in-law but she didn’t know. 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Supportive Working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work, so I can’t BF. I don’t have ti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have to stay home, you can’t go anywhere or do anything els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on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nful, Sore nip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ceived inadequate milk supp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rnal fati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xi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r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or breastfeeding exper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gative attitu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ltur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ult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ent immigrants vs US born/Years in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ct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personal support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T a barri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wareness/Knowled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F is healthier for the baby…babies get less sick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Babies] grow faster and fatter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felt [my baby] close to me… I bonded a lot better with her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”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makes babies healthier less cranky, and they get fewer earaches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ained more “vitamins” than formula; babies are sm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F “because I could lose weight faster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r uterus shrinks up faster when B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ints of Influ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838080" y="1278000"/>
            <a:ext cx="76201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s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econception/Interconcep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owledge development and plan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rth contr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gna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enting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ual visi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portunity to provide benefits, address misconceptions or concerns/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tenat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iod of high inte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quent clinic vis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ing behavior and health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seling on EBF correlates with higher rate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lp define intention to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ress counterforce: misconceptions, formula advertisements, et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inatal (Birth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iod when birthing process can affect initiation, duration and exclusivity of 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ies born in Baby-Friendly Hospitals are 28% more likely to EBF and 2x the rate of duration from 6-12w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studies show SVD babies  are 1.5x more likely to initiate EBF vs. C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ort states receiving epidurals have significance in earlier cessation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re Goals for My Community Medicine Project to Promote Breastfee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Points of Influence to Promot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Barriers to Initiate and Continu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 Clinical Experiences on Perceived Obstacles and Ways to Promot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inatal (Birth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Baby Friendly Hospitals: Ten Steps to Successful Breastfeedi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Maintain a written BF policy that is routinely communicated to all staf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Train all staff skills necessary to implement policy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Inform all pregnant mom about benefits and management of B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Help moms initiate BF w/in 1 hr of birth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Show moms how to BF and maintain lactation, even if mom/baby are separted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Give babies no food or drink other than breastmilk, unless medically indicated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Practice “rooming-in” for 24hrs a day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Encourage unrestricted B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Give no pacifiers or artificial nipples to BF babie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Foster the establishment of BF support groups and refer moms on D/C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mediate Postpartu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eriod is highly associated with initation and duration of 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ing relationship with mother and inf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come factors that can interrupt immediate BF: immediate BF, skin-to-skin 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lemental formula without indica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unsuccessful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use of pacifi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F counsel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reater effect on EB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ys 3-12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k “comes i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ptation after dischar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ablishing routi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her-Infant bo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y/Friends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 contact with medical profession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estions, conc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equate wt gain, Milk insufficiency, BF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y 12 – Week 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te of EBF drops significantly during this time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ablish mother/baby intera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fficiency of milk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 to societal n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ning to return to wo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eeks 6 – 12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intenance of sufficient milk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conception of supplemental food by 3 months of 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perception that formula = breast mi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tational Amenorrhea 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eption will not occur 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6 w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equent infant suckl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uppression of ovul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lay the return of menses in postpartum peri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9.5% effective with perfect use; 98% with typical use during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6 w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urning to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nths 4 - 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tical period in continuation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op-off in rates of EB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sperception of infants’ nutritional nee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ptation to social influences and health worker inpu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to work - 80% return to 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y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e Your Exper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points of influence you’ve used to promote BF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barriers from your experien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ave a great day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ty Medicine Proj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st is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part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Coll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terature Re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firm with Medical Professionals and Moth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ysis and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y People 2010 Go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tion – 7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6 months – 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12 months – 2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erican Academy of Pediatrics Recommend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sively breastfeeding for 6 month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 with appropriate food through first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lu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O: breast milk from the mother or a wet nurse, or expressed breat milk and no other liquids or solid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ted immediately after bir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til 6 mos of life and continue up to 2 y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lement breast milk with formu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 of 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Inf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rease risk of infectious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lete nutrition for growth and hyd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mental and psychosocial 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chronic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rease SIDS and tooth dec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M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risk of chronic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lp with recovery after bir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sychosocial 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 of 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Famil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ier infa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ss health care expen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ss time off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er food c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ci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ved $ f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u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em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for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 – nearly 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0’s – rise in popularity of artificial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Early 1970’s – 25% initiated; 5% at 6 month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ing 1970’s – increase rate and d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s medically intru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natural bir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98 – All time high of 64.3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pidemiology</a:t>
            </a:r>
            <a:br>
              <a:rPr sz="40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BF among women in the Maternal and Infant Health Assessment (2005-2006)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0" y="2009880"/>
          <a:ext cx="457200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9880"/>
                    <a:ext cx="457200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6"/>
          <p:cNvGraphicFramePr/>
          <p:nvPr/>
        </p:nvGraphicFramePr>
        <p:xfrm>
          <a:off x="4502160" y="2009880"/>
          <a:ext cx="4651200" cy="32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2160" y="2009880"/>
                    <a:ext cx="46512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9:11:38Z</dcterms:created>
  <dc:creator>Julie Thao Pham</dc:creator>
  <dc:description/>
  <dc:language>en-US</dc:language>
  <cp:lastModifiedBy>HCMARTINEZ</cp:lastModifiedBy>
  <dcterms:modified xsi:type="dcterms:W3CDTF">2009-12-18T20:53:43Z</dcterms:modified>
  <cp:revision>12</cp:revision>
  <dc:subject/>
  <dc:title>Breastfeeding is Best</dc:title>
</cp:coreProperties>
</file>