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17E-060C-4CD2-BEE4-CED2938A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A542-A9D0-461C-9719-D725EEA2F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7789-2127-4BAE-BBE5-5346B215CE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social N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s: embarrassment, change lifestyle, not convenien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ed as a important factor in Surgeon General Report in 19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ula companies know this so they use it as a marketing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Focus group of low income mexican americans: lack supportive environment, embarassment about nursing in public, breastfeeding is restrictive and inconven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women make the re: BF without input from spouse. “I decided on my own. The only thing my husband said is ‘Watch your it’. Id ont want nobody seeing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pregnant women and new mother believe BF in public ws never appropr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women said bottle-feeeding was the only acceptable option for feeding a baby in public. A women did say that it’s better to pump before going out and take a bott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ck Suppor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medical authorities recommend breast milk and rate of initiation is high but rates for initiation and duration is 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ther it’s lacking support and encouragement at the stage of prenatal, perinatal or postna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hospitals still provide free formu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hers involved in WIC targeted breastfeeding education vs. routine prenatal education were more likely to breastfeed longer: 76 days vs. 30 day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I had [my baby] at the hospital, I wanted to BF, but I did not get no one who was going to teach me. And just me by myself, you know, I did it, and it was real painful. Because I didn’t know what I was doing and my breast was always hurting. I didn’t do it right, so I stopped doing it. And I think that if someone would have helped and showed me how to do it, I think I would have still been BF my son. I tried to, but I couldn’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 support network of women who have BF who support their BF decision are more likely to initiate and contine to B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income viet american: WIC BF counselor, friends, doctors most supportive and great influence to moehter’s deciding how to feed their baby. Surprisingly, nurses’ opinions were less impor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ort group: 67% of EBF and duration for people doing 6-visit vs. 50% 3-visit vs. 12% no counsel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just the availability of the program…but the acces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60FB-BBAE-49DB-81CE-805EB8152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DA71-D349-4E45-BC42-D32561FA7F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8D73-881A-4F9E-B4BF-645D118276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C803-17DE-4449-B2D1-337FF9020D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C15E-FC13-42D4-B655-783B6FF9C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B861-D2E4-437A-BCF4-E93469D2A8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8C1A-03E2-40E9-B3BC-9529F66EF9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E07A-85F9-47EB-BE99-8BA5DB0EDB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BFA-DDE1-43F9-B480-CC13E978D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50E4-E3A5-4679-9157-A1FE560BC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CE4-311B-49D1-9685-5874521298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8FAE-CE8B-46D1-9C79-21013B762D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4F53-1277-47E7-9979-F9B9CFED0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6932-056B-4F47-AA11-4949CBB897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98C4-56AB-47CE-ADF8-189936019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FDDD-7508-4DF3-B5C1-21D33F9F61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0217-3365-42F2-8805-A2648FCD5E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E25-1AC8-4C3E-8210-FB56EF549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DCF3-E9E4-4AB4-9DD6-A76A402F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766F-B3B1-405D-B026-1239D2AD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5453-7FC3-435A-B18B-DFA0EC57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EBA4-01EB-4DFB-8B11-22E0266D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671D-F19B-4908-9660-3D44B9F3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9E7-D21E-40BE-A337-7F08B3A0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2082-A7A6-49FF-A4F0-C087D44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851D-C644-4A14-861E-FCA524FE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11CD-645E-470A-977B-7BDD04F6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DFE4-D924-43CC-92DF-12060007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776B-B58F-4B26-A835-16116569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A40F9-0740-4793-A08B-E704E42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E09C-B51E-4F37-B505-F81AE7E4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6566-213E-425C-8615-7DD41A1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B60-2657-4CAF-BD2C-3F9CD53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757D-5ABA-45D8-A022-55CC3D29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AAE3-F07C-424D-A5F1-17F3492F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4AE1-3AA3-452F-93AE-01F7128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C2C5-7864-45B3-BECA-B3C493A3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986B-7121-4892-A1E8-FFF3D51F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2730-7450-413C-9712-10C04D3C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FE65-EEF2-44C2-8887-9BAFC5F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92A7-F8DD-42F7-A6C2-4C5F6165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8012-1248-45B0-9BEC-34D211F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A97D-AFDE-401D-9244-56A5A9D48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E307-6A49-4E53-9E42-B422F5A614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moting the Bes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ie Pham,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80880" y="1488960"/>
            <a:ext cx="83822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Social 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’s hard to BF in public with people watching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don’t want to see [women feeding her baby]…something you do in private…it shocked me because I’ve never seen that, no in public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the hospital…I didn’t really know whether I wanted to BF or not, so they just went ahead and right away gave him the bottl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ing Role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didn’t know what was going on with my breast and milk and things like that. I really didn’t know too much so I just stopped. I asked my mother-in-law but she didn’t know. 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Supportive Working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work, so I can’t BF. I don’t have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have to stay home, you can’t go anywhere or do anything els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on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nful, Sore nip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ceived inadequate milk supp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rnal fat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or breastfeeding exper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gative attitu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ent immigrants vs US born/Years in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c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personal support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T a barri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wareness/Knowl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F is healthier for the baby…babies get less sick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Babies] grow faster and fatter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felt [my baby] close to me… I bonded a lot better with her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”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makes babies healthier less cranky, and they get fewer earaches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ained more “vitamins” than formula; babies are sm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F “because I could lose weight faster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uterus shrinks up faster when B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ints of Influ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838080" y="1278000"/>
            <a:ext cx="76201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s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econception/Interconcep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ledge development and plan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th contr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ual vis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portunity to provide benefits, address misconceptions or concerns/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tenat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of high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quent clinic vis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ing behavior and health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seling on EBF correlates with higher rate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lp define intention to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ress counterforce: misconceptions, formula advertisements, et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inatal (Birth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when birthing process can affect initiation, duration and exclusivity of 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ies born in Baby-Friendly Hospitals are 28% more likely to EBF and 2x the rate of duration from 6-12w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studies show SVD babies  are 1.5x more likely to initiate EBF vs. C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ort states receiving epidurals have significance in earlier cessation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Goals for My Community Medicine Project to Promote Breastfee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Points of Influence to Promot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Barriers to Initiate and Continu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Clinical Experiences on Perceived Obstacles and Ways to Promot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inatal (Birth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Baby Friendly Hospitals: Ten Steps to Successful Breastfeed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Maintain a written BF policy that is routinely communicated to all staf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Train all staff skills necessary to implement policy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Inform all pregnant mom about benefits and management of B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Help moms initiate BF w/in 1 hr of birth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Show moms how to BF and maintain lactation, even if mom/baby are separted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Give babies no food or drink other than breastmilk, unless medically indicated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Practice “rooming-in” for 24hrs a day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Encourage unrestricted B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Give no pacifiers or artificial nipples to BF babie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Foster the establishment of BF support groups and refer moms on D/C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mediate Postpartu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eriod is highly associated with initation and duration of 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ing relationship with mother and inf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come factors that can interrupt immediate BF: immediate BF, skin-to-skin 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lemental formula without indica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unsuccessful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use of pacif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F counsel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eater effect on EB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ys 3-1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k “comes i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after dischar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ablishing routi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her-Infant bo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/Friends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 contact with medical profession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s, conc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equate wt gain, Milk insufficiency, BF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y 12 – Week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te of EBF drops significantly during this time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 mother/baby intera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fficiency of milk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 to societal n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ning to return to wo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eeks 6 – 12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tenance of sufficient milk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conception of supplemental food by 3 months of 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perception that formula = breast mi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tational Amenorrhea 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ption will not occur 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6 w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quent infant suckl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ppression of ovul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lay the return of menses in postpartum peri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9.5% effective with perfect use; 98% with typical use during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6 w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urning to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nths 4 -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tical period in continuation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op-off in rates of EB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perception of infants’ nutritional ne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to social influences and health worker inpu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work - 80% return to 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y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 Your Exper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points of influence you’ve used to promote BF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barriers from your exper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ave a great day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ty Medicine Proj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st is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part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terature Re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firm with Medical Professionals and Mot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ysis and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y People 2010 Go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tion – 7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6 months – 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12 months – 2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erican Academy of Pediatrics Recommend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sively breastfeeding for 6 mon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 with appropriate food through first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lu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: breast milk from the mother or a wet nurse, or expressed breat milk and no other liquids or solid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ted immediately after bi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til 6 mos of life and continue up to 2 y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lement breast milk with formu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of 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nf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risk of infectious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e nutrition for growth and hyd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mental and psychosocial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chronic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SIDS and tooth dec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risk of chronic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lp with recovery after bir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sychosocial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of 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Famil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ier infa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 health care expen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 time off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food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c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ved $ 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– nearly 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0’s – rise in popularity of artificial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Early 1970’s – 25% initiated; 5% at 6 mont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ing 1970’s – increase rate and d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medically intru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natural bi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98 – All time high of 64.3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pidemiology</a:t>
            </a:r>
            <a:br>
              <a:rPr sz="40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BF among women in the Maternal and Infant Health Assessment (2005-2006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0" y="2009880"/>
          <a:ext cx="457200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9880"/>
                    <a:ext cx="457200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4502160" y="2009880"/>
          <a:ext cx="4651200" cy="32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2160" y="2009880"/>
                    <a:ext cx="46512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9:11:38Z</dcterms:created>
  <dc:creator>Julie Thao Pham</dc:creator>
  <dc:description/>
  <dc:language>en-US</dc:language>
  <cp:lastModifiedBy>HCMARTINEZ</cp:lastModifiedBy>
  <dcterms:modified xsi:type="dcterms:W3CDTF">2009-12-18T20:53:43Z</dcterms:modified>
  <cp:revision>12</cp:revision>
  <dc:subject/>
  <dc:title>Breastfeeding is Best</dc:title>
</cp:coreProperties>
</file>