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CD2F-E554-483E-9134-BB7BAF84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063-EB53-41FC-AA99-94183F6E15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643-F858-4675-AB0A-58A94C6D3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social N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s: embarrassment, change lifestyle, not convenien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ed as a important factor in Surgeon General Report in 19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ula companies know this so they use it as a market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Focus group of low income mexican americans: lack supportive environment, embarassment about nursing in public, breastfeeding is restrictive and inconven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women make the re: BF without input from spouse. “I decided on my own. The only thing my husband said is ‘Watch your it’. Id ont want nobody seeing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pregnant women and new mother believe BF in public ws never appropr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women said bottle-feeeding was the only acceptable option for feeding a baby in public. A women did say that it’s better to pump before going out and take a bott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ck Suppor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medical authorities recommend breast milk and rate of initiation is high but rates for initiation and duration is 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ther it’s lacking support and encouragement at the stage of prenatal, perinatal or postna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hospitals still provide free formu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hers involved in WIC targeted breastfeeding education vs. routine prenatal education were more likely to breastfeed longer: 76 days vs. 30 day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I had [my baby] at the hospital, I wanted to BF, but I did not get no one who was going to teach me. And just me by myself, you know, I did it, and it was real painful. Because I didn’t know what I was doing and my breast was always hurting. I didn’t do it right, so I stopped doing it. And I think that if someone would have helped and showed me how to do it, I think I would have still been BF my son. I tried to, but I couldn’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 support network of women who have BF who support their BF decision are more likely to initiate and contine to B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income viet american: WIC BF counselor, friends, doctors most supportive and great influence to moehter’s deciding how to feed their baby. Surprisingly, nurses’ opinions were less impor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group: 67% of EBF and duration for people doing 6-visit vs. 50% 3-visit vs. 12% no counsel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just the availability of the program…but the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E2AE-DE69-4FF9-8CD7-A07EABC4E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394E-E0A8-48C9-8535-0D17EA558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E65B-5DFF-41DD-A43E-55FC026D77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A934-E06D-4343-B4EB-0DAAC6A66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F48F-A7CF-4AF6-A658-F58CF0DE56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FAC-5F40-4141-9DC1-113C9B1302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A51F-4FFF-41EC-BBA5-101D3BE37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5735-387E-4402-9A47-1231A95C9E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766-AF0D-4024-B390-8F9C0E747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EB7B-1321-43A9-98D7-F6F7AAB98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6B9-8B26-4C56-952D-3AA257A15B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356-924C-4DB4-A765-E4FDA1749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8460-FC20-4603-A21D-C0ADD3F4B3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114D-C4BE-41DA-B7D0-653873160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3F5A-2AD0-436B-9B6C-AFD41D0B8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B00E-3501-481E-AFB3-D81E3E8FC4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22B0-0523-4566-928B-B1372F8B2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A64-E035-4AA2-B498-1E7340D8C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6241-73D3-4F18-A6C4-4235B89B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3493-1622-4E1F-BF94-D340568A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2B2A-C54A-4C32-BDC7-9FA9BE46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9302-71A7-48C3-9E47-9BF9578A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4C95-E2F4-49EC-8A0E-511DB2B1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2DC-C6B6-4A91-AD87-B83C9E00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9CC5-F4FB-4827-A8E4-08B88425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B3CC-3B35-4144-BD6A-FD3E02F7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B0E2-0CCF-449A-B028-68124225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6D38-4993-45C4-A894-08A1EB1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F9DE-0417-4387-B368-7E7ECCC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F205-9805-49A9-8705-6D43A25F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84E8-D174-4B83-A421-66C92C6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9F9B-9FE5-4D63-BA68-04E9998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FE14-EAC5-42F6-9ECE-F655517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8403-0C99-4137-B6A1-976BDC3F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DDDC-1CA5-4D04-9EEF-57FA8435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D202-B0D4-4788-897F-9B85CD0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48D9-F774-41C2-8D90-D9B81E25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364D-4B44-4227-AB0F-E57A28B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16D1-F11B-4736-A89D-DF0BEF1D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B8D4-4423-4E0A-9D92-EB3B5E2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7499-9160-4264-B785-CC0EFF8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8C4F-78CB-4C20-B73F-F626B22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FD99-1A00-4CDF-A350-6C61716D7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2B8D-C246-4CB6-B6BF-F169C1F869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moting the Be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Pham,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80880" y="1488960"/>
            <a:ext cx="83822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Social 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’s hard to BF in public with people watching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on’t want to see [women feeding her baby]…something you do in private…it shocked me because I’ve never seen that, no in public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the hospital…I didn’t really know whether I wanted to BF or not, so they just went ahead and right away gave him the bottl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ing Role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idn’t know what was going on with my breast and milk and things like that. I really didn’t know too much so I just stopped. I asked my mother-in-law but she didn’t know. 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ive Working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ork, so I can’t BF. I don’t have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have to stay home, you can’t go anywhere or do anything els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on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nful, Sore nip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ceived inadequate milk su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nal fat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or breastfeeding exper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ative attitu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nt immigrants vs US born/Years in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personal support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 a barri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wareness/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is healthier for the baby…babies get less sick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Babies] grow faster and fatt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felt [my baby] close to me… I bonded a lot better with h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”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makes babies healthier less cranky, and they get fewer earaches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ined more “vitamins” than formula; babies are sm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“because I could lose weight faster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uterus shrinks up faster when B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ints of Influ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1278000"/>
            <a:ext cx="76201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s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conception/Interconcep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ledge development and pla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ual vis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portunity to provide benefits, address misconceptions or concerns/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enat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of high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quent clinic vis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ing behavior and health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seling on EBF correlates with higher rate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lp define intention to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 counterforce: misconceptions, formula advertisements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when birthing process can affect initiation, duration and exclusivity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ies born in Baby-Friendly Hospitals are 28% more likely to EBF and 2x the rate of duration from 6-12w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studies show SVD babies  are 1.5x more likely to initiate EBF vs. C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ort states receiving epidurals have significance in earlier cess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Goals for My Community Medicine Project to Promote Breastfee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Points of Influence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arriers to Initiate and Continu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Clinical Experiences on Perceived Obstacles and Ways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Baby Friendly Hospitals: Ten Steps to Successful Breastfeed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aintain a written BF policy that is routinely communicated to all staf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Train all staff skills necessary to implement polic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Inform all pregnant mom about benefits and management of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Help moms initiate BF w/in 1 hr of birth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Show moms how to BF and maintain lactation, even if mom/baby are separted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babies no food or drink other than breastmilk, unless medically indicated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Practice “rooming-in” for 24hrs a da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Encourage unrestricted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no pacifiers or artificial nipples to BF babi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Foster the establishment of BF support groups and refer moms on D/C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mediate Postpartu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eriod is highly associated with initation and duration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ing relationship with mother and inf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come factors that can interrupt immediate BF: immediate BF, skin-to-skin 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emental formula without indica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unsuccessful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use of pacif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F counsel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eater effect on EB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s 3-1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“comes i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after dischar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ing rout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her-Infant bo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/Friends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 contact with medical professio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s, conc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wt gain, Milk insufficiency, BF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 12 – Week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te of EBF drops significantly during this time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 mother/baby intera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fficiency of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 to societal n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ning to return to 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eks 6 – 1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tenance of sufficient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conception of supplemental food by 3 months of 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perception that formula = breast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tational Amenorrhea 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ption will not occur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quent infant suck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ppression of ovul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lay the return of menses in postpartum peri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9.5% effective with perfect use; 98% with typical use during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urning to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nths 4 -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period in continu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op-off in rates of EB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perception of infants’ nutritional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to social influences and health worker inpu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work - 80% return to 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y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 Your Exper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points of influence you’ve used to promote BF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barriers from your exper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ave a great day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ty Medicine Proj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st is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part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terature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firm with Medical Professionals and Mot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ysis and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y People 2010 Go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ion – 7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6 months – 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12 months – 2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erican Academy of Pediatrics Recommend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sively breastfeeding for 6 mon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 with appropriate food through first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lu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: breast milk from the mother or a wet nurse, or expressed breat milk and no other liquids or soli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ed immediately after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til 6 mos of life and continue up to 2 y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ement breast milk with formu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nf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risk of infectious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e nutrition for growth and hyd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mental and 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SIDS and tooth dec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risk of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lp with recovery after bir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Famil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ier infa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health care expen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time off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food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c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ved $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– nearly 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’s – rise in popularity of artificial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Early 1970’s – 25% initiated; 5% at 6 mont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ing 1970’s – increase rate and d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medically intru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natural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8 – All time high of 64.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pidemiology</a:t>
            </a:r>
            <a:br>
              <a:rPr sz="40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BF among women in the Maternal and Infant Health Assessment (2005-2006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0" y="2009880"/>
          <a:ext cx="457200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9880"/>
                    <a:ext cx="45720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4502160" y="2009880"/>
          <a:ext cx="4651200" cy="32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2160" y="2009880"/>
                    <a:ext cx="46512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11:38Z</dcterms:created>
  <dc:creator>Julie Thao Pham</dc:creator>
  <dc:description/>
  <dc:language>en-US</dc:language>
  <cp:lastModifiedBy>HCMARTINEZ</cp:lastModifiedBy>
  <dcterms:modified xsi:type="dcterms:W3CDTF">2009-12-18T20:53:43Z</dcterms:modified>
  <cp:revision>12</cp:revision>
  <dc:subject/>
  <dc:title>Breastfeeding is Best</dc:title>
</cp:coreProperties>
</file>