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777904-4C24-4597-BF39-3853E1AE31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58040587-2372-468D-B251-8423E7B1C6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406A9FDD-4B07-4FA6-9A90-5F9E61655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91FC33E5-1A2A-4BAF-97DA-283C030A44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6FD42C-5EAA-491B-9A4B-F11716F7E7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E014BBF5-BD2D-4410-9026-51A1DB9D2D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B0C0B907-2D89-4229-B3B4-0A8D3D00E9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469CA6E7-2A4D-4B36-AF43-FED68556FC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23442771-1AB5-402D-BEDD-38C2DA540B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F244FAE7-8FB2-4C65-8D1D-6E4A8EFB6E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1102525B-9287-4FDA-ABFE-4C162A8034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9F672FB-1B61-4AE5-B5BD-FD40A2DC9E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3E8476AD-49EE-4587-B4D4-CFDC6CE146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05091575-332B-4735-B0C5-4B259D5FBC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5E853728-E11B-4A80-8305-DA3A0FF93C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9030CE64-7D61-4CBD-8DD0-9B65A7110E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14D1C8DF-9FF4-44EC-963F-31A66C256D5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94562D8-C054-43DF-BD57-5D4CF1D58C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54B8281-623F-4E02-9358-960785E0D0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C6E5793-C9EB-4191-A3A8-DC4C9AD8B0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B95FEDF3-0DC0-46E3-9CD0-5443F8C9A7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B0734A9-382B-42E8-B630-360BAB6078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62E143-01B5-4959-8E28-EF6FDB84F3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2CEA6D7D-C737-4462-8E68-3A6DD6F55F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0F176E61-A65A-4F3A-AE2F-2694E58B91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FA668FAE-DC32-48A4-9F01-D08DEAD270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6EC82B07-F99F-4F62-9CF3-98C9AF45AF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15059007-C3A0-4CEC-90C6-4F7E28BF21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3"/>
          </p:nvPr>
        </p:nvSpPr>
        <p:spPr/>
        <p:txBody>
          <a:bodyPr/>
          <a:p>
            <a:fld id="{A96F141B-DAD3-4745-9321-6A14E59642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3"/>
          </p:nvPr>
        </p:nvSpPr>
        <p:spPr/>
        <p:txBody>
          <a:bodyPr/>
          <a:p>
            <a:fld id="{5770C399-46AB-4C52-870C-BD522AAA4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8B51BA6C-3A0A-41DC-B8E0-D23980426C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857DD47A-BAE3-4079-9494-EAF9E68710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2B005526-F850-4F73-9B49-F8E49655FE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30DF0471-2DF8-496B-8919-858C357328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F10862B8-DA4A-4F79-8249-9D882391F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A920B837-2E38-48E6-9236-0B5B7480C0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1"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2" name=""/>
          <p:cNvGrpSpPr/>
          <p:nvPr/>
        </p:nvGrpSpPr>
        <p:grpSpPr>
          <a:xfrm>
            <a:off x="-48600" y="-234720"/>
            <a:ext cx="9232200" cy="1495080"/>
            <a:chOff x="-48600" y="-234720"/>
            <a:chExt cx="9232200" cy="1495080"/>
          </a:xfrm>
        </p:grpSpPr>
        <p:sp>
          <p:nvSpPr>
            <p:cNvPr id="3"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6"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7" name="PlaceHolder 3"/>
          <p:cNvSpPr>
            <a:spLocks noGrp="1"/>
          </p:cNvSpPr>
          <p:nvPr>
            <p:ph type="sldNum" idx="1"/>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67E1-4735-419D-BF5F-A22D1E378B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5"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46" name=""/>
          <p:cNvGrpSpPr/>
          <p:nvPr/>
        </p:nvGrpSpPr>
        <p:grpSpPr>
          <a:xfrm>
            <a:off x="-48600" y="-234720"/>
            <a:ext cx="9232200" cy="1495080"/>
            <a:chOff x="-48600" y="-234720"/>
            <a:chExt cx="9232200" cy="1495080"/>
          </a:xfrm>
        </p:grpSpPr>
        <p:sp>
          <p:nvSpPr>
            <p:cNvPr id="47"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8"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4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51" name="PlaceHolder 3"/>
          <p:cNvSpPr>
            <a:spLocks noGrp="1"/>
          </p:cNvSpPr>
          <p:nvPr>
            <p:ph type="sldNum" idx="2"/>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D911-683C-4499-B28E-950EB7DF4E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89"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90" name=""/>
          <p:cNvGrpSpPr/>
          <p:nvPr/>
        </p:nvGrpSpPr>
        <p:grpSpPr>
          <a:xfrm>
            <a:off x="-48600" y="-234720"/>
            <a:ext cx="9232200" cy="1495080"/>
            <a:chOff x="-48600" y="-234720"/>
            <a:chExt cx="9232200" cy="1495080"/>
          </a:xfrm>
        </p:grpSpPr>
        <p:sp>
          <p:nvSpPr>
            <p:cNvPr id="91"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92"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93" name="PlaceHolder 1"/>
          <p:cNvSpPr>
            <a:spLocks noGrp="1"/>
          </p:cNvSpPr>
          <p:nvPr>
            <p:ph type="title"/>
          </p:nvPr>
        </p:nvSpPr>
        <p:spPr>
          <a:xfrm>
            <a:off x="533520" y="0"/>
            <a:ext cx="7850160" cy="32004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94" name="PlaceHolder 2"/>
          <p:cNvSpPr>
            <a:spLocks noGrp="1"/>
          </p:cNvSpPr>
          <p:nvPr>
            <p:ph type="body"/>
          </p:nvPr>
        </p:nvSpPr>
        <p:spPr>
          <a:xfrm>
            <a:off x="533160" y="3227040"/>
            <a:ext cx="7853400" cy="3467160"/>
          </a:xfrm>
          <a:prstGeom prst="rect">
            <a:avLst/>
          </a:prstGeom>
          <a:noFill/>
          <a:ln w="0">
            <a:noFill/>
          </a:ln>
        </p:spPr>
        <p:txBody>
          <a:bodyPr lIns="0" rIns="0" tIns="0" bIns="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95" name="PlaceHolder 3"/>
          <p:cNvSpPr>
            <a:spLocks noGrp="1"/>
          </p:cNvSpPr>
          <p:nvPr>
            <p:ph type="sldNum" idx="3"/>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22BE-3197-4822-A70F-CE5AE9D257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de1ea"/>
                </a:solidFill>
                <a:latin typeface="Trebuchet MS Bold"/>
                <a:ea typeface="Trebuchet MS Bold"/>
              </a:rPr>
              <a:t>Breastfeeding Pearls</a:t>
            </a:r>
            <a:endParaRPr b="0" lang="en-US" sz="5600" spc="-1" strike="noStrike">
              <a:solidFill>
                <a:srgbClr val="000000"/>
              </a:solidFill>
              <a:latin typeface="Arial"/>
            </a:endParaRPr>
          </a:p>
        </p:txBody>
      </p:sp>
      <p:sp>
        <p:nvSpPr>
          <p:cNvPr id="133" name="PlaceHolder 2"/>
          <p:cNvSpPr>
            <a:spLocks noGrp="1"/>
          </p:cNvSpPr>
          <p:nvPr>
            <p:ph/>
          </p:nvPr>
        </p:nvSpPr>
        <p:spPr>
          <a:xfrm>
            <a:off x="533160" y="3227400"/>
            <a:ext cx="7853400" cy="1752480"/>
          </a:xfrm>
          <a:prstGeom prst="rect">
            <a:avLst/>
          </a:prstGeom>
          <a:noFill/>
          <a:ln w="0">
            <a:noFill/>
          </a:ln>
        </p:spPr>
        <p:txBody>
          <a:bodyPr lIns="0" rIns="0" tIns="0" bIns="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August 17</a:t>
            </a:r>
            <a:r>
              <a:rPr b="0" lang="en-US" sz="2600" spc="-1" strike="noStrike" baseline="30000">
                <a:solidFill>
                  <a:srgbClr val="ffffff"/>
                </a:solidFill>
                <a:latin typeface="Palatino"/>
                <a:ea typeface="Palatino"/>
              </a:rPr>
              <a:t>th</a:t>
            </a:r>
            <a:r>
              <a:rPr b="0" lang="en-US" sz="2600" spc="-1" strike="noStrike">
                <a:solidFill>
                  <a:srgbClr val="ffffff"/>
                </a:solidFill>
                <a:latin typeface="Palatino"/>
                <a:ea typeface="Palatino"/>
              </a:rPr>
              <a:t>, 2017</a:t>
            </a:r>
            <a:endParaRPr b="0" lang="en-US" sz="26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Jamie Boudreau MD,IBCLC</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irst 24 hours</a:t>
            </a:r>
            <a:endParaRPr b="0" lang="en-US" sz="5000" spc="-1" strike="noStrike">
              <a:solidFill>
                <a:srgbClr val="000000"/>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s commonly are very sleepy which is the reason to get the first breastfeed in the first hour</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f mother and infant are separated very important to start manual expression to collect colostrum to give or save for infan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Consider early pumping if suspected long separation of mother and infant but hand expression is much better for removing colostrum and less traumatic to the breas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 should remain skin to skin with mother as much as possible</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So important that correct latching happens at this time to prevent nipple trauma!</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Second 24 hours</a:t>
            </a:r>
            <a:endParaRPr b="0" lang="en-US" sz="5000" spc="-1" strike="noStrike">
              <a:solidFill>
                <a:srgbClr val="000000"/>
              </a:solidFill>
              <a:latin typeface="Arial"/>
            </a:endParaRPr>
          </a:p>
        </p:txBody>
      </p:sp>
      <p:sp>
        <p:nvSpPr>
          <p:cNvPr id="15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Some babies will want to nurse continuously.  Does not mean the mother doesn’t have enough milk.</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rrecting latch issues is imperative to prevent nipple trauma</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renotomy is a simple procedure done by the pediatricians to improve tongue movement (if already discharged can refer to denti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reasts still will not feel full as they are still producing colostrum </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ay 3-4 </a:t>
            </a:r>
            <a:r>
              <a:rPr b="0" lang="en-US" sz="4800" spc="-1" strike="noStrike">
                <a:solidFill>
                  <a:srgbClr val="04617b"/>
                </a:solidFill>
                <a:latin typeface="Trebuchet MS"/>
                <a:ea typeface="Trebuchet MS"/>
              </a:rPr>
              <a:t>(can be longer)</a:t>
            </a:r>
            <a:endParaRPr b="0" lang="en-US" sz="4800" spc="-1" strike="noStrike">
              <a:solidFill>
                <a:srgbClr val="000000"/>
              </a:solidFill>
              <a:latin typeface="Arial"/>
            </a:endParaRPr>
          </a:p>
        </p:txBody>
      </p:sp>
      <p:sp>
        <p:nvSpPr>
          <p:cNvPr id="15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ture milk comes i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despite the breast being full of milk the swelling prevents the milk from emptying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 reduces the edema in the nipple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ssa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 then hea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ccessory breast tissue</a:t>
            </a:r>
            <a:endParaRPr b="0" lang="en-US" sz="2600" spc="-1" strike="noStrike">
              <a:solidFill>
                <a:srgbClr val="000000"/>
              </a:solidFill>
              <a:latin typeface="Arial"/>
            </a:endParaRPr>
          </a:p>
        </p:txBody>
      </p:sp>
      <p:pic>
        <p:nvPicPr>
          <p:cNvPr id="158" name="image5.png" descr=""/>
          <p:cNvPicPr/>
          <p:nvPr/>
        </p:nvPicPr>
        <p:blipFill>
          <a:blip r:embed="rId2"/>
          <a:stretch/>
        </p:blipFill>
        <p:spPr>
          <a:xfrm>
            <a:off x="5353200" y="4008600"/>
            <a:ext cx="3333600" cy="2668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Ice Diaper</a:t>
            </a:r>
            <a:endParaRPr b="0" lang="en-US" sz="5000" spc="-1" strike="noStrike">
              <a:solidFill>
                <a:srgbClr val="000000"/>
              </a:solidFill>
              <a:latin typeface="Arial"/>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ake a clean newborn diaper and get it w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hen put in the freezer with a gentle c shap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its perfectly over the breast, isn’t too cold.</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reused</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Key concepts</a:t>
            </a:r>
            <a:endParaRPr b="0" lang="en-US" sz="5000" spc="-1" strike="noStrike">
              <a:solidFill>
                <a:srgbClr val="000000"/>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y empty breast makes milk fast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ull breast sends signals to slow down milk produc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requent removal of colostrum/milk in the first days leads to a greater milk supply later 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n one formula supplementation can affect milk supply and infant’s gut healt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rmula should be considered as a medication/last resort</a:t>
            </a: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ormula</a:t>
            </a:r>
            <a:endParaRPr b="0" lang="en-US" sz="5000" spc="-1" strike="noStrike">
              <a:solidFill>
                <a:srgbClr val="000000"/>
              </a:solidFill>
              <a:latin typeface="Arial"/>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irst 24 hours only medical indication for supplementation is hypoglycemia (can consider doing IVF instead of formula) </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a mother concerned about milk supply can instruct on hand expression and emphasize frequent removal of colostrum</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mother concerned about infant being fussy encourage skin to skin contact to calm infant</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ollow age specific guidelines for amounts</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Encourage paced bottle feeding (or more ideal give via syringe)</a:t>
            </a:r>
            <a:endParaRPr b="0" lang="en-US" sz="2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Common Problems</a:t>
            </a:r>
            <a:endParaRPr b="0" lang="en-US" sz="5000" spc="-1" strike="noStrike">
              <a:solidFill>
                <a:srgbClr val="000000"/>
              </a:solidFill>
              <a:latin typeface="Arial"/>
            </a:endParaRPr>
          </a:p>
        </p:txBody>
      </p:sp>
      <p:sp>
        <p:nvSpPr>
          <p:cNvPr id="166"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not gaining weight</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Either milk supply or milk transfer issue</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transfer-eval for tongue tie, poor tone, nipple anomaly</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supply-work to increase supply, supplement via SNS, syringe feeding or cup.  </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Jaundic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ischarge from the hospital</a:t>
            </a:r>
            <a:endParaRPr b="0" lang="en-US" sz="5000" spc="-1" strike="noStrike">
              <a:solidFill>
                <a:srgbClr val="000000"/>
              </a:solidFill>
              <a:latin typeface="Arial"/>
            </a:endParaRPr>
          </a:p>
        </p:txBody>
      </p:sp>
      <p:sp>
        <p:nvSpPr>
          <p:cNvPr id="168"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borns require frequent follow up as they often have not reached their weight nadir at dischar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other’s often have not had their mature milk come in and haven’t had to deal with engorgement y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 medications are prescribed (pharmacists are often counseling mothers not to breastfeed when taking common medications</a:t>
            </a:r>
            <a:endParaRPr b="0" lang="en-US" sz="2600" spc="-1" strike="noStrike">
              <a:solidFill>
                <a:srgbClr val="000000"/>
              </a:solidFill>
              <a:latin typeface="Arial"/>
            </a:endParaRPr>
          </a:p>
        </p:txBody>
      </p:sp>
      <p:sp>
        <p:nvSpPr>
          <p:cNvPr id="169"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C595-AADA-4D9B-A840-6529F89B97FE}"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Weight Gain</a:t>
            </a:r>
            <a:endParaRPr b="0" lang="en-US" sz="5000" spc="-1" strike="noStrike">
              <a:solidFill>
                <a:srgbClr val="000000"/>
              </a:solidFill>
              <a:latin typeface="Arial"/>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oal is to regain birthweight by 2 weeks of age but normally soon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Weight loss &gt;9% needs careful feeding plan but not necessarily automatic formula supplementa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up infant until clear weight gain (term 30gm/day) on a sustainable feeding pla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ailure to gain weight with adequate milk supply/intake needs further workup</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ngorgement</a:t>
            </a:r>
            <a:endParaRPr b="0" lang="en-US" sz="5000" spc="-1" strike="noStrike">
              <a:solidFill>
                <a:srgbClr val="000000"/>
              </a:solidFill>
              <a:latin typeface="Arial"/>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Heat to stimulate flow</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is the best pump but need to sometime relieve some of the pressure to soften breast so infant can latc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nsider hospital grade pump (CCHP vs MediCal)</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Objectives</a:t>
            </a:r>
            <a:endParaRPr b="0" lang="en-US" sz="5000" spc="-1" strike="noStrike">
              <a:solidFill>
                <a:srgbClr val="000000"/>
              </a:solidFill>
              <a:latin typeface="Arial"/>
            </a:endParaRPr>
          </a:p>
        </p:txBody>
      </p:sp>
      <p:sp>
        <p:nvSpPr>
          <p:cNvPr id="13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normal pattern of human lactation and infant feed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10 principles of a Baby Friendly Hospital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roubleshoot common lactation problems/concern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unsel a lactating mother on risk of medication us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Learn techniques to teach mothers manual (hand) expression</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Tongue Tie as an Outpatient</a:t>
            </a:r>
            <a:endParaRPr b="0" lang="en-US" sz="5000" spc="-1" strike="noStrike">
              <a:solidFill>
                <a:srgbClr val="000000"/>
              </a:solidFill>
              <a:latin typeface="Arial"/>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call Peds on call to see if appropriate to do in the nurser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ll dentist to schedule frenotomy</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Jaundice</a:t>
            </a:r>
            <a:endParaRPr b="0" lang="en-US" sz="5000" spc="-1" strike="noStrike">
              <a:solidFill>
                <a:srgbClr val="000000"/>
              </a:solidFill>
              <a:latin typeface="Arial"/>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Does not need formula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courage frequent feed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infant until trending down</a:t>
            </a:r>
            <a:endParaRPr b="0" lang="en-US" sz="2600" spc="-1" strike="noStrike">
              <a:solidFill>
                <a:srgbClr val="000000"/>
              </a:solidFill>
              <a:latin typeface="Arial"/>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difference between breastfeeding jaundice and breast milk jaundice</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500" spc="-1" strike="noStrike">
                <a:solidFill>
                  <a:srgbClr val="04617b"/>
                </a:solidFill>
                <a:latin typeface="Trebuchet MS"/>
                <a:ea typeface="Trebuchet MS"/>
              </a:rPr>
              <a:t>Baby Friendly Hospital Initiative</a:t>
            </a:r>
            <a:endParaRPr b="0" lang="en-US" sz="4500" spc="-1" strike="noStrike">
              <a:solidFill>
                <a:srgbClr val="000000"/>
              </a:solidFill>
              <a:latin typeface="Arial"/>
            </a:endParaRPr>
          </a:p>
        </p:txBody>
      </p:sp>
      <p:sp>
        <p:nvSpPr>
          <p:cNvPr id="17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1. Have a written breastfeeding policy</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2. Train all health care staff</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3. Inform all pregnant wome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4. Help mother initiate breastfeeding in the first hour of life</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5. Show mothers how to breastfe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6. Given infants no food or drink other than breastmilk unless medically indicat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Practice rooming i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Encourage breastfeeding on deman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Given no pacifiers or artificial nipples</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Foster establishment of breastfeeding support groups</a:t>
            </a: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 </a:t>
            </a:r>
            <a:r>
              <a:rPr b="0" lang="en-US" sz="5000" spc="-1" strike="noStrike">
                <a:solidFill>
                  <a:srgbClr val="04617b"/>
                </a:solidFill>
                <a:latin typeface="Trebuchet MS"/>
                <a:ea typeface="Trebuchet MS"/>
              </a:rPr>
              <a:t>Several different areas</a:t>
            </a:r>
            <a:endParaRPr b="0" lang="en-US" sz="5000" spc="-1" strike="noStrike">
              <a:solidFill>
                <a:srgbClr val="000000"/>
              </a:solidFill>
              <a:latin typeface="Arial"/>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renatal providers-discuss feeding plan with mother, give teaching, identify any potential barriers to successful breastfeeding (breast surgery, previous failure, medications etc)</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trapartum-limit unnecessary interventions, protect that first breastfeeding session</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ostpartum-encourage skin to skin, prevent problems (good latch good latch good latch!)</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linic-support breastfeeding, ask for assistance before rec formul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4617b"/>
                </a:solidFill>
                <a:latin typeface="Trebuchet MS"/>
                <a:ea typeface="Trebuchet MS"/>
              </a:rPr>
              <a:t>Medications while Breastfeeding</a:t>
            </a:r>
            <a:endParaRPr b="0" lang="en-US" sz="4400" spc="-1" strike="noStrike">
              <a:solidFill>
                <a:srgbClr val="000000"/>
              </a:solidFill>
              <a:latin typeface="Arial"/>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Majority of Medications are safe </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Use LactMed to see relevant studies</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Very helpful to document discussion with mother about breastfeeding with her current medications while before coming so there is not confusion</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Be aware that some pharmacists counsel patients erroneously that the medication is not safe while breastfeeding leading either to medication noncompliance or an unnecessary break if breastfeeding</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xample: Dilantin</a:t>
            </a:r>
            <a:endParaRPr b="0" lang="en-US" sz="5000" spc="-1" strike="noStrike">
              <a:solidFill>
                <a:srgbClr val="000000"/>
              </a:solidFill>
              <a:latin typeface="Arial"/>
            </a:endParaRPr>
          </a:p>
        </p:txBody>
      </p:sp>
      <p:sp>
        <p:nvSpPr>
          <p:cNvPr id="18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indent="0">
              <a:lnSpc>
                <a:spcPct val="90000"/>
              </a:lnSpc>
              <a:spcBef>
                <a:spcPts val="49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Because of the low levels of phenytoin in breastmilk, amounts ingested by the infant are small and usually cause no difficulties in breastfed infants when used alone except for rare idiosyncratic reactions. Breastfeeding during phenytoin monotherapy does not appear to adversely affect infant growth or development, and breastfed infants had slightly higher IQs and enhanced verbal abilities than nonbreastfed infants at 6 years of age in one study.[1] Combination therapy with sedating anticonvulsants or psychotropics may result in infant sedation or withdrawal reactions. In one case report, maternal phenytoin dosage requirements decreased as breastfeeding was discontinued.[2]</a:t>
            </a: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800" spc="-1" strike="noStrike">
                <a:solidFill>
                  <a:srgbClr val="04617b"/>
                </a:solidFill>
                <a:latin typeface="Trebuchet MS"/>
                <a:ea typeface="Trebuchet MS"/>
              </a:rPr>
              <a:t>Absolute contraindications to Breastfeeding</a:t>
            </a:r>
            <a:endParaRPr b="0" lang="en-US" sz="3800" spc="-1" strike="noStrike">
              <a:solidFill>
                <a:srgbClr val="000000"/>
              </a:solidFill>
              <a:latin typeface="Arial"/>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IV in the developed world</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HSV of the breast</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TLV</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Radioisotope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hemotherapy drug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fant galactosemia</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untreated TB</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drug use (Meth, Cocaine, Heroin  THC controversial)</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4500" spc="-1" strike="noStrike">
                <a:solidFill>
                  <a:srgbClr val="04617b"/>
                </a:solidFill>
                <a:latin typeface="Trebuchet MS"/>
                <a:ea typeface="Trebuchet MS"/>
              </a:rPr>
              <a:t>Skills Lab for Manual Expression</a:t>
            </a:r>
            <a:endParaRPr b="0" lang="en-US" sz="4500" spc="-1" strike="noStrike">
              <a:solidFill>
                <a:srgbClr val="000000"/>
              </a:solidFill>
              <a:latin typeface="Arial"/>
            </a:endParaRPr>
          </a:p>
        </p:txBody>
      </p:sp>
      <p:sp>
        <p:nvSpPr>
          <p:cNvPr id="18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ry mother should know how to do hand express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rease milk supply when pumping (Hands on Pump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tter than pump for removing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done antenatally</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Practice Time!</a:t>
            </a:r>
            <a:endParaRPr b="0" lang="en-US" sz="5000" spc="-1" strike="noStrike">
              <a:solidFill>
                <a:srgbClr val="000000"/>
              </a:solidFill>
              <a:latin typeface="Arial"/>
            </a:endParaRPr>
          </a:p>
        </p:txBody>
      </p:sp>
      <p:sp>
        <p:nvSpPr>
          <p:cNvPr id="191" name="PlaceHolder 2"/>
          <p:cNvSpPr>
            <a:spLocks noGrp="1"/>
          </p:cNvSpPr>
          <p:nvPr>
            <p:ph/>
          </p:nvPr>
        </p:nvSpPr>
        <p:spPr>
          <a:xfrm>
            <a:off x="457200" y="1934640"/>
            <a:ext cx="8229600" cy="438948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Questions?</a:t>
            </a:r>
            <a:endParaRPr b="0" lang="en-US" sz="5000" spc="-1" strike="noStrike">
              <a:solidFill>
                <a:srgbClr val="000000"/>
              </a:solidFill>
              <a:latin typeface="Arial"/>
            </a:endParaRPr>
          </a:p>
        </p:txBody>
      </p:sp>
      <p:sp>
        <p:nvSpPr>
          <p:cNvPr id="193"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D9BA-3D24-4C54-8DDA-2D20268F4742}"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3440"/>
            <a:ext cx="8229600" cy="280008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feeding is the biological norm for infant feeding</a:t>
            </a:r>
            <a:endParaRPr b="0" lang="en-US" sz="5000" spc="-1" strike="noStrike">
              <a:solidFill>
                <a:srgbClr val="000000"/>
              </a:solidFill>
              <a:latin typeface="Arial"/>
            </a:endParaRPr>
          </a:p>
        </p:txBody>
      </p:sp>
      <p:pic>
        <p:nvPicPr>
          <p:cNvPr id="137" name="image2.png" descr=""/>
          <p:cNvPicPr/>
          <p:nvPr/>
        </p:nvPicPr>
        <p:blipFill>
          <a:blip r:embed="rId2"/>
          <a:stretch/>
        </p:blipFill>
        <p:spPr>
          <a:xfrm>
            <a:off x="2514600" y="3505320"/>
            <a:ext cx="4097160" cy="3068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Mammary Line?</a:t>
            </a:r>
            <a:endParaRPr b="0" lang="en-US" sz="5000" spc="-1" strike="noStrike">
              <a:solidFill>
                <a:srgbClr val="000000"/>
              </a:solidFill>
              <a:latin typeface="Arial"/>
            </a:endParaRPr>
          </a:p>
        </p:txBody>
      </p:sp>
      <p:sp>
        <p:nvSpPr>
          <p:cNvPr id="196"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roin to axilla and inner ar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umbilicus to upper outer brea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ipples to tail of Spenc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the breast out to the axilla?</a:t>
            </a:r>
            <a:endParaRPr b="0" lang="en-US" sz="2600" spc="-1" strike="noStrike">
              <a:solidFill>
                <a:srgbClr val="000000"/>
              </a:solidFill>
              <a:latin typeface="Arial"/>
            </a:endParaRPr>
          </a:p>
        </p:txBody>
      </p:sp>
      <p:sp>
        <p:nvSpPr>
          <p:cNvPr id="197"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3577-2F1B-491D-97DA-382F375D22BC}"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C05C-1A4C-42D3-B1C1-CF1CE55E30BC}"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pic>
        <p:nvPicPr>
          <p:cNvPr id="201" name="pasted-image.tif" descr=""/>
          <p:cNvPicPr/>
          <p:nvPr/>
        </p:nvPicPr>
        <p:blipFill>
          <a:blip r:embed="rId2"/>
          <a:stretch/>
        </p:blipFill>
        <p:spPr>
          <a:xfrm>
            <a:off x="1774800" y="433440"/>
            <a:ext cx="5894280" cy="5989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un Lactation topics</a:t>
            </a:r>
            <a:endParaRPr b="0" lang="en-US" sz="5000" spc="-1" strike="noStrike">
              <a:solidFill>
                <a:srgbClr val="000000"/>
              </a:solidFill>
              <a:latin typeface="Arial"/>
            </a:endParaRPr>
          </a:p>
        </p:txBody>
      </p:sp>
      <p:sp>
        <p:nvSpPr>
          <p:cNvPr id="203"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tenatal Expression of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ilk bank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duced Lactation</a:t>
            </a:r>
            <a:endParaRPr b="0" lang="en-US" sz="2600" spc="-1" strike="noStrike">
              <a:solidFill>
                <a:srgbClr val="000000"/>
              </a:solidFill>
              <a:latin typeface="Arial"/>
            </a:endParaRPr>
          </a:p>
        </p:txBody>
      </p:sp>
      <p:sp>
        <p:nvSpPr>
          <p:cNvPr id="20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76E5-805C-45EC-9A83-712B8B0DE5FE}"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Pregnancy</a:t>
            </a:r>
            <a:endParaRPr b="0" lang="en-US" sz="5000" spc="-1" strike="noStrike">
              <a:solidFill>
                <a:srgbClr val="000000"/>
              </a:solidFill>
              <a:latin typeface="Arial"/>
            </a:endParaRPr>
          </a:p>
        </p:txBody>
      </p:sp>
      <p:sp>
        <p:nvSpPr>
          <p:cNvPr id="139" name="PlaceHolder 2"/>
          <p:cNvSpPr>
            <a:spLocks noGrp="1"/>
          </p:cNvSpPr>
          <p:nvPr>
            <p:ph/>
          </p:nvPr>
        </p:nvSpPr>
        <p:spPr>
          <a:xfrm>
            <a:off x="457200" y="1934640"/>
            <a:ext cx="8229600" cy="4389480"/>
          </a:xfrm>
          <a:prstGeom prst="rect">
            <a:avLst/>
          </a:prstGeom>
          <a:noFill/>
          <a:ln w="0">
            <a:noFill/>
          </a:ln>
        </p:spPr>
        <p:txBody>
          <a:bodyPr lIns="45720" rIns="45720" anchor="t">
            <a:normAutofit fontScale="98000"/>
          </a:bodyPr>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lostrum is present as early as 16 week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re is already colostrum in the breast when the mother delivers (mothers always concerned about not enough milk)</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 lack of any breast changes during pregnancy is concerning (normal pattern is soreness followed by an increase in breast size, change in consistency (more lumpy), dilation of veins on the chest and darkening of the areola)</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Very important to identify any potential risks of breastfeeding problems/supplementation including previous failure of breastfeeding, breast surgery, obesity, diabetes and medication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unsel mother using recreational drugs on risk while breastfeeding (yes this means THC)</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Surgery</a:t>
            </a:r>
            <a:endParaRPr b="0" lang="en-US" sz="5000" spc="-1" strike="noStrike">
              <a:solidFill>
                <a:srgbClr val="000000"/>
              </a:solidFill>
              <a:latin typeface="Arial"/>
            </a:endParaRPr>
          </a:p>
        </p:txBody>
      </p:sp>
      <p:sp>
        <p:nvSpPr>
          <p:cNvPr id="14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 cases on unilateral mastectomy the remaining breast can usually produce sufficient milk for the bab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isions closer to the nipple carry greater risk of affecting breastfeeding (innervation and interrupting duct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mplants not a contraindication to breastfeeding but need careful monitoring (more at risk of engorgement, decreased milk supply, problems related to incisions near the nipple)</a:t>
            </a:r>
            <a:endParaRPr b="0" lang="en-US" sz="2600" spc="-1" strike="noStrike">
              <a:solidFill>
                <a:srgbClr val="000000"/>
              </a:solidFill>
              <a:latin typeface="Arial"/>
            </a:endParaRPr>
          </a:p>
        </p:txBody>
      </p:sp>
      <p:sp>
        <p:nvSpPr>
          <p:cNvPr id="142"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24E6-07D1-4F7D-BA88-3B66C644CECD}"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Exam during the Third Trimester</a:t>
            </a:r>
            <a:endParaRPr b="0" lang="en-US" sz="5000" spc="-1" strike="noStrike">
              <a:solidFill>
                <a:srgbClr val="000000"/>
              </a:solidFill>
              <a:latin typeface="Arial"/>
            </a:endParaRPr>
          </a:p>
        </p:txBody>
      </p:sp>
      <p:sp>
        <p:nvSpPr>
          <p:cNvPr id="144"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Excellent time to do another breast exam</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an evaluate for breast changes or potential barriers to successful breastfeeding-document any abnormal findings</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onsider carefully how you counsel a mother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However the best thing to say to every mother is “Your breasts are perfect for feeding your baby!”</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Great time to teach manual expression!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If a mother is committed to bottle-feeding good time to document and advise her how to handle engorgement</a:t>
            </a:r>
            <a:endParaRPr b="0" lang="en-US" sz="2500" spc="-1" strike="noStrike">
              <a:solidFill>
                <a:srgbClr val="000000"/>
              </a:solidFill>
              <a:latin typeface="Arial"/>
            </a:endParaRPr>
          </a:p>
        </p:txBody>
      </p:sp>
      <p:sp>
        <p:nvSpPr>
          <p:cNvPr id="145"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AAB8-6DE3-4153-917C-0DD54ECEA043}"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Labor</a:t>
            </a:r>
            <a:endParaRPr b="0" lang="en-US" sz="5000" spc="-1" strike="noStrike">
              <a:solidFill>
                <a:srgbClr val="000000"/>
              </a:solidFill>
              <a:latin typeface="Arial"/>
            </a:endParaRPr>
          </a:p>
        </p:txBody>
      </p:sp>
      <p:sp>
        <p:nvSpPr>
          <p:cNvPr id="14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cess IV fluids can cause breast edema which negatively impacts breastfeeding</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Can teach a mother hand expression before baby is born (collect any colostrum to give to baby afterwards)</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plain that the baby only needs a small amount of colostrum in the first couple days, breasts will not feel full</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Document clearly mother’s feeding plan</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Make breastfeeding the goal in the first hour of life before any unnecessary interventions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9" name="image3.jpg" descr=""/>
          <p:cNvPicPr/>
          <p:nvPr/>
        </p:nvPicPr>
        <p:blipFill>
          <a:blip r:embed="rId2"/>
          <a:stretch/>
        </p:blipFill>
        <p:spPr>
          <a:xfrm>
            <a:off x="223920" y="380880"/>
            <a:ext cx="8501040" cy="533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51" name="image4.jpg" descr=""/>
          <p:cNvPicPr/>
          <p:nvPr/>
        </p:nvPicPr>
        <p:blipFill>
          <a:blip r:embed="rId2"/>
          <a:stretch/>
        </p:blipFill>
        <p:spPr>
          <a:xfrm>
            <a:off x="1371600" y="304920"/>
            <a:ext cx="6477120" cy="636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