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B8CC1-59C3-4CF0-867F-D391C66EF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DD03E-FFDF-4459-ACE8-62B3BF13F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A168C-1E41-41B4-9805-4C99989FE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B7CB0-2F98-4CDC-9A26-95D365959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3B828-CB28-4739-8004-69A5D0526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BE60A-6D2C-4C3B-BB9A-F6E8C2A81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E5111-EFC0-4722-A185-335CF9B98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55FD3-0327-4605-9102-0F03FC08A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30CF9-E9B5-4465-AB8B-BB2E241B5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9E420-7A11-4F74-B543-9945F85D0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EA2C5-1140-4922-9BE8-C9B4FCE5D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30C45-CD4A-4516-A742-1633C153C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9663F-A377-4E42-B9D0-C891F8B5F5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sics of outpatient depression manag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ris Zamani M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tidepressa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Gen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S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N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de eff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itteriness, restlessness, headache, GI Sx, insomnia, sexual side effects, weight gain (SSR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NRI has similar profile to SSRI with additional reports of cardiac effects, impairment of glycemic control and liver failure in preexisting liver dis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tidepressa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proprion has less weight gain and sexual side eff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rtazapine causes more weight gain than SSR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llow-u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nitor patient every 1-2 weeks for the first 8 weeks after initiating therap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HQ-9 can be used as a monitoring to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rease dose if there is no response after 2 wee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ial of a different agent if no response at maximum dose for 8 wee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llow-u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tial responders can be switched to another SSRI, SNRI or buproprion or augmented with buproprion or buspir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two SSRI are ineffective then chamge to a different cla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eatment du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fter a first episode medication should be taken for at least 6 to 9 month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nger duration for those with multiple recurre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continue meds with a 2 to 4 week tap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patients with known psychosocial precipitants of depression treatment should continue until these underlying factors are eliminated or adapted 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ur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on, W. and Ciechanowski, 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itial treatment of depression in adults”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 To Date online 200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pidemiolog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fetime prevalence of major depression in the U.S. in 2001 was 16.2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valence increases to as much as 20% in patients with a major medical illnes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urrence and Recove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fter one episode the rate of recurrence is 40% over a two year peri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fter two episodes the rate is 75% after five yea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0-30% of patients will have incomplete reco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itial evalu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 and 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ropriate lab tests to rule out possible medical etiolo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reen for suicidal ide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reen for severe depression (significant distress or decrease in function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tinguish between unipolar and bipolar depress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sessment to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ine item patient health questionaire  (PHQ-9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score above 20 indicates severe depres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used to measure response to therap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n-medical interven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likely to be effective in those with minimal sympto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laxation techniq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erci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itive activ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sychotherapy (referral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response after 12 weeks is an indication to start pharmacologic therap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harmacologic manag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to three week lag before symptom relief begi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rly side eff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rvousness, headache, stomach up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gularly scheduled office visits during initi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oals of treatment are symptom remis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harmacologic manag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clear recommendations for specific antidepressants but guides for agent selection includ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the patient has been treated successfully by a particular drug in the pa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a first degree relative has had positive outcomes with a particular ag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de effect profile is tolerable by the pati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tidepressa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st Gen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O Inhibi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cyclic antidepressa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de eff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hanced sympathetic activity in the presence of tyramine-containing foods (MAO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ry mouth, blurred vision, constipation, urinary retention, tachycardia, confusion, delerium (TC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9T15:16:17Z</dcterms:created>
  <dc:creator>HCMARTINEZ</dc:creator>
  <dc:description/>
  <dc:language>en-US</dc:language>
  <cp:lastModifiedBy>HCMARTINEZ</cp:lastModifiedBy>
  <dcterms:modified xsi:type="dcterms:W3CDTF">2010-03-19T18:14:08Z</dcterms:modified>
  <cp:revision>3</cp:revision>
  <dc:subject/>
  <dc:title>Basics of outpatient depression management</dc:title>
</cp:coreProperties>
</file>