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0A6-0B93-4975-A9B8-B6DE706F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588-73D3-496A-A8A9-2BD3B5F4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5A0-6F94-47C5-94A9-AC435336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647-E558-44E0-A5C0-FE732FC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465-CC39-462C-849C-2DAD7F18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CB3-4A3D-400D-B17E-A9C7FD1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7E3-4542-4D1F-9B68-2C6D916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D98-CE74-427D-8B51-D58BF7EF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ECB-11F9-4522-BBC3-1E2B1633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22C-8474-4A71-9E5D-F604F4F3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178-3630-4842-96D9-FE34AFA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846-C588-4027-8BF5-2F16396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3723-15B8-4662-802C-391FAC35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 of outpatient depress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amani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iness, restlessness, headache, GI Sx, insomnia, sexual side effects, weight gain (SS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 has similar profile to SSRI with additional reports of cardiac effects, impairment of glycemic control and liver failure in preexisting liver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proprion has less weight gain and sexual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tazapine causes more weight gain than SS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patient every 1-2 weeks for the first 8 weeks after initiatin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Q-9 can be used as a monit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dose if there is no response after 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of a different agent if no response at maximum dose for 8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responders can be switched to another SSRI, SNRI or buproprion or augmented with buproprion or buspi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SRI are ineffective then chamge to a diffe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first episode medication should be taken for at least 6 to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for those with multiple re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e meds with a 2 to 4 week t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tients with known psychosocial precipitants of depression treatment should continue until these underlying factors are eliminated or adapted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on, W. and Ciechanowski, 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treatment of depression in adul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Date onli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prevalence of major depression in the U.S. in 2001 was 16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increases to as much as 20% in patients with a major medical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episode the rate of recurrence is 40% over a two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wo episodes the rate is 75% after five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30% of patients will have incomple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and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lab tests to rule out possible medical et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uicidal id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evere depression (significant distress or decrease in func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unipolar and bipolar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item patient health questionaire  (PHQ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ore above 20 indicates severe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response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edical 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 to be effective in those with minim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herapy (referr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ponse after 12 weeks is an indication to start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o three week lag before symptom relief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ness, headache, stomach up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ly scheduled office visits during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of treatment are symptom r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recommendations for specific antidepressants but guides for agent selection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has been treated successfully by a particular drug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irst degree relative has had positive outcomes with a particular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 profile is tolerable by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O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yclic 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ympathetic activity in the presence of tyramine-containing foods (MA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mouth, blurred vision, constipation, urinary retention, tachycardia, confusion, delerium (T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16:17Z</dcterms:created>
  <dc:creator>HCMARTINEZ</dc:creator>
  <dc:description/>
  <dc:language>en-US</dc:language>
  <cp:lastModifiedBy>HCMARTINEZ</cp:lastModifiedBy>
  <dcterms:modified xsi:type="dcterms:W3CDTF">2010-03-19T18:14:08Z</dcterms:modified>
  <cp:revision>3</cp:revision>
  <dc:subject/>
  <dc:title>Basics of outpatient depression management</dc:title>
</cp:coreProperties>
</file>