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1FCF-3F45-47F5-A045-7A13C099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D4C-575E-43D4-8945-CF6B662A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dding football and side-lying positions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eastfeeding Handbook for Physici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. 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5F0-9C4E-4CBF-9644-E826817F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414-D680-4903-88CA-0C0350F8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913-EEF2-4DEF-B311-B43D8ECE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672-F783-48A1-A2F0-B675EE3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ADD-1B36-4B57-A420-8F022D28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1A5-D38C-4F44-B816-576BA46E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82F-01B3-41B6-8BAB-C40F6CE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698-77D8-4C2A-B838-7635C26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F4B-B92F-4F13-82F8-E9226FFB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3F8-1F2A-4BE1-BF8E-137BFA8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81D-9046-40B7-B4DD-91F9041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CB8-1E1D-4F72-AA87-13C9F20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eastfeeding4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Click to edit the outline text forma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con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hir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our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if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ix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ven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3E4F-A867-4D1C-9E96-F9BF9CAD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ap.org/bookstor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reastfeedi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asic 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reastfeeding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sidency Curriculum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"/>
              </a:rPr>
              <a:t>Prepared with information from the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4083"/>
                </a:solidFill>
                <a:latin typeface="Arial"/>
              </a:rPr>
              <a:t>AAP/ACOG Breastfeeding Handbook for Physicians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Proper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72" name="Picture 5" descr="Copy (2) of Premie_10"/>
          <p:cNvPicPr/>
          <p:nvPr/>
        </p:nvPicPr>
        <p:blipFill>
          <a:blip r:embed="rId1"/>
          <a:stretch/>
        </p:blipFill>
        <p:spPr>
          <a:xfrm>
            <a:off x="990720" y="4098960"/>
            <a:ext cx="2438280" cy="22255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90720" y="3718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651c"/>
                </a:solidFill>
                <a:latin typeface="Arial Bold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py (2) of premie_9"/>
          <p:cNvPicPr/>
          <p:nvPr/>
        </p:nvPicPr>
        <p:blipFill>
          <a:blip r:embed="rId2"/>
          <a:stretch/>
        </p:blipFill>
        <p:spPr>
          <a:xfrm>
            <a:off x="990720" y="1455840"/>
            <a:ext cx="2438280" cy="2225520"/>
          </a:xfrm>
          <a:prstGeom prst="rect">
            <a:avLst/>
          </a:prstGeom>
          <a:ln w="3240">
            <a:solidFill>
              <a:srgbClr val="e8d8a4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990720" y="10508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remie_12"/>
          <p:cNvPicPr/>
          <p:nvPr/>
        </p:nvPicPr>
        <p:blipFill>
          <a:blip r:embed="rId3"/>
          <a:stretch/>
        </p:blipFill>
        <p:spPr>
          <a:xfrm>
            <a:off x="5029200" y="1432080"/>
            <a:ext cx="2590920" cy="2278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7" name="Text Box 11"/>
          <p:cNvSpPr/>
          <p:nvPr/>
        </p:nvSpPr>
        <p:spPr>
          <a:xfrm>
            <a:off x="4038480" y="4038480"/>
            <a:ext cx="48006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Nipple protected by positioning far back in infant’s 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Breast tissue inferior to nipple exposed to massaging action of tongue and lower j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87840" y="640080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s © Jane Morton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gns of Incorrect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Immediate signs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’s cheeks indenting during suckling, clicking noises, lips curled in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 movement of the infant’s head and lack of swallowing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ain and dis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ater signs 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uma to mother’s nipples and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infant weight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milk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3 – Milk Transfer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the baby as she sucks and swallows and milk is transferred. Look and listen for: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ble swa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king that begins with rapid bursts to stimulate mil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hythm of sucking, swallowing, and pauses following establishment of mil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lower and more rhyth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 suckle/swallow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ulating action — no stroking, friction, or in-and-out motion of the tong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k is extracted by a peristaltic action from the tip of the tongue to the base (not by negative pres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Next Steps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Breastfeeding Management, Educational Tools for Physicians and Other Professional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y Jane Morton, MD, FAAP, for a live demonstration of how to observe and assess breastfeeding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http://newborns.stanford.edu/Breastfeeding/FifteenMinuteHelper.htm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246960" indent="-246960">
              <a:lnSpc>
                <a:spcPct val="90000"/>
              </a:lnSpc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e one, do one, teach one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llow-up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fer to the Residency Curriculum presentations,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Problem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and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Situations,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 to understand the next steps if  breastfeeding issues are identified during the breastfeeding assessmen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Referenc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        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Schanler RJ, Dooley S. </a:t>
            </a:r>
            <a:r>
              <a:rPr b="0" i="1" lang="en-US" sz="1600" spc="-1" strike="noStrike">
                <a:solidFill>
                  <a:srgbClr val="1b4083"/>
                </a:solidFill>
                <a:latin typeface="Arial Bold"/>
              </a:rPr>
              <a:t>Breastfeeding Handbook for Physicians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Elk Grove Village, IL: American Academy of Pediatrics, Washington, DC: American College of Obstetricians and Gynecologists; 2006.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This resource may be purchased by visiting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hlinkClick r:id="rId1"/>
              </a:rPr>
              <a:t>www.aap.org/bookstore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Determine if there is a basic problem with breastfeeding by observing the mother breastfeeding the baby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ell the mother that you would like to observe how the baby is feeding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approach for pediatricians not comfortable with examining bre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the mother feel less self-conscious (you are assessing how the baby feeds, not how the mother feeds the ba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1 - Positioning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mother positions the baby for feeding and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ook for:</a:t>
            </a:r>
            <a:r>
              <a:rPr b="0" lang="en-US" sz="20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20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Comfort — suggest different positions, pillow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nursing stools if positioning looks uncomfor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infant is positioned — the head, shoulders, and hips are in alignment and the infant faces the mother’s body. The head should not be turned to the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brought to the breast, not the breast to the inf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ing on the back of the infant’s head — This shou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voided. It may cause the infant to arch away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200400" cy="48006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oss-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9" name="Picture 3" descr="cross cradle position"/>
          <p:cNvPicPr/>
          <p:nvPr/>
        </p:nvPicPr>
        <p:blipFill>
          <a:blip r:embed="rId1"/>
          <a:srcRect l="16147" t="47684" r="1796" b="7677"/>
          <a:stretch/>
        </p:blipFill>
        <p:spPr>
          <a:xfrm>
            <a:off x="1600200" y="1927080"/>
            <a:ext cx="6095880" cy="27972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5441040" y="474804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Joan Meek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de-lying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2" name="Picture 3" descr="RC infant1"/>
          <p:cNvPicPr/>
          <p:nvPr/>
        </p:nvPicPr>
        <p:blipFill>
          <a:blip r:embed="rId1"/>
          <a:stretch/>
        </p:blipFill>
        <p:spPr>
          <a:xfrm>
            <a:off x="3124080" y="1295280"/>
            <a:ext cx="2970360" cy="45259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3200400" y="586728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Roni M. Chastain, 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otball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5" name="Picture 3" descr="LFW - football2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880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2819520" y="5303880"/>
            <a:ext cx="38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Lori Feldman-Winter, MD, MPH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baby is latched to the breast and look for:</a:t>
            </a: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1800" spc="-1" strike="noStrike">
              <a:solidFill>
                <a:srgbClr val="1b4083"/>
              </a:solidFill>
              <a:latin typeface="Arial Bold"/>
            </a:endParaRPr>
          </a:p>
          <a:p>
            <a:pPr lvl="1" marL="735480" indent="-28296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the C-hold to make a sandwich for the baby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ch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ingers underneath and thumb on top of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ngers should be parallel to the infant’s jaw and well behind the ar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ment of the rooting ref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of infant’s lip stroked with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opens his mouth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quickly draws the infant to her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takes in an adequate amount of the breast, no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 </a:t>
            </a:r>
            <a:r>
              <a:rPr b="0" lang="en-US" sz="1400" spc="-1" strike="noStrike">
                <a:solidFill>
                  <a:srgbClr val="82b595"/>
                </a:solidFill>
                <a:latin typeface="Arial Bold"/>
              </a:rPr>
              <a:t>(cont’d)</a:t>
            </a:r>
            <a:endParaRPr b="0" lang="en-US" sz="14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ola gr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grasps the entire nipple and as much of the areo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se and chin of the infant will touch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s will be flang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’s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undulating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n with each su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release if infant does not release on his ow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inserts finger gently in corner of infant’s mou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lease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4:46Z</dcterms:created>
  <dc:creator>LBarone</dc:creator>
  <dc:description/>
  <dc:language>en-US</dc:language>
  <cp:lastModifiedBy>Cinnie Chou</cp:lastModifiedBy>
  <dcterms:modified xsi:type="dcterms:W3CDTF">2014-07-22T23:08:26Z</dcterms:modified>
  <cp:revision>20</cp:revision>
  <dc:subject/>
  <dc:title>Slide 1</dc:title>
</cp:coreProperties>
</file>