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Click to move the slide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A001-3E2A-4BCF-AFF6-BC5BB68A9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96A9-FA1A-458C-8026-85B4939B8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dding football and side-lying positions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reastfeeding Handbook for Physici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. 7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13FE-E0AF-495E-8503-933519BF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E89C-E374-4AC3-A4A7-886357A1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F31C-8987-49D5-9B86-5C91FD91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4031-9F22-4939-A9B0-A380AC2D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835-311C-48C0-B6E7-1F7666F4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884A-5100-47E7-83CC-C24489EC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43B7-84C6-41DD-A440-EBD2089A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F64A-C718-4ACE-B2EB-BF4B789B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6CA0-EB7C-4BFD-9534-6D87ECEC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5DA5-524D-4B54-AB6D-E1D4A5C5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5E40-371C-49D0-92BE-4DB3C50F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A607-5046-4C92-A7CB-2EE56EB6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reastfeeding4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Click to edit the title text format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Click to edit the outline text format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Second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Third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SzPct val="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Fourth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Fifth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Sixth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Seventh Outline Leve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2779-F088-4C52-8DD5-EA5B770E1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ap.org/bookstor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Breastfeedi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Basic Breastfeeding Assessment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Breastfeeding </a:t>
            </a:r>
            <a:br>
              <a:rPr sz="2200"/>
            </a:b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Residency Curriculum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4083"/>
                </a:solidFill>
                <a:latin typeface="Arial"/>
              </a:rPr>
              <a:t>Prepared with information from the</a:t>
            </a:r>
            <a:r>
              <a:rPr b="0" lang="en-US" sz="2200" spc="-1" strike="noStrike">
                <a:solidFill>
                  <a:srgbClr val="1b408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4083"/>
                </a:solidFill>
                <a:latin typeface="Arial"/>
              </a:rPr>
              <a:t>AAP/ACOG Breastfeeding Handbook for Physicians</a:t>
            </a:r>
            <a:r>
              <a:rPr b="0" lang="en-US" sz="2200" spc="-1" strike="noStrike">
                <a:solidFill>
                  <a:srgbClr val="1b408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Proper Latch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72" name="Picture 5" descr="Copy (2) of Premie_10"/>
          <p:cNvPicPr/>
          <p:nvPr/>
        </p:nvPicPr>
        <p:blipFill>
          <a:blip r:embed="rId1"/>
          <a:stretch/>
        </p:blipFill>
        <p:spPr>
          <a:xfrm>
            <a:off x="990720" y="4098960"/>
            <a:ext cx="2438280" cy="222552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990720" y="37180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651c"/>
                </a:solidFill>
                <a:latin typeface="Arial Bold"/>
              </a:rPr>
              <a:t>IN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Copy (2) of premie_9"/>
          <p:cNvPicPr/>
          <p:nvPr/>
        </p:nvPicPr>
        <p:blipFill>
          <a:blip r:embed="rId2"/>
          <a:stretch/>
        </p:blipFill>
        <p:spPr>
          <a:xfrm>
            <a:off x="990720" y="1455840"/>
            <a:ext cx="2438280" cy="2225520"/>
          </a:xfrm>
          <a:prstGeom prst="rect">
            <a:avLst/>
          </a:prstGeom>
          <a:ln w="3240">
            <a:solidFill>
              <a:srgbClr val="e8d8a4"/>
            </a:solidFill>
            <a:miter/>
          </a:ln>
        </p:spPr>
      </p:pic>
      <p:sp>
        <p:nvSpPr>
          <p:cNvPr id="75" name="Text Box 9"/>
          <p:cNvSpPr/>
          <p:nvPr/>
        </p:nvSpPr>
        <p:spPr>
          <a:xfrm>
            <a:off x="990720" y="105084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4083"/>
                </a:solidFill>
                <a:latin typeface="Arial Bold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Premie_12"/>
          <p:cNvPicPr/>
          <p:nvPr/>
        </p:nvPicPr>
        <p:blipFill>
          <a:blip r:embed="rId3"/>
          <a:stretch/>
        </p:blipFill>
        <p:spPr>
          <a:xfrm>
            <a:off x="5029200" y="1432080"/>
            <a:ext cx="2590920" cy="227808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77" name="Text Box 11"/>
          <p:cNvSpPr/>
          <p:nvPr/>
        </p:nvSpPr>
        <p:spPr>
          <a:xfrm>
            <a:off x="4038480" y="4038480"/>
            <a:ext cx="480060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Aft>
                <a:spcPts val="275"/>
              </a:spcAft>
              <a:buClr>
                <a:srgbClr val="1b40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b4083"/>
                </a:solidFill>
                <a:latin typeface="Arial"/>
              </a:rPr>
              <a:t>Nipple protected by positioning far back in infant’s mou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Aft>
                <a:spcPts val="275"/>
              </a:spcAft>
              <a:buClr>
                <a:srgbClr val="1b40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b4083"/>
                </a:solidFill>
                <a:latin typeface="Arial"/>
              </a:rPr>
              <a:t>Breast tissue inferior to nipple exposed to massaging action of tongue and lower ja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987840" y="6400800"/>
            <a:ext cx="25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4083"/>
                </a:solidFill>
                <a:latin typeface="Arial"/>
              </a:rPr>
              <a:t>Photos © Jane Morton, MD, FA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igns of Incorrect Latch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Immediate signs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ant’s cheeks indenting during suckling, clicking noises, lips curled inwar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quent movement of the infant’s head and lack of swallowing sou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ernal pain and discomf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Later signs 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uma to mother’s nipples and p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 infant weight 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 milk supp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0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tep 3 – Milk Transfer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Watch the baby as she sucks and swallows and milk is transferred. Look and listen for: 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dible swallow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cking that begins with rapid bursts to stimulate mil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-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rhythm of sucking, swallowing, and pauses following establishment of milk f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es slower and more rhyth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1 suckle/swallow per 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ulating action — no stroking, friction, or in-and-out motion of the tongu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lk is extracted by a peristaltic action from the tip of the tongue to the base (not by negative press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Next Steps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550"/>
              </a:spcBef>
              <a:spcAft>
                <a:spcPts val="825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Watch </a:t>
            </a:r>
            <a:r>
              <a:rPr b="0" i="1" lang="en-US" sz="2200" spc="-1" strike="noStrike">
                <a:solidFill>
                  <a:srgbClr val="1b4083"/>
                </a:solidFill>
                <a:latin typeface="Arial Bold"/>
              </a:rPr>
              <a:t>Breastfeeding Management, Educational Tools for Physicians and Other Professionals </a:t>
            </a: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by Jane Morton, MD, FAAP, for a live demonstration of how to observe and assess breastfeeding. 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http://newborns.stanford.edu/Breastfeeding/FifteenMinuteHelper.html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marL="246960" indent="-246960">
              <a:lnSpc>
                <a:spcPct val="90000"/>
              </a:lnSpc>
              <a:spcBef>
                <a:spcPts val="550"/>
              </a:spcBef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See one, do one, teach one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Follow-up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2027160"/>
            <a:ext cx="868680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Refer to the Residency Curriculum presentations, </a:t>
            </a:r>
            <a:r>
              <a:rPr b="0" i="1" lang="en-US" sz="2200" spc="-1" strike="noStrike">
                <a:solidFill>
                  <a:srgbClr val="1b4083"/>
                </a:solidFill>
                <a:latin typeface="Arial Bold"/>
              </a:rPr>
              <a:t>Management of Common Breastfeeding Problems </a:t>
            </a: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and </a:t>
            </a:r>
            <a:r>
              <a:rPr b="0" i="1" lang="en-US" sz="2200" spc="-1" strike="noStrike">
                <a:solidFill>
                  <a:srgbClr val="1b4083"/>
                </a:solidFill>
                <a:latin typeface="Arial Bold"/>
              </a:rPr>
              <a:t>Management of Common Breastfeeding Situations,</a:t>
            </a: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 to understand the next steps if  breastfeeding issues are identified during the breastfeeding assessment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Reference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        </a:t>
            </a: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Schanler RJ, Dooley S. </a:t>
            </a:r>
            <a:r>
              <a:rPr b="0" i="1" lang="en-US" sz="1600" spc="-1" strike="noStrike">
                <a:solidFill>
                  <a:srgbClr val="1b4083"/>
                </a:solidFill>
                <a:latin typeface="Arial Bold"/>
              </a:rPr>
              <a:t>Breastfeeding Handbook for Physicians</a:t>
            </a: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. Elk Grove Village, IL: American Academy of Pediatrics, Washington, DC: American College of Obstetricians and Gynecologists; 2006.</a:t>
            </a:r>
            <a:endParaRPr b="0" lang="en-US" sz="1600" spc="-1" strike="noStrike">
              <a:solidFill>
                <a:srgbClr val="1b4083"/>
              </a:solidFill>
              <a:latin typeface="Arial Bold"/>
            </a:endParaRPr>
          </a:p>
          <a:p>
            <a:pPr marL="393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b4083"/>
              </a:solidFill>
              <a:latin typeface="Arial Bold"/>
            </a:endParaRPr>
          </a:p>
          <a:p>
            <a:pPr marL="3938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This resource may be purchased by visiting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 Bold"/>
                <a:hlinkClick r:id="rId1"/>
              </a:rPr>
              <a:t>www.aap.org/bookstore</a:t>
            </a:r>
            <a:r>
              <a:rPr b="0" lang="en-US" sz="1600" spc="-1" strike="noStrike">
                <a:solidFill>
                  <a:srgbClr val="1b4083"/>
                </a:solidFill>
                <a:latin typeface="Arial Bold"/>
              </a:rPr>
              <a:t>. </a:t>
            </a:r>
            <a:endParaRPr b="0" lang="en-US" sz="16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Breastfeeding Assessment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Determine if there is a basic problem with breastfeeding by observing the mother breastfeeding the baby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Tell the mother that you would like to observe how the baby is feeding</a:t>
            </a: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ful approach for pediatricians not comfortable with examining brea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s the mother feel less self-conscious (you are assessing how the baby feeds, not how the mother feeds the baby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tep 1 - Positioning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Watch how the mother positions the baby for feeding and </a:t>
            </a:r>
            <a:br>
              <a:rPr sz="2200"/>
            </a:b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look for:</a:t>
            </a:r>
            <a:r>
              <a:rPr b="0" lang="en-US" sz="2000" spc="-1" strike="noStrike">
                <a:solidFill>
                  <a:srgbClr val="1b4083"/>
                </a:solidFill>
                <a:latin typeface="Arial Bold"/>
              </a:rPr>
              <a:t> </a:t>
            </a:r>
            <a:endParaRPr b="0" lang="en-US" sz="2000" spc="-1" strike="noStrike">
              <a:solidFill>
                <a:srgbClr val="1b4083"/>
              </a:solidFill>
              <a:latin typeface="Arial Bold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ernal Comfort — suggest different positions, pillows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nursing stools if positioning looks uncomfor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he infant is positioned — the head, shoulders, and hips are in alignment and the infant faces the mother’s body. The head should not be turned to the s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ant brought to the breast, not the breast to the inf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shing on the back of the infant’s head — This shoul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avoided. It may cause the infant to arch away from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rea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Cradle Hold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200400" cy="480060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Cross-cradle Hold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59" name="Picture 3" descr="cross cradle position"/>
          <p:cNvPicPr/>
          <p:nvPr/>
        </p:nvPicPr>
        <p:blipFill>
          <a:blip r:embed="rId1"/>
          <a:srcRect l="16147" t="47684" r="1796" b="7677"/>
          <a:stretch/>
        </p:blipFill>
        <p:spPr>
          <a:xfrm>
            <a:off x="1600200" y="1927080"/>
            <a:ext cx="6095880" cy="279720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60" name="Rectangle 4"/>
          <p:cNvSpPr/>
          <p:nvPr/>
        </p:nvSpPr>
        <p:spPr>
          <a:xfrm>
            <a:off x="5441040" y="4748040"/>
            <a:ext cx="233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4083"/>
                </a:solidFill>
                <a:latin typeface="Arial"/>
              </a:rPr>
              <a:t>Photo © Joan Meek, MD, FA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ide-lying Hold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62" name="Picture 3" descr="RC infant1"/>
          <p:cNvPicPr/>
          <p:nvPr/>
        </p:nvPicPr>
        <p:blipFill>
          <a:blip r:embed="rId1"/>
          <a:stretch/>
        </p:blipFill>
        <p:spPr>
          <a:xfrm>
            <a:off x="3124080" y="1295280"/>
            <a:ext cx="2970360" cy="452592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63" name="Text Box 4"/>
          <p:cNvSpPr/>
          <p:nvPr/>
        </p:nvSpPr>
        <p:spPr>
          <a:xfrm>
            <a:off x="3200400" y="5867280"/>
            <a:ext cx="289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4083"/>
                </a:solidFill>
                <a:latin typeface="Arial"/>
              </a:rPr>
              <a:t>Photo © Roni M. Chastain, 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Football Hold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pic>
        <p:nvPicPr>
          <p:cNvPr id="65" name="Picture 3" descr="LFW - football2"/>
          <p:cNvPicPr/>
          <p:nvPr/>
        </p:nvPicPr>
        <p:blipFill>
          <a:blip r:embed="rId1"/>
          <a:stretch/>
        </p:blipFill>
        <p:spPr>
          <a:xfrm>
            <a:off x="2514600" y="1295280"/>
            <a:ext cx="4114800" cy="3880080"/>
          </a:xfrm>
          <a:prstGeom prst="rect">
            <a:avLst/>
          </a:prstGeom>
          <a:ln w="12600">
            <a:solidFill>
              <a:srgbClr val="e8d8a4"/>
            </a:solidFill>
            <a:miter/>
          </a:ln>
        </p:spPr>
      </p:pic>
      <p:sp>
        <p:nvSpPr>
          <p:cNvPr id="66" name="Text Box 4"/>
          <p:cNvSpPr/>
          <p:nvPr/>
        </p:nvSpPr>
        <p:spPr>
          <a:xfrm>
            <a:off x="2819520" y="5303880"/>
            <a:ext cx="3809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b4083"/>
                </a:solidFill>
                <a:latin typeface="Arial"/>
              </a:rPr>
              <a:t>Photo © Lori Feldman-Winter, MD, MPH, FA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tep 2 – Latch-on</a:t>
            </a:r>
            <a:endParaRPr b="0" lang="en-US" sz="30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spcAft>
                <a:spcPts val="451"/>
              </a:spcAft>
              <a:buClr>
                <a:srgbClr val="1b4083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4083"/>
                </a:solidFill>
                <a:latin typeface="Arial Bold"/>
              </a:rPr>
              <a:t>Watch how the baby is latched to the breast and look for:</a:t>
            </a:r>
            <a:r>
              <a:rPr b="0" lang="en-US" sz="1800" spc="-1" strike="noStrike">
                <a:solidFill>
                  <a:srgbClr val="1b4083"/>
                </a:solidFill>
                <a:latin typeface="Arial Bold"/>
              </a:rPr>
              <a:t> </a:t>
            </a:r>
            <a:endParaRPr b="0" lang="en-US" sz="1800" spc="-1" strike="noStrike">
              <a:solidFill>
                <a:srgbClr val="1b4083"/>
              </a:solidFill>
              <a:latin typeface="Arial Bold"/>
            </a:endParaRPr>
          </a:p>
          <a:p>
            <a:pPr lvl="1" marL="735480" indent="-282960">
              <a:spcBef>
                <a:spcPts val="550"/>
              </a:spcBef>
              <a:spcAft>
                <a:spcPts val="2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of the C-hold to make a sandwich for the baby to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ch 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fingers underneath and thumb on top of the br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’s fingers should be parallel to the infant’s jaw and well behind the are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knowledgement of the rooting refl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 of infant’s lip stroked with nip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 opens his mouth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quickly draws the infant to her br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 takes in an adequate amount of the breast, no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nip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2b595"/>
                </a:solidFill>
                <a:latin typeface="Arial Bold"/>
              </a:rPr>
              <a:t>Step 2 – Latch-on </a:t>
            </a:r>
            <a:r>
              <a:rPr b="0" lang="en-US" sz="1400" spc="-1" strike="noStrike">
                <a:solidFill>
                  <a:srgbClr val="82b595"/>
                </a:solidFill>
                <a:latin typeface="Arial Bold"/>
              </a:rPr>
              <a:t>(cont’d)</a:t>
            </a:r>
            <a:endParaRPr b="0" lang="en-US" sz="1400" spc="-1" strike="noStrike">
              <a:solidFill>
                <a:srgbClr val="82b595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ola gra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 grasps the entire nipple and as much of the areol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os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se and chin of the infant will touch the br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ps will be flanged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ther’s comf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tle undulating mo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ain with each su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release if infant does not release on his ow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inserts finger gently in corner of infant’s mou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lease s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b4083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8:34:46Z</dcterms:created>
  <dc:creator>LBarone</dc:creator>
  <dc:description/>
  <dc:language>en-US</dc:language>
  <cp:lastModifiedBy>Cinnie Chou</cp:lastModifiedBy>
  <dcterms:modified xsi:type="dcterms:W3CDTF">2014-07-22T23:08:26Z</dcterms:modified>
  <cp:revision>20</cp:revision>
  <dc:subject/>
  <dc:title>Slide 1</dc:title>
</cp:coreProperties>
</file>