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527120" y="845640"/>
            <a:ext cx="471816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13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398840" y="-360"/>
            <a:ext cx="33703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50161-9EB6-4C08-BBA9-1E46F652A9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3F9C4-E85D-447F-B126-4A48F818A6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7BE51-25BC-4DFB-9B69-1017BB0DA5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E3817-53E2-4CA0-87D4-EA3CFFDDF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492C3-0FD0-4F61-9F13-D4054F6CA2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8B405-C6E7-4D39-8B13-00F1CB170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F0014-5F9A-4555-9DCE-9E1BBA75C8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4257A-35DD-49C1-80B4-95334B61A9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36BAC-4733-4A56-B9FB-F1D1B1D2F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67CAA-F8C9-4BCD-9CF2-062D346B71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1F509-854E-4E94-AC74-33E896A26C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1F967-D955-48FE-84F0-6256690E66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structural and functional brain imaging, animal studies, and the response to drugs with noradrenergic activity (eg, methylpheni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Environmental: diet, artificial colors/flavors, preservatives, sugar, food sensitivity, acetaminophen (unproven), smoking (confoun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Dopamine, serotonin transporter, serotonin receptor, dopamine beta hydroxylase, sinaptosome assoc protein, glutamate recep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Reversed or absent asymmetry of caudate nucleus, smaller cerebral and cerebellar volume, smaller posterior corpus callosum regions, and increased gray matter in the posterior temporal and inferior parietal cor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Clinical: processes involved in forward planning, including abstract reasoning, mental flexibility, working memory) and/or difficulties with response inhib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noradrenergic system is involved in the modulation of higher cortical functions, including attention, alertness, vigilance, and executive function (norepinephrine-dopamine imbala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89667-8C14-4159-BCF4-EAF8A47647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4EA9D-B301-4565-8872-9BB5740286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WenQuanYi Zen Hei"/>
              </a:rPr>
              <a:t>- symptoms typically are observed by the time the child reaches 4 years of and increase, peaking at 7-8 years, then decli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4B557-7121-4428-8B21-F68D1CFFAC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523E5-D722-4A29-A514-376D174740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9800" y="4401720"/>
            <a:ext cx="629280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onners 3</a:t>
            </a:r>
            <a:r>
              <a:rPr b="0" lang="en-US" sz="1600" spc="-1" strike="noStrike" baseline="33000">
                <a:solidFill>
                  <a:srgbClr val="000000"/>
                </a:solidFill>
                <a:latin typeface="Arial"/>
                <a:ea typeface="WenQuanYi Zen Hei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: ADHD + internal/external symptoms, DSM-IV and DSM-V sco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BASC: more evaluation of general problems: aggression, conduct, anxiety, depression, learning, adapatability,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hild Behavior Checklist: somatic, social, attention, anxiety, depression, aggression, withdra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ACTeRS: Attention, hyperactive, lack social skills, opposi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ADHD Rating: DSM-I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hildhood attention problems: attention, impulsivity, hyper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onners 3, short: inattentive, hyperactive/impulse, learning, executive function, aggression, peer 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BASC monitor: attention/adaptive, hyperactive, internaliz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Disruptive Behavior: DSM-IV symptoms ODD, ADHD, 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Vanderbilt: ADHD DSM-IV, screen for comorbid conditions ODD, CD, anxiety, de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In the US, public schools are federally mandated to perform appropriate evaluations (eg, language, cognitive) at no cost to the family if a child is suspected of having a disability that impairs functioning (eg, ADHD or learning disability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0E2EB-7977-4A39-B278-77E4EC7E5C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84B-CF38-40FC-8D6F-AFB54AAA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8CF7-59E1-4FF6-9A02-A8BB7C24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93C4-6E71-437D-8A21-8F972AE9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6833-5E53-4F6B-BDC2-22AEB4D6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D4D5-DE59-44DC-9C74-FA217994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3445-FD35-4E93-8A75-7959E7D6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2C29-35A6-4ACC-AABC-43B4B233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E637-5B05-4BBB-93BD-0ED4DA48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8502-181A-41B1-B5ED-E4175247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3280" y="576000"/>
            <a:ext cx="719784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7B98-021E-4E97-97E6-4539E016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74CE-F94D-45F4-A6F6-6E8DC419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DF52-2554-4829-9E4F-1422B1A4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C9F7-5A8B-429E-81C9-D6FC0231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539F-AD04-4B50-A042-37462114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B2B8-8EB0-44A0-8933-D6FF3483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B791-BDF3-47E1-A894-BF4BA81C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01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696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01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696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D945-B516-4EFF-8E0F-D00AEE6B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B0A-7577-4F83-B945-7C1EA70C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848-883F-477D-9E86-B5EDEB39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07EA-77F4-4BF7-BAC0-AF274186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576000"/>
            <a:ext cx="719784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FD04-A856-4FC1-8ACD-B32492C6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C4BB-8D14-4E73-85E4-4E3E88C0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6B47-5719-4C85-BC77-9D45E88C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8678-0111-4D33-98AC-88E8EB84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4EA9A-9654-4492-87CF-AEA16C972B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27361-8336-4729-9B03-2EFD7748A8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uptodate.com/contents/attention-deficit-hyperactivity-disorder-adhd-in-children-the-basics?source=see_link" TargetMode="External"/><Relationship Id="rId2" Type="http://schemas.openxmlformats.org/officeDocument/2006/relationships/hyperlink" Target="https://www.uptodate.com/contents/symptoms-and-diagnosis-of-attention-deficit-hyperactivity-disorder-in-children-beyond-the-basics?source=see_link" TargetMode="External"/><Relationship Id="rId3" Type="http://schemas.openxmlformats.org/officeDocument/2006/relationships/hyperlink" Target="http://www.incredibleyears.com/index.asp" TargetMode="External"/><Relationship Id="rId4" Type="http://schemas.openxmlformats.org/officeDocument/2006/relationships/hyperlink" Target="http://www.triplep.net/glo-en/home/" TargetMode="External"/><Relationship Id="rId5" Type="http://schemas.openxmlformats.org/officeDocument/2006/relationships/hyperlink" Target="http://www.pcit.org/" TargetMode="Externa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uptodate.com/external-redirect.do?target_url=http%3A%2F%2Fwww.nichq.org%2Fadhd.html&amp;TOPIC_ID=624" TargetMode="External"/><Relationship Id="rId2" Type="http://schemas.openxmlformats.org/officeDocument/2006/relationships/hyperlink" Target="http://www.nichq.org/childrens-health/adhd/resources/vanderbilt-assessment-scales" TargetMode="External"/><Relationship Id="rId3" Type="http://schemas.openxmlformats.org/officeDocument/2006/relationships/hyperlink" Target="http://www.nichq.org/childrens-health/adhd/resources/adhd-toolkit" TargetMode="External"/><Relationship Id="rId4" Type="http://schemas.openxmlformats.org/officeDocument/2006/relationships/hyperlink" Target="https://www.uptodate.com/external-redirect.do?target_url=http%3A%2F%2Fwww.chadd.org%2FAdvocacy%2FEducation.aspx&amp;TOPIC_ID=624" TargetMode="External"/><Relationship Id="rId5" Type="http://schemas.openxmlformats.org/officeDocument/2006/relationships/hyperlink" Target="http://www.chadd.org/" TargetMode="External"/><Relationship Id="rId6" Type="http://schemas.openxmlformats.org/officeDocument/2006/relationships/hyperlink" Target="http://www.add.org/" TargetMode="External"/><Relationship Id="rId7" Type="http://schemas.openxmlformats.org/officeDocument/2006/relationships/hyperlink" Target="https://add.org/adhd-library/" TargetMode="External"/><Relationship Id="rId8" Type="http://schemas.openxmlformats.org/officeDocument/2006/relationships/hyperlink" Target="https://add.org/adda-virtual-programs/" TargetMode="External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tion Deficit Hyperactive 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2920" y="1712880"/>
            <a:ext cx="907236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briel Anaya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 Costa Regional Medical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978440" y="3676680"/>
            <a:ext cx="1810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3639960" y="21844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03280" y="1800360"/>
          <a:ext cx="9072360" cy="984240"/>
        </p:xfrm>
        <a:graphic>
          <a:graphicData uri="http://schemas.openxmlformats.org/drawingml/2006/table">
            <a:tbl>
              <a:tblPr/>
              <a:tblGrid>
                <a:gridCol w="4537080"/>
                <a:gridCol w="4535280"/>
              </a:tblGrid>
              <a:tr h="3650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chool Children (4-5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-age Children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Zen Hei"/>
                        </a:rPr>
                        <a:t>≥6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Behavioral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Stimu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timulant + behavioral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12" name="Text Box 19"/>
          <p:cNvSpPr/>
          <p:nvPr/>
        </p:nvSpPr>
        <p:spPr>
          <a:xfrm>
            <a:off x="549360" y="3108240"/>
            <a:ext cx="89614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treatment o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chool based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ocial skills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sych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ietary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o medications: every 6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edications: Weekly (titration) to monthly and 3-6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o treat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duction core symptoms (40-50% compared to base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ecreased proportion of missing assignments (20-60% per we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al 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72000"/>
          </a:bodyPr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ing a daily sche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ing distractions to a minim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ing specific and logical places for the child to keep his schoolwork, toys, and clot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ting small, reachable goals (see 'Target goals' abov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warding positive behavior (eg, with a "token economy"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unintentional reinforcement of negative behavi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charts and checklists to help the child stay "on task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ing cho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ing activities in which the child can be successful (eg, hobbies, spor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calm discipline (eg, time out, distraction, removing the child from the situ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rmaco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60280" y="182520"/>
          <a:ext cx="9526680" cy="7294680"/>
        </p:xfrm>
        <a:graphic>
          <a:graphicData uri="http://schemas.openxmlformats.org/drawingml/2006/table">
            <a:tbl>
              <a:tblPr/>
              <a:tblGrid>
                <a:gridCol w="1905120"/>
                <a:gridCol w="1630440"/>
                <a:gridCol w="1261800"/>
                <a:gridCol w="1714680"/>
                <a:gridCol w="3014640"/>
              </a:tblGrid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e/Gene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ded Rel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19040">
                <a:tc gridSpan="5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68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pheni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talin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in (g) (Chew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in (g) (Suspen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5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25 kg: 35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5 kg: 6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: 6-8 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: 50/50%, up to 13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: 30/70%, 8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: 20/80%, 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: 40/60%, 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: 9-12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650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xmethylpheni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alin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: 50/50%, 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43172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xtroamphetam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drine, Zenzedine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ntra (g) (solu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5 years: 2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6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50kg: 4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0 mg: 6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: 8-10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: 13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: 6-8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vanse: body conv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1920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hetamine-dextroamphetam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erall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50 kg: 4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50 kg: 6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19200">
                <a:tc gridSpan="5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timu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t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 mg/kg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652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-2 adrenergic agon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Gunafecine 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lonidine 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un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pv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2y: 4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2y: 7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mg/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todate: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Bas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Beyond the Bas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-training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Incredible Years Parenting Progra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Forest Parenting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Positive Parenting Progra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arent-Child Interaction Thera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lified preschool program (Head Start, Early Childhood Special Education Servi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76000"/>
          </a:bodyPr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National Initiative for Children's Healthcare Quality (NICHQ) ADHD tool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Vanderbilt Assessment 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Resource Toolkit for Clinici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achers: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National Resource Center on ADH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ren and Adults with Attention Deficit/Hyperactivity Disorder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(CHAD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Attention Deficit Disorder Association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(ADD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Multiple resourc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virtual programs/worksh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Institute of Mental Health (NIM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klets on ADH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United States Department of Education: ADH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merican Academy of Child and Adolescent Psychiatry (AACA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 Costa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t Contra Costa CHADD affili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03480" y="1800360"/>
            <a:ext cx="590544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H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0000"/>
          </a:bodyPr>
          <a:p>
            <a:pPr marL="388440" indent="-291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ildren 2-18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ool-age children 8-11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 reported 42% increase 2003-2011 (NS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e-Female ratio 4:1 hyperactive type and 2:1 inattentive 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e 15.1%; Female 6.7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to 10 years 7.7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 to 14 years 14.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 to 17 years 1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rbid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positional defiant disorder 50-8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uct disorder 3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xiety 20-4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ression 3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ing disability 40-6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1000"/>
          </a:bodyPr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definitive but: catecholamine metabolism in cerebral cortex appears to play primary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nment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tic twin studies have demonstrated concordance up to 92% of monozygotic twins and 33% dizygotic twi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94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D2, DRD4, DRD5, SLC6A3, SLC6A4, HTR1B, DBH, SNAP25, GRM1, GRM5, GRM7, GRM8, CNV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uroanatomy: caudate nucleus, cerebral and cerebellar volume, smaller corpus callosum, increased gray matter, smaller prefrontal cortical volumes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reduced local activation of basal ganglia and anterior frontal lo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84200"/>
            <a:ext cx="719928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ttentiveness, impulsivity, and hyp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present in more than one setting (school and ho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ist for at least six mon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present before the age of 12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air function in academic, social, or occupational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excessive for the developmental level of the chi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be caused by other mental disor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03280" y="1800360"/>
          <a:ext cx="9072360" cy="5354640"/>
        </p:xfrm>
        <a:graphic>
          <a:graphicData uri="http://schemas.openxmlformats.org/drawingml/2006/table">
            <a:tbl>
              <a:tblPr/>
              <a:tblGrid>
                <a:gridCol w="4537080"/>
                <a:gridCol w="4535280"/>
              </a:tblGrid>
              <a:tr h="4251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active/Impuls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tten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9294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ssive fidgetine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remaining seated when sitting is 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lings of restlessness (teens) or inappropriate running around or climbing (kid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playing quie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keep up with, seeming to always be "on the g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ssive tal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waiting tur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rting out answers too quick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uption or intrusion of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ure to provide close attention to detail, careless mistak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maintaining attention in play, school, or home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ms not to listen, even when directly addres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s to follow through (homework, chor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organizing tasks, activities, and belong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ds tasks that require consistent ment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s objects required for tasks or activities (school books, sports equipm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ily distracted by irrelevant stimu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getfulness in routine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74680" y="1393920"/>
          <a:ext cx="9510840" cy="5894280"/>
        </p:xfrm>
        <a:graphic>
          <a:graphicData uri="http://schemas.openxmlformats.org/drawingml/2006/table">
            <a:tbl>
              <a:tblPr/>
              <a:tblGrid>
                <a:gridCol w="1955880"/>
                <a:gridCol w="1971720"/>
                <a:gridCol w="1690560"/>
                <a:gridCol w="1992240"/>
                <a:gridCol w="1900440"/>
              </a:tblGrid>
              <a:tr h="1271520"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al Var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logic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al Dis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otional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havioral Disor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ychosocial or environmental probl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l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36400"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lectual dis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dis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ssion or mood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 abuse or negl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ing or vision impair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55640"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ted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or communication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xie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ssful home enviro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00280"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var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developmental syndr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sitional defiant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dequate or punitive pare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7488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zure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al psychopathology or substance ab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tance ab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s 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3640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lae of CNS trauma/inf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ppropriate education set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crine (thyroid/D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1916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coordination disor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ment disor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t school abs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(HF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 allerg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al Rating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t">
            <a:normAutofit fontScale="42000"/>
          </a:bodyPr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adband Scales: core symptoms + internalizing/externalizing behavior (S&amp;S &lt;86%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rs 3</a:t>
            </a:r>
            <a:r>
              <a:rPr b="0" lang="en-US" sz="4400" spc="-1" strike="noStrike" baseline="33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Behavior Assessment System for Children (BASC), Child Behavior Checklist/Teacher Repor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 specific scales (S&amp;S &gt;90%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D Comprehensive Teachers Rating Scale (ACTeR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D Rating Scale (DSM-IV Criteri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dhood Attention Problems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rs 3</a:t>
            </a:r>
            <a:r>
              <a:rPr b="0" lang="en-US" sz="4400" spc="-1" strike="noStrike" baseline="33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hort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C Monitor Rat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ruptive Behavior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derbilt Assessment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al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metric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is DSM-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 17 year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6 symptoms of hyperactive and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6 symptoms of innatt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7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5 symptoms of hyperactive and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5 symptoms of inatt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yperkinetic disorder (Europ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least 6 symptoms of inattention, at least 3 symptoms of hyperactivity and at least 1 symptom of impulsiv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8T18:40:19Z</dcterms:created>
  <dc:creator>Lorena Salcedo-Alvarado</dc:creator>
  <dc:description/>
  <dc:language>en-US</dc:language>
  <cp:lastModifiedBy>Lorena Salcedo-Alvarado</cp:lastModifiedBy>
  <dcterms:modified xsi:type="dcterms:W3CDTF">2017-04-13T14:54:56Z</dcterms:modified>
  <cp:revision>15</cp:revision>
  <dc:subject/>
  <dc:title>Attention Deficit Hyperactive Disorder</dc:title>
</cp:coreProperties>
</file>