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527120" y="845640"/>
            <a:ext cx="471816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13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398840" y="-360"/>
            <a:ext cx="33703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5E15A-EFB2-422F-AA21-44477AFAE6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A5B65-F601-40D9-BD26-5C8A3C901A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BC12B-6D8B-4005-8E47-60E2ACBFC5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8E66F-6360-4E14-9E98-3D721B42D9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6E5FB-EFDF-4AE8-8E1C-CA717E1140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547D8-8D78-4744-857F-BC7BAC24FE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4651C-BF64-4BE7-B965-2650CF520E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7E88B-D594-4F56-9CD7-980E0C0A86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91EC3-AA71-4EB8-8E5F-A373FBB9D6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15AE1-1E95-4474-B9F8-95FEA4BDE6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5AC47-A436-4DF4-90BD-066FEAE82D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E93FD-5D66-40FC-AC4D-BEDD1A06BA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structural and functional brain imaging, animal studies, and the response to drugs with noradrenergic activity (eg, methylpheni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Environmental: diet, artificial colors/flavors, preservatives, sugar, food sensitivity, acetaminophen (unproven), smoking (confoun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Dopamine, serotonin transporter, serotonin receptor, dopamine beta hydroxylase, sinaptosome assoc protein, glutamate recep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Reversed or absent asymmetry of caudate nucleus, smaller cerebral and cerebellar volume, smaller posterior corpus callosum regions, and increased gray matter in the posterior temporal and inferior parietal cor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Clinical: processes involved in forward planning, including abstract reasoning, mental flexibility, working memory) and/or difficulties with response inhib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noradrenergic system is involved in the modulation of higher cortical functions, including attention, alertness, vigilance, and executive function (norepinephrine-dopamine imbala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8C69F-2BAB-4135-8F18-401EDB44CC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861B9-818A-429C-88D9-EE37EE48FA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WenQuanYi Zen Hei"/>
              </a:rPr>
              <a:t>- symptoms typically are observed by the time the child reaches 4 years of and increase, peaking at 7-8 years, then decli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DE729-3810-4969-8C06-33E853C88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2490A-314E-4B8F-8095-1870F90F5D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9800" y="4401720"/>
            <a:ext cx="629280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1440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Conners 3</a:t>
            </a:r>
            <a:r>
              <a:rPr b="0" lang="en-US" sz="1600" spc="-1" strike="noStrike" baseline="33000">
                <a:solidFill>
                  <a:srgbClr val="000000"/>
                </a:solidFill>
                <a:latin typeface="Arial"/>
                <a:ea typeface="WenQuanYi Zen Hei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: ADHD + internal/external symptoms, DSM-IV and DSM-V sco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BASC: more evaluation of general problems: aggression, conduct, anxiety, depression, learning, adapatability,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Child Behavior Checklist: somatic, social, attention, anxiety, depression, aggression, withdra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ACTeRS: Attention, hyperactive, lack social skills, opposi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ADHD Rating: DSM-I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Childhood attention problems: attention, impulsivity, hyper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Conners 3, short: inattentive, hyperactive/impulse, learning, executive function, aggression, peer re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BASC monitor: attention/adaptive, hyperactive, internaliz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Disruptive Behavior: DSM-IV symptoms ODD, ADHD, 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Vanderbilt: ADHD DSM-IV, screen for comorbid conditions ODD, CD, anxiety, de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In the US, public schools are federally mandated to perform appropriate evaluations (eg, language, cognitive) at no cost to the family if a child is suspected of having a disability that impairs functioning (eg, ADHD or learning disability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1FB6D-9302-4739-9912-AFBF222367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2ED2-FD0A-453B-95AE-E80DB65B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B724-0589-4FE1-877F-2033FEF3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DDA3-A4A4-4FF0-9461-E88F688E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391D-7D9C-4A69-9359-39187E9A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2160-FE6E-49F9-9317-289F1B38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35C6-899D-483C-9962-C8D7BA66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2CCB-A74E-4FDB-A233-473916D0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81F8-6BDF-4928-A226-B384E5B2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C0C5-F2AA-4A5A-899D-D4B6E2DB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3280" y="576000"/>
            <a:ext cx="719784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FE47-9ED0-476A-A5B1-94E84D17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F3E9-2A26-43CE-B6CA-0C1EB3DE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4AF7-FD74-4FDA-833F-4B1A104B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B305-B13C-44D3-B856-0F881BE6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70F1-36D3-4D8F-8A77-FD000A39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D0FD-6524-496E-B921-CE771A89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BCEC-CCCC-4FEE-AC15-4872B0A4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01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696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01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696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6623-37E6-4962-9F87-2438400B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BCFC-41DB-493E-8BF3-5A4A1642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37A6-539F-4CCF-B16E-C99836A5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07B7-ECA9-4561-9120-54BD38C4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576000"/>
            <a:ext cx="719784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689-3CA3-460B-B1EE-F35F9860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305C-BD90-4A3F-BE89-077C8374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C061-27F2-49A7-B1A2-B52BDFC1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61D8-4CC0-4979-B5E0-156A3E6A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B21DE-4FF2-436E-BA70-A94BBD5CAD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7DA0B-C4BE-4693-B6E2-F630A82536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www.uptodate.com/contents/attention-deficit-hyperactivity-disorder-adhd-in-children-the-basics?source=see_link" TargetMode="External"/><Relationship Id="rId2" Type="http://schemas.openxmlformats.org/officeDocument/2006/relationships/hyperlink" Target="https://www.uptodate.com/contents/symptoms-and-diagnosis-of-attention-deficit-hyperactivity-disorder-in-children-beyond-the-basics?source=see_link" TargetMode="External"/><Relationship Id="rId3" Type="http://schemas.openxmlformats.org/officeDocument/2006/relationships/hyperlink" Target="http://www.incredibleyears.com/index.asp" TargetMode="External"/><Relationship Id="rId4" Type="http://schemas.openxmlformats.org/officeDocument/2006/relationships/hyperlink" Target="http://www.triplep.net/glo-en/home/" TargetMode="External"/><Relationship Id="rId5" Type="http://schemas.openxmlformats.org/officeDocument/2006/relationships/hyperlink" Target="http://www.pcit.org/" TargetMode="Externa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uptodate.com/external-redirect.do?target_url=http%3A%2F%2Fwww.nichq.org%2Fadhd.html&amp;TOPIC_ID=624" TargetMode="External"/><Relationship Id="rId2" Type="http://schemas.openxmlformats.org/officeDocument/2006/relationships/hyperlink" Target="http://www.nichq.org/childrens-health/adhd/resources/vanderbilt-assessment-scales" TargetMode="External"/><Relationship Id="rId3" Type="http://schemas.openxmlformats.org/officeDocument/2006/relationships/hyperlink" Target="http://www.nichq.org/childrens-health/adhd/resources/adhd-toolkit" TargetMode="External"/><Relationship Id="rId4" Type="http://schemas.openxmlformats.org/officeDocument/2006/relationships/hyperlink" Target="https://www.uptodate.com/external-redirect.do?target_url=http%3A%2F%2Fwww.chadd.org%2FAdvocacy%2FEducation.aspx&amp;TOPIC_ID=624" TargetMode="External"/><Relationship Id="rId5" Type="http://schemas.openxmlformats.org/officeDocument/2006/relationships/hyperlink" Target="http://www.chadd.org/" TargetMode="External"/><Relationship Id="rId6" Type="http://schemas.openxmlformats.org/officeDocument/2006/relationships/hyperlink" Target="http://www.add.org/" TargetMode="External"/><Relationship Id="rId7" Type="http://schemas.openxmlformats.org/officeDocument/2006/relationships/hyperlink" Target="https://add.org/adhd-library/" TargetMode="External"/><Relationship Id="rId8" Type="http://schemas.openxmlformats.org/officeDocument/2006/relationships/hyperlink" Target="https://add.org/adda-virtual-programs/" TargetMode="External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tion Deficit Hyperactive Dis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2920" y="1712880"/>
            <a:ext cx="907236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briel Anaya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 Costa Regional Medical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978440" y="3676680"/>
            <a:ext cx="1810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3639960" y="218448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03280" y="1800360"/>
          <a:ext cx="9072360" cy="984240"/>
        </p:xfrm>
        <a:graphic>
          <a:graphicData uri="http://schemas.openxmlformats.org/drawingml/2006/table">
            <a:tbl>
              <a:tblPr/>
              <a:tblGrid>
                <a:gridCol w="4537080"/>
                <a:gridCol w="4535280"/>
              </a:tblGrid>
              <a:tr h="3650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chool Children (4-5 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-age Children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Zen Hei"/>
                        </a:rPr>
                        <a:t>≥6 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6192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Behavioral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Stimul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Stimulant + behavioral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12" name="Text Box 19"/>
          <p:cNvSpPr/>
          <p:nvPr/>
        </p:nvSpPr>
        <p:spPr>
          <a:xfrm>
            <a:off x="549360" y="3108240"/>
            <a:ext cx="89614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treatment op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chool based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ocial skills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sych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ietary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o medications: every 6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edications: Weekly (titration) to monthly and 3-6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o treat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duction core symptoms (40-50% compared to base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ecreased proportion of missing assignments (20-60% per we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al Inter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72000"/>
          </a:bodyPr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taining a daily sche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ing distractions to a minim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ing specific and logical places for the child to keep his schoolwork, toys, and clot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ting small, reachable goals (see 'Target goals' abov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warding positive behavior (eg, with a "token economy"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ing unintentional reinforcement of negative behavi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charts and checklists to help the child stay "on task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ing cho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ing activities in which the child can be successful (eg, hobbies, spor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calm discipline (eg, time out, distraction, removing the child from the situ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rmaco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60280" y="182520"/>
          <a:ext cx="9526680" cy="7294680"/>
        </p:xfrm>
        <a:graphic>
          <a:graphicData uri="http://schemas.openxmlformats.org/drawingml/2006/table">
            <a:tbl>
              <a:tblPr/>
              <a:tblGrid>
                <a:gridCol w="1905120"/>
                <a:gridCol w="1630440"/>
                <a:gridCol w="1261800"/>
                <a:gridCol w="1714680"/>
                <a:gridCol w="3014640"/>
              </a:tblGrid>
              <a:tr h="61920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e/Gene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ded Rel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19040">
                <a:tc gridSpan="5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mul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3684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pheni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talin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in (g) (Chew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in (g) (Suspen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5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25 kg: 35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5 kg: 6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: 6-8 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: 50/50%, up to 13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: 30/70%, 8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: 20/80%, 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: 40/60%, 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: 9-12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6504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xmethylpheni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alin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: 50/50%, 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43172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xtroamphetam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edrine, Zenzedine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ntra (g) (solu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6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5 years: 2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6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50kg: 4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50 mg: 6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: 8-10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: 13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: 6-8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vanse: body conv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1920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hetamine-dextroamphetam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erall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6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50 kg: 4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50 kg: 6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19200">
                <a:tc gridSpan="5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stimul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t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 mg/kg 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6524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-2 adrenergic agon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Gunafecine 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lonidine 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un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pv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2y: 4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2y: 7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mg/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todate: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Bas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Beyond the Bas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-training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Incredible Years Parenting Progra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Forest Parenting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Positive Parenting Progra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arent-Child Interaction Thera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lified preschool program (Head Start, Early Childhood Special Education Servic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76000"/>
          </a:bodyPr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National Initiative for Children's Healthcare Quality (NICHQ) ADHD tool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246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Vanderbilt Assessment Sc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246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Resource Toolkit for Clinici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achers: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National Resource Center on ADH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ldren and Adults with Attention Deficit/Hyperactivity Disorder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(CHAD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Attention Deficit Disorder Association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(ADD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246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Multiple resourc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virtual programs/worksh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Institute of Mental Health (NIM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246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oklets on ADH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United States Department of Education: ADH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merican Academy of Child and Adolescent Psychiatry (AACA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 Costa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t Contra Costa CHADD affili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103480" y="1800360"/>
            <a:ext cx="5905440" cy="43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H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0000"/>
          </a:bodyPr>
          <a:p>
            <a:pPr marL="388440" indent="-291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ildren 2-18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ool-age children 8-11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 reported 42% increase 2003-2011 (NSC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e-Female ratio 4:1 hyperactive type and 2:1 inattentive ty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e 15.1%; Female 6.7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to 10 years 7.7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 to 14 years 14.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 to 17 years 1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rbid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positional defiant disorder 50-8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duct disorder 3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xiety 20-4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ression 3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rning disability 40-6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1000"/>
          </a:bodyPr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definitive but: catecholamine metabolism in cerebral cortex appears to play primary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ironmenta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tic twin studies have demonstrated concordance up to 92% of monozygotic twins and 33% dizygotic twi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94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D2, DRD4, DRD5, SLC6A3, SLC6A4, HTR1B, DBH, SNAP25, GRM1, GRM5, GRM7, GRM8, CNV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uroanatomy: caudate nucleus, cerebral and cerebellar volume, smaller corpus callosum, increased gray matter, smaller prefrontal cortical volumes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reduced local activation of basal ganglia and anterior frontal lo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84200"/>
            <a:ext cx="719928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ttentiveness, impulsivity, and hyp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present in more than one setting (school and ho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ist for at least six mon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present before the age of 12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air function in academic, social, or occupational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excessive for the developmental level of the chi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be caused by other mental disor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03280" y="1800360"/>
          <a:ext cx="9072360" cy="5354640"/>
        </p:xfrm>
        <a:graphic>
          <a:graphicData uri="http://schemas.openxmlformats.org/drawingml/2006/table">
            <a:tbl>
              <a:tblPr/>
              <a:tblGrid>
                <a:gridCol w="4537080"/>
                <a:gridCol w="4535280"/>
              </a:tblGrid>
              <a:tr h="4251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active/Impuls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tten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92948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ssive fidgetine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remaining seated when sitting is 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lings of restlessness (teens) or inappropriate running around or climbing (kid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playing quiet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keep up with, seeming to always be "on the g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ssive tal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waiting tur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rting out answers too quick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uption or intrusion of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ure to provide close attention to detail, careless mistak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maintaining attention in play, school, or home 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ms not to listen, even when directly addres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s to follow through (homework, chor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organizing tasks, activities, and belong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ds tasks that require consistent mental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s objects required for tasks or activities (school books, sports equipme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ily distracted by irrelevant stimu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getfulness in routine 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74680" y="1393920"/>
          <a:ext cx="9510840" cy="5894280"/>
        </p:xfrm>
        <a:graphic>
          <a:graphicData uri="http://schemas.openxmlformats.org/drawingml/2006/table">
            <a:tbl>
              <a:tblPr/>
              <a:tblGrid>
                <a:gridCol w="1955880"/>
                <a:gridCol w="1971720"/>
                <a:gridCol w="1690560"/>
                <a:gridCol w="1992240"/>
                <a:gridCol w="1900440"/>
              </a:tblGrid>
              <a:tr h="1271520"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al Var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logic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al Dis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otional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havioral Disor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ychosocial or environmental probl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l Cond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536400"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lectual dis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dis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ssion or mood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 abuse or negl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ing or vision impair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55640"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ted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or communication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xie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ssful home enviro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ep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800280"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var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developmental syndr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sitional defiant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dequate or punitive paren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7488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zure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ntal psychopathology or substance ab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tance ab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s 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3640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lae of CNS trauma/inf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ppropriate education set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crine (thyroid/D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1916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 coordination disor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S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ment disor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t school abs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ac (HF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 allerg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al Rating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t">
            <a:normAutofit fontScale="42000"/>
          </a:bodyPr>
          <a:p>
            <a:pPr marL="181080" indent="-13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adband Scales: core symptoms + internalizing/externalizing behavior (S&amp;S &lt;86%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rs 3</a:t>
            </a:r>
            <a:r>
              <a:rPr b="0" lang="en-US" sz="4400" spc="-1" strike="noStrike" baseline="33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Behavior Assessment System for Children (BASC), Child Behavior Checklist/Teacher Repor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1080" indent="-13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H specific scales (S&amp;S &gt;90%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HD Comprehensive Teachers Rating Scale (ACTeR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HD Rating Scale (DSM-IV Criteri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ldhood Attention Problems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rs 3</a:t>
            </a:r>
            <a:r>
              <a:rPr b="0" lang="en-US" sz="4400" spc="-1" strike="noStrike" baseline="33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hort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C Monitor Rating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ruptive Behavior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derbilt Assessment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1080" indent="-13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al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1080" indent="-13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ychometric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is DSM-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8000"/>
          </a:bodyPr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 17 year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6 symptoms of hyperactive and impuls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6 symptoms of innatt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7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5 symptoms of hyperactive and impuls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5 symptoms of inatt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yperkinetic disorder (Europ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least 6 symptoms of inattention, at least 3 symptoms of hyperactivity and at least 1 symptom of impulsiv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8T18:40:19Z</dcterms:created>
  <dc:creator>Lorena Salcedo-Alvarado</dc:creator>
  <dc:description/>
  <dc:language>en-US</dc:language>
  <cp:lastModifiedBy>Lorena Salcedo-Alvarado</cp:lastModifiedBy>
  <dcterms:modified xsi:type="dcterms:W3CDTF">2017-04-13T14:54:56Z</dcterms:modified>
  <cp:revision>15</cp:revision>
  <dc:subject/>
  <dc:title>Attention Deficit Hyperactive Disorder</dc:title>
</cp:coreProperties>
</file>