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27120" y="845640"/>
            <a:ext cx="4718160" cy="32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13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41048-439E-4BF2-A563-68DF5F255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E849-DDDB-4E97-ACA9-AACD13714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61F76-C4ED-4855-B666-7329A727E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8B72A-68AA-43EA-89D7-BE48B290E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0EE32-DB82-4104-B628-A9B897131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C20F2-D978-4AB0-9CFA-E1B1453AD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15F37-22A5-4152-8E82-192490C96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D815B-D445-4ED4-9E22-17349D4D7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AB66E-9AFC-44A9-8DFB-0D59FCB55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62BF-74D9-4640-92B2-AB976BCA4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C4F3-CC69-440A-85B8-44EE3F79C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789D7-26ED-4D33-A00C-C7CF8D045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structural and functional brain imaging, animal studies, and the response to drugs with noradrenergic activity (eg, methylpheni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Environmental: diet, artificial colors/flavors, preservatives, sugar, food sensitivity, acetaminophen (unproven), smoking (confoun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Dopamine, serotonin transporter, serotonin receptor, dopamine beta hydroxylase, sinaptosome assoc protein, glutamate 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Reversed or absent asymmetry of caudate nucleus, smaller cerebral and cerebellar volume, smaller posterior corpus callosum regions, and increased gray matter in the posterior temporal and inferior parietal cor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Clinical: processes involved in forward planning, including abstract reasoning, mental flexibility, working memory) and/or difficulties with response inhib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WenQuanYi Zen Hei"/>
              </a:rPr>
              <a:t>- noradrenergic system is involved in the modulation of higher cortical functions, including attention, alertness, vigilance, and executive function (norepinephrine-dopamine imbal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54730-ACEC-429E-902D-52E657296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B6D41-1545-40C2-99C9-1977F8464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WenQuanYi Zen Hei"/>
              </a:rPr>
              <a:t>- symptoms typically are observed by the time the child reaches 4 years of and increase, peaking at 7-8 years, then dec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E8F5-986C-4CC5-BE7C-24B12FAC9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13EBE-7664-45D6-AF9F-A2E340F64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9800" y="4401720"/>
            <a:ext cx="62928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</a:t>
            </a:r>
            <a:r>
              <a:rPr b="0" lang="en-US" sz="1600" spc="-1" strike="noStrike" baseline="33000">
                <a:solidFill>
                  <a:srgbClr val="000000"/>
                </a:solidFill>
                <a:latin typeface="Arial"/>
                <a:ea typeface="WenQuanYi Zen Hei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: ADHD + internal/external symptoms, DSM-IV and DSM-V sco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: more evaluation of general problems: aggression, conduct, anxiety, depression, learning, adapatability,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 Behavior Checklist: somatic, social, attention, anxiety, depression, aggression, withdra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CTeRS: Attention, hyperactive, lack social skills, oppos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ADHD Rating: DSM-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hildhood attention problems: attention, impulsivity, hyper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Conners 3, short: inattentive, hyperactive/impulse, learning, executive function, aggression, peer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BASC monitor: attention/adaptive, hyperactive, internaliz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Disruptive Behavior: DSM-IV symptoms ODD, ADHD, 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- Vanderbilt: ADHD DSM-IV, screen for comorbid conditions ODD, CD, anxiety, de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WenQuanYi Zen Hei"/>
              </a:rPr>
              <a:t>In the US, public schools are federally mandated to perform appropriate evaluations (eg, language, cognitive) at no cost to the family if a child is suspected of having a disability that impairs functioning (eg, ADHD or learning disabilit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89B1-DECF-45CB-9922-8631D17CE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28720" y="846000"/>
            <a:ext cx="4316400" cy="3237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9800" y="4402080"/>
            <a:ext cx="629280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49A-A9C0-4F77-8D58-C0547A9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9C9-3192-414F-9584-A84EB943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A27-B7E1-4D29-9A08-84C0A5BE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56E-A5B8-4738-8B63-C9B09F3B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2A9F-8B61-476E-AFB9-7E680CDB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95C-79A8-4D97-8473-DD0F16C9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109-3AE6-4704-AB75-9CB5022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ADB7-3224-4A5A-B552-1A5CB1EA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3D1-CB75-4629-B385-7E79FA0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0B2-4849-4EAF-883F-A1F3084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C447-6307-4E7D-9CA4-5B17407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5F3-55DE-4C99-842B-13B30F95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B808-A3D3-4B73-A98B-1ADECCDF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6989-4CFF-4790-86FB-0650D900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C78-B91E-405B-9233-05FE2542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DC9-93E8-4BD7-AC52-A29F9711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000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08960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9267-6A79-41CA-B518-EB266E88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663-D7C2-47AB-99B5-EE8FB0DE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A8D-6D32-4748-B2CE-9D0E103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D00-C70E-4A4E-B83D-D9355CF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576000"/>
            <a:ext cx="719784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A4E-FE56-4624-94CC-F5542C2E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570-C805-432D-9DC3-DDA41FEC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0896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214-5CDD-471B-98C5-3D027B4D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0000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960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40F-0D0D-4CCC-A43C-5218009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66CF-11F3-4639-9F59-32A3A4893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76000"/>
            <a:ext cx="71978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0000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84A4-0229-46EC-AD09-DEC95E298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uptodate.com/contents/attention-deficit-hyperactivity-disorder-adhd-in-children-the-basics?source=see_link" TargetMode="External"/><Relationship Id="rId2" Type="http://schemas.openxmlformats.org/officeDocument/2006/relationships/hyperlink" Target="https://www.uptodate.com/contents/symptoms-and-diagnosis-of-attention-deficit-hyperactivity-disorder-in-children-beyond-the-basics?source=see_link" TargetMode="External"/><Relationship Id="rId3" Type="http://schemas.openxmlformats.org/officeDocument/2006/relationships/hyperlink" Target="http://www.incredibleyears.com/index.asp" TargetMode="External"/><Relationship Id="rId4" Type="http://schemas.openxmlformats.org/officeDocument/2006/relationships/hyperlink" Target="http://www.triplep.net/glo-en/home/" TargetMode="External"/><Relationship Id="rId5" Type="http://schemas.openxmlformats.org/officeDocument/2006/relationships/hyperlink" Target="http://www.pcit.org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uptodate.com/external-redirect.do?target_url=http%3A%2F%2Fwww.nichq.org%2Fadhd.html&amp;TOPIC_ID=624" TargetMode="External"/><Relationship Id="rId2" Type="http://schemas.openxmlformats.org/officeDocument/2006/relationships/hyperlink" Target="http://www.nichq.org/childrens-health/adhd/resources/vanderbilt-assessment-scales" TargetMode="External"/><Relationship Id="rId3" Type="http://schemas.openxmlformats.org/officeDocument/2006/relationships/hyperlink" Target="http://www.nichq.org/childrens-health/adhd/resources/adhd-toolkit" TargetMode="External"/><Relationship Id="rId4" Type="http://schemas.openxmlformats.org/officeDocument/2006/relationships/hyperlink" Target="https://www.uptodate.com/external-redirect.do?target_url=http%3A%2F%2Fwww.chadd.org%2FAdvocacy%2FEducation.aspx&amp;TOPIC_ID=624" TargetMode="External"/><Relationship Id="rId5" Type="http://schemas.openxmlformats.org/officeDocument/2006/relationships/hyperlink" Target="http://www.chadd.org/" TargetMode="External"/><Relationship Id="rId6" Type="http://schemas.openxmlformats.org/officeDocument/2006/relationships/hyperlink" Target="http://www.add.org/" TargetMode="External"/><Relationship Id="rId7" Type="http://schemas.openxmlformats.org/officeDocument/2006/relationships/hyperlink" Target="https://add.org/adhd-library/" TargetMode="External"/><Relationship Id="rId8" Type="http://schemas.openxmlformats.org/officeDocument/2006/relationships/hyperlink" Target="https://add.org/adda-virtual-programs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 Deficit Hyperactive Dis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712880"/>
            <a:ext cx="90723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 Anaya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gional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78440" y="3676680"/>
            <a:ext cx="181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639960" y="21844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3280" y="1800360"/>
          <a:ext cx="9072360" cy="9842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365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hool Children (4-5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-age Childre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WenQuanYi Zen Hei"/>
                        </a:rPr>
                        <a:t>≥6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imulant + behavioral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2" name="Text Box 19"/>
          <p:cNvSpPr/>
          <p:nvPr/>
        </p:nvSpPr>
        <p:spPr>
          <a:xfrm>
            <a:off x="549360" y="3108240"/>
            <a:ext cx="896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eatment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hool based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skills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sych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etar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medications: every 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tions: Weekly (titration) to monthly and 3-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trea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duction core symptoms (40-50% compared to base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creased proportion of missing assignments (20-60% per 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ing a daily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distractions to a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specific and logical places for the child to keep his schoolwork, toys, and clot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ting small, reachable goals (see 'Target goals' abo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ing positive behavior (eg, with a "token economy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unintentional reinforcement of negative behavi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harts and checklists to help the child stay "on task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cho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activities in which the child can be successful (eg, hobbies, spor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680" indent="-23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calm discipline (eg, time out, distraction, removing the child from the situ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ac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0280" y="182520"/>
          <a:ext cx="9526680" cy="7294680"/>
        </p:xfrm>
        <a:graphic>
          <a:graphicData uri="http://schemas.openxmlformats.org/drawingml/2006/table">
            <a:tbl>
              <a:tblPr/>
              <a:tblGrid>
                <a:gridCol w="1905120"/>
                <a:gridCol w="1630440"/>
                <a:gridCol w="1261800"/>
                <a:gridCol w="1714680"/>
                <a:gridCol w="3014640"/>
              </a:tblGrid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/Gene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1904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68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Chew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in (g) (Susp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5 kg: 35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6-8 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: 50/50%, up to 13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: 30/70%, 8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20/8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40/60%,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: 9-12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65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methylpheni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n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50/50%, 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1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drine, Zenzedine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ntra (g) (sol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years: 2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0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m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: 8-10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: 13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: 6-8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vanse: body conv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all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0 kg: 4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kg: 6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 gridSpan="5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imu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t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mg/kg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652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-2 adrenergic 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unafec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lonidine 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un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pv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2y: 4 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2y: 7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mg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todate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Bas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Beyond the Ba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-train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credible Years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Forest Parenting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ositive Parenting Progra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arent-Child Interac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preschool program (Head Start, Early Childhood Special Education Servic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6000"/>
          </a:bodyPr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al Initiative for Children's Healthcare Quality (NICHQ) ADHD tool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Vanderbilt Assessment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source Toolkit for Clin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: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National Resource Center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and Adults with Attention Deficit/Hyperactivity Disorder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(CHAD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Attention Deficit Disorder Association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(AD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Multiple resour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virtual programs/worksh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Institute of Mental Health (NIM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2462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klets on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ted States Department of Education: ADH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7960" indent="-24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erican Academy of Child and Adolescent Psychiatry (AACA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 Costa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Contra Costa CHADD affili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03480" y="1800360"/>
            <a:ext cx="590544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ildren 2-1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-age children 8-11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reported 42% increase 2003-2011 (N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-Female ratio 4:1 hyperactive type and 2:1 inattentive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15.1%; Female 6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10 years 7.7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to 14 years 14.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to 17 years 1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rbid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positional defiant disorder 50-8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disorder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xiety 20-4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 3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y 40-6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efinitive but: catecholamine metabolism in cerebral cortex appears to play primary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twin studies have demonstrated concordance up to 92% of monozygotic twins and 33% dizygotic tw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D2, DRD4, DRD5, SLC6A3, SLC6A4, HTR1B, DBH, SNAP25, GRM1, GRM5, GRM7, GRM8, CN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oanatomy: caudate nucleus, cerebral and cerebellar volume, smaller corpus callosum, increased gray matter, smaller prefrontal cortical volum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reduced local activation of basal ganglia and anterior frontal lo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84200"/>
            <a:ext cx="719928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ttentiveness, impulsivity, and hyp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in more than one setting (school and ho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 for at least six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resent before the age of 12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ir function in academic, social, or occupational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excessive for the developmental level of the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be caused by other 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3280" y="1800360"/>
          <a:ext cx="9072360" cy="5354640"/>
        </p:xfrm>
        <a:graphic>
          <a:graphicData uri="http://schemas.openxmlformats.org/drawingml/2006/table">
            <a:tbl>
              <a:tblPr/>
              <a:tblGrid>
                <a:gridCol w="4537080"/>
                <a:gridCol w="4535280"/>
              </a:tblGrid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active/Impuls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tten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9294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fidgetin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remaining seated when sitting is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s of restlessness (teens) or inappropriate running around or climbing (kid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playing quie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keep up with, seeming to always be "on the g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ive tal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waiting tu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rting out answers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ion or intrusion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o provide close attention to detail, careless mistak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maintaining attention in play, school, or hom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ms not to listen, even when directly add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s to follow through (homework, chor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organizing tasks, activities, and belong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ds tasks that require consistent ment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s objects required for tasks or activities (school books, sports equip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ly distracted by irrelevant stimu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fulness in routine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4680" y="1393920"/>
          <a:ext cx="9510840" cy="5894280"/>
        </p:xfrm>
        <a:graphic>
          <a:graphicData uri="http://schemas.openxmlformats.org/drawingml/2006/table">
            <a:tbl>
              <a:tblPr/>
              <a:tblGrid>
                <a:gridCol w="1955880"/>
                <a:gridCol w="1971720"/>
                <a:gridCol w="1690560"/>
                <a:gridCol w="1992240"/>
                <a:gridCol w="1900440"/>
              </a:tblGrid>
              <a:tr h="127152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Var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log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al Dis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otional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social or environmental probl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3640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ectual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dis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 or mood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 abuse or negl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ing or vision impair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564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ted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or communication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ful home enviro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p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00280"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 var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developmental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sitional defian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or punitive pare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7488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zure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dis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al psychopathology or 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nce ab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s 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3640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lae of CNS trauma/inf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ppropriate education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94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e (thyroid/D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19160">
                <a:tc>
                  <a:txBody>
                    <a:bodyPr lIns="90000" rIns="90000" tIns="626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coordination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stment disor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 school abs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(HF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allerg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Rating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t">
            <a:normAutofit fontScale="42000"/>
          </a:bodyPr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adband Scales: core symptoms + internalizing/externalizing behavior (S&amp;S &lt;86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Behavior Assessment System for Children (BASC), Child Behavior Checklist/Teacher Repor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 specific scales (S&amp;S &gt;9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Comprehensive Teachers Rating Scale (ACTeR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HD Rating Scale (DSM-IV Criter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hood Attention Problems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rs 3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hort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C Monitor Rat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Behavior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62520" indent="-136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rbilt Assessment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al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-13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metric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DSM-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 17 year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6 symptoms of in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7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hyperactive and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5 symptoms of inat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erkinetic disorder (Europ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least 6 symptoms of inattention, at least 3 symptoms of hyperactivity and at least 1 symptom of impulsiv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8T18:40:19Z</dcterms:created>
  <dc:creator>Lorena Salcedo-Alvarado</dc:creator>
  <dc:description/>
  <dc:language>en-US</dc:language>
  <cp:lastModifiedBy>Lorena Salcedo-Alvarado</cp:lastModifiedBy>
  <dcterms:modified xsi:type="dcterms:W3CDTF">2017-04-13T14:54:56Z</dcterms:modified>
  <cp:revision>15</cp:revision>
  <dc:subject/>
  <dc:title>Attention Deficit Hyperactive Disorder</dc:title>
</cp:coreProperties>
</file>