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527120" y="845640"/>
            <a:ext cx="471816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13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39884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E261B-CD1A-4613-86B5-541057800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C3020-C5AB-4E36-8A54-AF00E7C582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DEED6-5049-4069-B981-DEC2E3121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737C1-39BD-473C-992E-317EAAB39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25AF9-5C04-4209-8CC6-754DD319B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16222-5C46-49D8-9DBF-33868E4946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FC682-4880-443A-86D4-6B892748CE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DA278-F5D6-4DD1-84FB-2175DBA76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83E72-D620-4955-B8DA-C35C8AFE1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0CC71-FD78-4634-B6B5-6832DA1B47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34A21-0791-4DF0-852A-9B5AB09C4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2EDE6-88A6-4BA2-8AF1-AE56A07295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structural and functional brain imaging, animal studies, and the response to drugs with noradrenergic activity (eg, methylpheni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Environmental: diet, artificial colors/flavors, preservatives, sugar, food sensitivity, acetaminophen (unproven), smoking (confoun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Dopamine, serotonin transporter, serotonin receptor, dopamine beta hydroxylase, sinaptosome assoc protein, glutamate recep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Reversed or absent asymmetry of caudate nucleus, smaller cerebral and cerebellar volume, smaller posterior corpus callosum regions, and increased gray matter in the posterior temporal and inferior parietal cor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Clinical: processes involved in forward planning, including abstract reasoning, mental flexibility, working memory) and/or difficulties with response inhib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noradrenergic system is involved in the modulation of higher cortical functions, including attention, alertness, vigilance, and executive function (norepinephrine-dopamine imbal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8F4B9-552E-408B-B580-6947BD3225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BF13E-383E-4533-B639-232762F2B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WenQuanYi Zen Hei"/>
              </a:rPr>
              <a:t>- symptoms typically are observed by the time the child reaches 4 years of and increase, peaking at 7-8 years, then decli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0B12C-AE9D-45A2-A2DA-F62FC96B6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02154-A00F-43A7-8425-54A61557F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9800" y="4401720"/>
            <a:ext cx="629280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onners 3</a:t>
            </a:r>
            <a:r>
              <a:rPr b="0" lang="en-US" sz="1600" spc="-1" strike="noStrike" baseline="33000">
                <a:solidFill>
                  <a:srgbClr val="000000"/>
                </a:solidFill>
                <a:latin typeface="Arial"/>
                <a:ea typeface="WenQuanYi Zen Hei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: ADHD + internal/external symptoms, DSM-IV and DSM-V sc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BASC: more evaluation of general problems: aggression, conduct, anxiety, depression, learning, adapatability,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hild Behavior Checklist: somatic, social, attention, anxiety, depression, aggression, withdra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ACTeRS: Attention, hyperactive, lack social skills, opposi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ADHD Rating: DSM-I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hildhood attention problems: attention, impulsivity, hyper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onners 3, short: inattentive, hyperactive/impulse, learning, executive function, aggression, peer 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BASC monitor: attention/adaptive, hyperactive, internali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Disruptive Behavior: DSM-IV symptoms ODD, ADHD, 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Vanderbilt: ADHD DSM-IV, screen for comorbid conditions ODD, CD, anxiety, de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In the US, public schools are federally mandated to perform appropriate evaluations (eg, language, cognitive) at no cost to the family if a child is suspected of having a disability that impairs functioning (eg, ADHD or learning disability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BC8C4-7DD0-48B3-B407-1D358106A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4E0C-3408-419F-BFC3-9F2A4BD2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8DB-385E-4F61-9C4C-07A7E16D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CE3-9917-49B3-B431-13E71677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495-94E9-4BDF-8582-96F3E32C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7F92-7864-46D2-AE08-7D87535D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0CA2-4CC7-495A-8CFC-6A34D9BF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BED9-DFC3-4EA1-8C19-A720A483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F9B3-C9D1-486D-A79C-3FF349BF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0515-43AE-49B7-A4D8-06996FEC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576000"/>
            <a:ext cx="719784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5072-5DF0-415F-8071-FDB4E4A0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0673-7E04-4FE8-81F0-98A8F817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ECF-8938-4A02-BE9A-DB219D4A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11D9-080D-42E8-8836-A11C0775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43A1-A620-45E5-89C7-40E310C8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E305-998D-4E13-87A8-EF2A1E38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19EE-276D-4A58-BE1E-0F09414F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6265-8E02-4A82-9340-9F0C4037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1164-3542-4B95-BBA1-ECD8CD22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7F5-5B13-4788-BF51-D6033890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6FB6-B791-4355-9BAE-73A10E2F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576000"/>
            <a:ext cx="719784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9E85-45C9-4492-8B78-022665D1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7818-06F0-43AB-BAAA-154F311A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5509-036E-43C7-8868-C8384300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8DE2-49FE-4FA4-8B0C-AA30E0D1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BC561-70DF-4C0D-A42D-32854C9207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F47D7-8D3A-4753-9A62-2FFFE69EDC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uptodate.com/contents/attention-deficit-hyperactivity-disorder-adhd-in-children-the-basics?source=see_link" TargetMode="External"/><Relationship Id="rId2" Type="http://schemas.openxmlformats.org/officeDocument/2006/relationships/hyperlink" Target="https://www.uptodate.com/contents/symptoms-and-diagnosis-of-attention-deficit-hyperactivity-disorder-in-children-beyond-the-basics?source=see_link" TargetMode="External"/><Relationship Id="rId3" Type="http://schemas.openxmlformats.org/officeDocument/2006/relationships/hyperlink" Target="http://www.incredibleyears.com/index.asp" TargetMode="External"/><Relationship Id="rId4" Type="http://schemas.openxmlformats.org/officeDocument/2006/relationships/hyperlink" Target="http://www.triplep.net/glo-en/home/" TargetMode="External"/><Relationship Id="rId5" Type="http://schemas.openxmlformats.org/officeDocument/2006/relationships/hyperlink" Target="http://www.pcit.org/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uptodate.com/external-redirect.do?target_url=http%3A%2F%2Fwww.nichq.org%2Fadhd.html&amp;TOPIC_ID=624" TargetMode="External"/><Relationship Id="rId2" Type="http://schemas.openxmlformats.org/officeDocument/2006/relationships/hyperlink" Target="http://www.nichq.org/childrens-health/adhd/resources/vanderbilt-assessment-scales" TargetMode="External"/><Relationship Id="rId3" Type="http://schemas.openxmlformats.org/officeDocument/2006/relationships/hyperlink" Target="http://www.nichq.org/childrens-health/adhd/resources/adhd-toolkit" TargetMode="External"/><Relationship Id="rId4" Type="http://schemas.openxmlformats.org/officeDocument/2006/relationships/hyperlink" Target="https://www.uptodate.com/external-redirect.do?target_url=http%3A%2F%2Fwww.chadd.org%2FAdvocacy%2FEducation.aspx&amp;TOPIC_ID=624" TargetMode="External"/><Relationship Id="rId5" Type="http://schemas.openxmlformats.org/officeDocument/2006/relationships/hyperlink" Target="http://www.chadd.org/" TargetMode="External"/><Relationship Id="rId6" Type="http://schemas.openxmlformats.org/officeDocument/2006/relationships/hyperlink" Target="http://www.add.org/" TargetMode="External"/><Relationship Id="rId7" Type="http://schemas.openxmlformats.org/officeDocument/2006/relationships/hyperlink" Target="https://add.org/adhd-library/" TargetMode="External"/><Relationship Id="rId8" Type="http://schemas.openxmlformats.org/officeDocument/2006/relationships/hyperlink" Target="https://add.org/adda-virtual-programs/" TargetMode="External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tion Deficit Hyperactive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12880"/>
            <a:ext cx="907236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briel Anaya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 Costa Regional Medical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978440" y="3676680"/>
            <a:ext cx="181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3639960" y="21844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03280" y="1800360"/>
          <a:ext cx="9072360" cy="984240"/>
        </p:xfrm>
        <a:graphic>
          <a:graphicData uri="http://schemas.openxmlformats.org/drawingml/2006/table">
            <a:tbl>
              <a:tblPr/>
              <a:tblGrid>
                <a:gridCol w="4537080"/>
                <a:gridCol w="4535280"/>
              </a:tblGrid>
              <a:tr h="3650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chool Children (4-5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-age Childre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Zen Hei"/>
                        </a:rPr>
                        <a:t>≥6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Behavioral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Stimu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timulant + behavioral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12" name="Text Box 19"/>
          <p:cNvSpPr/>
          <p:nvPr/>
        </p:nvSpPr>
        <p:spPr>
          <a:xfrm>
            <a:off x="549360" y="3108240"/>
            <a:ext cx="89614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treatment 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chool based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cial skills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sych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ietary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o medications: every 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edications: Weekly (titration) to monthly and 3-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o treat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duction core symptoms (40-50% compared to base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ecreased proportion of missing assignments (20-60% per 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72000"/>
          </a:bodyPr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ing a daily sche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ing distractions to a minim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ing specific and logical places for the child to keep his schoolwork, toys, and clot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ting small, reachable goals (see 'Target goals' abov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arding positive behavior (eg, with a "token economy"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unintentional reinforcement of negative behavi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charts and checklists to help the child stay "on task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ing cho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activities in which the child can be successful (eg, hobbies, spor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calm discipline (eg, time out, distraction, removing the child from the situ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maco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60280" y="182520"/>
          <a:ext cx="9526680" cy="7294680"/>
        </p:xfrm>
        <a:graphic>
          <a:graphicData uri="http://schemas.openxmlformats.org/drawingml/2006/table">
            <a:tbl>
              <a:tblPr/>
              <a:tblGrid>
                <a:gridCol w="1905120"/>
                <a:gridCol w="1630440"/>
                <a:gridCol w="1261800"/>
                <a:gridCol w="1714680"/>
                <a:gridCol w="3014640"/>
              </a:tblGrid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e/Gene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ed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19040">
                <a:tc gridSpan="5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68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pheni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talin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in (g) (Chew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in (g) (Suspen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25 kg: 35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5 k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6-8 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: 50/50%, up to 13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: 30/70%, 8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20/80%, 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40/60%, 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: 9-12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650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xmethylpheni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alin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50/50%, 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43172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xtroampheta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drine, Zenzedine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ntra (g) (solu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 years: 2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6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50kg: 4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0 m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8-10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13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: 6-8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vanse: body conv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1920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hetamine-dextroampheta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rall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50 kg: 4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0 k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200">
                <a:tc gridSpan="5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timu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t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 mg/kg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652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-2 adrenergic agon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unafecine 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lonidine 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un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v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2y: 4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2y: 7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mg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todate: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Bas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yond the Ba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-training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ncredible Years Parenting Progra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Forest Parenting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ositive Parenting Progra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arent-Child Interaction Thera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lified preschool program (Head Start, Early Childhood Special Education Servi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76000"/>
          </a:bodyPr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National Initiative for Children's Healthcare Quality (NICHQ) ADHD tool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Vanderbilt Assessment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Resource Toolkit for Clinici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achers: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National Resource Center on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 and Adults with Attention Deficit/Hyperactivity Disorder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(CHAD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Attention Deficit Disorder Association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(AD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Multiple resour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virtual programs/worksh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Institute of Mental Health (NIM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klets on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United States Department of Education: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merican Academy of Child and Adolescent Psychiatry (AACA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 Costa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t Contra Costa CHADD affil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03480" y="1800360"/>
            <a:ext cx="590544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0000"/>
          </a:bodyPr>
          <a:p>
            <a:pPr marL="388440" indent="-291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ildren 2-1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-age children 8-11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reported 42% increase 2003-2011 (NS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-Female ratio 4:1 hyperactive type and 2:1 inattentive 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 15.1%; Female 6.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o 10 years 7.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 to 14 years 14.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 to 17 years 1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rbid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positional defiant disorder 50-8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uct disorder 3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xiety 20-4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ression 3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ing disability 40-6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definitive but: catecholamine metabolism in cerebral cortex appears to play primary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tic twin studies have demonstrated concordance up to 92% of monozygotic twins and 33% dizygotic twi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D2, DRD4, DRD5, SLC6A3, SLC6A4, HTR1B, DBH, SNAP25, GRM1, GRM5, GRM7, GRM8, CNV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uroanatomy: caudate nucleus, cerebral and cerebellar volume, smaller corpus callosum, increased gray matter, smaller prefrontal cortical volume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educed local activation of basal ganglia and anterior frontal lo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84200"/>
            <a:ext cx="719928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ttentiveness, impulsivity, and hyp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resent in more than one setting (school and ho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 for at least six mon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resent before the age of 12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ir function in academic, social, or occupational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excessive for the developmental level of the chi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be caused by other 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03280" y="1800360"/>
          <a:ext cx="9072360" cy="5354640"/>
        </p:xfrm>
        <a:graphic>
          <a:graphicData uri="http://schemas.openxmlformats.org/drawingml/2006/table">
            <a:tbl>
              <a:tblPr/>
              <a:tblGrid>
                <a:gridCol w="4537080"/>
                <a:gridCol w="4535280"/>
              </a:tblGrid>
              <a:tr h="4251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active/Impuls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tten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9294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ive fidgetine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remaining seated when sitting is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ings of restlessness (teens) or inappropriate running around or climbing (kid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playing quie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keep up with, seeming to always be "on the g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ive tal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waiting tur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rting out answers too quick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ion or intrusion of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 to provide close attention to detail, careless mistak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maintaining attention in play, school, or home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ms not to listen, even when directly addres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s to follow through (homework, chor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organizing tasks, activities, and belong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ds tasks that require consistent ment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s objects required for tasks or activities (school books, sports equip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ily distracted by irrelevant stimu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getfulness in routine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74680" y="1393920"/>
          <a:ext cx="9510840" cy="5894280"/>
        </p:xfrm>
        <a:graphic>
          <a:graphicData uri="http://schemas.openxmlformats.org/drawingml/2006/table">
            <a:tbl>
              <a:tblPr/>
              <a:tblGrid>
                <a:gridCol w="1955880"/>
                <a:gridCol w="1971720"/>
                <a:gridCol w="1690560"/>
                <a:gridCol w="1992240"/>
                <a:gridCol w="1900440"/>
              </a:tblGrid>
              <a:tr h="1271520"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al Var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logic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al Dis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otional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havioral Disor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ychosocial or environmental probl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3640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lectual dis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dis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ssion or mood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 abuse or negl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ing or vision impair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5564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ted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or communication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xi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ssful home enviro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0028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var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developmental syndr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sitional defiant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equate or punitive pare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7488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zure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al psychopathology or substance ab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ance ab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s 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640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lae of CNS trauma/inf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ppropriate education set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crine (thyroid/D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1916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coordination disor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ment disor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t school abs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(HF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allerg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Rating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t">
            <a:normAutofit fontScale="42000"/>
          </a:bodyPr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adband Scales: core symptoms + internalizing/externalizing behavior (S&amp;S &lt;86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rs 3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Behavior Assessment System for Children (BASC), Child Behavior Checklist/Teacher Repor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 specific scales (S&amp;S &gt;90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D Comprehensive Teachers Rating Scale (ACTeR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D Rating Scale (DSM-IV Criteri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hood Attention Problems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rs 3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hort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C Monitor Rat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ruptive Behavior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erbilt Assessment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al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metric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is DSM-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 17 year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6 symptoms of hyperactive and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6 symptoms of innat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7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5 symptoms of hyperactive and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5 symptoms of inat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perkinetic disorder (Europ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least 6 symptoms of inattention, at least 3 symptoms of hyperactivity and at least 1 symptom of impulsiv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8T18:40:19Z</dcterms:created>
  <dc:creator>Lorena Salcedo-Alvarado</dc:creator>
  <dc:description/>
  <dc:language>en-US</dc:language>
  <cp:lastModifiedBy>Lorena Salcedo-Alvarado</cp:lastModifiedBy>
  <dcterms:modified xsi:type="dcterms:W3CDTF">2017-04-13T14:54:56Z</dcterms:modified>
  <cp:revision>15</cp:revision>
  <dc:subject/>
  <dc:title>Attention Deficit Hyperactive Disorder</dc:title>
</cp:coreProperties>
</file>