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8EE4-CD3B-4453-8033-F9812212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logy of Cantrell: rare syndrome, has 5 characteristic findings – omphalocele, anterior diaphragmatic hernia, sternal cleft, ectopic cordis, 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A52-AFCD-4A91-BE2D-B5F29E65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A9C-4975-4CC6-9A63-A2C5602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B48-661C-4A36-9EA1-ACC2FEA6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2AB-62A3-46C7-AAFC-1E3DC4E5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C21-0C8E-4B2C-A03F-B499AA6D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0CE-A446-4CC9-97A7-3BE7184B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F86-22F6-4AC5-8719-233B71C4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483-807C-4ECA-860A-5DDE98F6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606-B86C-4158-8FB0-3637FFA3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45E-5E7A-4AE2-92DB-D477CFE4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0AC-2A1F-4D4F-A4D3-2D25512A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443-49AA-4F57-9E45-7371AACB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1C9D-E29A-4F97-AD42-9A92F8A24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0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0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8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8.jpg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7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7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dominal Wall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cilla Joe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Hospital and Research Center at Oak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, midgut returns to the abdomen b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ek of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ic layers of cephalic, caudal, and lateral folds join to close abdomina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omphalocele, folds fail to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 and Omphaloce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incidence of 1 in 2000 bir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-to-female ratio is 1.5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survival &gt;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inc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young maternal age and low gra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prematurity and low birth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has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risk with advanced maternal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e genetic predis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d syndromes and anomalies (45-55%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astro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rd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isomy 13, 18,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EIS complex (omphalocele, bladder extroph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forate anus, spinal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ckwith-Wied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entalogy of Cantr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left pa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ulmonary hypo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ssociated with maternal use of valpr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05120" y="1295280"/>
          <a:ext cx="5310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310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ckwith-Wiedem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523880" y="2209680"/>
          <a:ext cx="60199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0199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ntalogy of Cantr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P synthesized in fetal liver and excreted by fetal kidneys and crosses placenta by 12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maternal MSAFP in neural tube defects, abdominal wall defects, duodenal or esophageal atres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% false positi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ultrasound after 14 weeks ge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niocentesis and fetal 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T to low intermittent s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bowel bags, saran wr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body heat and fluid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positioning to avoid kinking of mesenteric 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 times maintenance fluids with isotonic fl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ical 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ve repair within 2-4 hours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closure for smaller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 primary closure for large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compromised ventilation and abdominal compartment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ilo with sequential reduction of abdominal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fascial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057400" y="990720"/>
          <a:ext cx="5410080" cy="52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4100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467080" y="685800"/>
          <a:ext cx="4560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7080" y="685800"/>
                    <a:ext cx="4560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tality/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gu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 dysmotility and prolonged 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ions from associated anomalies/synd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619280" y="-104760"/>
            <a:ext cx="123825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36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09680" y="533520"/>
            <a:ext cx="4999320" cy="563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7353360" y="582300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8762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619280" y="1098720"/>
            <a:ext cx="12382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 </a:t>
            </a:r>
            <a:r>
              <a:rPr b="0" lang="en-US" sz="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609480"/>
            <a:ext cx="7467480" cy="570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353360" y="46180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1619280" y="1022400"/>
            <a:ext cx="123825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1066680"/>
            <a:ext cx="7467480" cy="515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7353360" y="4694400"/>
            <a:ext cx="11160" cy="1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sac arising from the umbilical cord covers intes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membrane layer consists of amnion and inner lining of periton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ranging from small-&gt;giant defects containing liver, small and large bowel, stomach, spleen, ovaries, and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foreshortened bowel and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abdominal cavity and pulmonary hyp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34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embrane cov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wall defect typically 2-4cm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o the right side of the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contains midgut and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kened, atretic, and possibly ischemic bow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of vascularization of the abdominal wall due to abnormal involution of the right umbilical vein or a vascular accident of omphalomesenteric artery causes abdominal wall weakness and subsequent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pture of a small omphalocele with absorption of the sac and growth of a skin bridge between the abdominal wall defect and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1:39:08Z</dcterms:created>
  <dc:creator>PJoe</dc:creator>
  <dc:description/>
  <dc:language>en-US</dc:language>
  <cp:lastModifiedBy>cinnie chou</cp:lastModifiedBy>
  <dcterms:modified xsi:type="dcterms:W3CDTF">2010-06-20T21:17:11Z</dcterms:modified>
  <cp:revision>61</cp:revision>
  <dc:subject/>
  <dc:title>PowerPoint Presentation</dc:title>
</cp:coreProperties>
</file>