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985F-F800-4A72-B8A9-097A0D912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logy of Cantrell: rare syndrome, has 5 characteristic findings – omphalocele, anterior diaphragmatic hernia, sternal cleft, ectopic cordis, 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F18-F2AB-43E9-8EFB-640A457F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4A6-ECDB-4A88-838B-97113829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37C-DD85-4F84-943D-E7A124F9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05D-2D0C-4DC7-92CF-5E29AA8B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58B-B5F7-4F33-A866-6F909350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903-F550-4828-9D1D-B9AAE914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2EF-7679-4328-948F-27C18460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3BC-5983-4EAD-8CB4-0DD4F0DD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17E-1743-4097-859C-C84E0CAB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5DA-4D49-4459-A6EA-71C1A834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127-B03C-4438-A597-8E915F3D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765-29D9-4B43-B4A3-9B55B5F6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D09E-1A61-48FB-AB43-A4A735549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0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0.jpg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8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8.jpg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7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7.jpg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dominal Wall De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cilla Joe,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’s Hospital and Research Center at Oak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ryology of 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ly, midgut returns to the abdomen by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ek of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atic layers of cephalic, caudal, and lateral folds join to close abdomina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omphalocele, folds fail to 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troschisis and Omphaloce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incidence of 1 in 2000 bir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e-to-female ratio is 1.5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survival &gt; 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inc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young maternal age and low gra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prematurity and low birth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ce has remained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risk with advanced maternal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e genetic predis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d syndromes and anomalies (45-55%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astrointest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ard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risomy 13, 18,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EIS complex (omphalocele, bladder extrophy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forate anus, spinal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eckwith-Wiede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entalogy of Cantr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left pa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ulmonary hypo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associated with maternal use of valpr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905120" y="1295280"/>
          <a:ext cx="5310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310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ckwith-Wiedem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523880" y="2209680"/>
          <a:ext cx="601992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601992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ntalogy of Cantr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P synthesized in fetal liver and excreted by fetal kidneys and crosses placenta by 12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ed maternal MSAFP in neural tube defects, abdominal wall defects, duodenal or esophageal atres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% false positi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ultrasound after 14 weeks ge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niocentesis and fetal echocard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T to low intermittent s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bowel bags, saran wr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on of body heat and fluid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 positioning to avoid kinking of mesenteric vess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5 times maintenance fluids with isotonic flu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gical Manage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ve repair within 2-4 hours of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closure for smaller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ed primary closure for large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compromised ventilation and abdominal compartment syndr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ilo with sequential reduction of abdominal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fascial 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057400" y="990720"/>
          <a:ext cx="5410080" cy="52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90720"/>
                    <a:ext cx="541008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467080" y="685800"/>
          <a:ext cx="4560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7080" y="685800"/>
                    <a:ext cx="4560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tality/Morb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gut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 dysmotility and prolonged i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cations from associated anomalies/syndr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619280" y="-104760"/>
            <a:ext cx="1238256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36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09680" y="533520"/>
            <a:ext cx="4999320" cy="563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7353360" y="582300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8762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619280" y="1098720"/>
            <a:ext cx="123825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  </a:t>
            </a:r>
            <a:r>
              <a:rPr b="0" lang="en-US" sz="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609480"/>
            <a:ext cx="7467480" cy="570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353360" y="461808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1619280" y="1022400"/>
            <a:ext cx="123825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2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14400" y="1066680"/>
            <a:ext cx="7467480" cy="5153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7353360" y="4694400"/>
            <a:ext cx="11160" cy="10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ane sac arising from the umbilical cord covers intest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membrane layer consists of amnion and inner lining of peritone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ranging from small-&gt;giant defects containing liver, small and large bowel, stomach, spleen, ovaries, and te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foreshortened bowel and mal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abdominal cavity and pulmonary hypo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734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embrane cov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wall defect typically 2-4cm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al to the right side of the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contains midgut and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ckened, atretic, and possibly ischemic bow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mal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ryology of 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of vascularization of the abdominal wall due to abnormal involution of the right umbilical vein or a vascular accident of omphalomesenteric artery causes abdominal wall weakness and subsequent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pture of a small omphalocele with absorption of the sac and growth of a skin bridge between the abdominal wall defect and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1:39:08Z</dcterms:created>
  <dc:creator>PJoe</dc:creator>
  <dc:description/>
  <dc:language>en-US</dc:language>
  <cp:lastModifiedBy>cinnie chou</cp:lastModifiedBy>
  <dcterms:modified xsi:type="dcterms:W3CDTF">2010-06-20T21:17:11Z</dcterms:modified>
  <cp:revision>61</cp:revision>
  <dc:subject/>
  <dc:title>PowerPoint Presentation</dc:title>
</cp:coreProperties>
</file>