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5F5F1-1E38-4A4B-ACBD-405EFDA321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3F21-1480-48B5-85E2-1DC26E9084BD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8CC35-3742-4679-B98E-150CFAFC136E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J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1BE6-D9C5-4A81-A2C0-B3C68BCEDABD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JB &amp; 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NAP-90 &amp; CBCL / TRF: broader, more global picture, less false positives, not end-all. Should be administered parents, teachers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NAP-IV &amp; Connors: short, better to follow behavior over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850FF-E1EB-4DA3-A30B-916962522185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JB / 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SONS FOR ASSESSING STRENGTH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 BACK TO FAMILY; GIVE THEM H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IN DEVISING INTERVEN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BDB4B-A00C-4587-BAC6-87A2F995E92B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F40BB-7B9A-48E6-9A8B-32CE3339F7A3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J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9CF6C-756E-45EB-AFB3-CD5A81381F16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J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6941F-BB2B-4B29-B53C-E0BB7528CDE6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C5591-77A5-4A15-8231-DCEA3F2519C8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A3836-73C9-466A-8019-6A6FEA509F52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17F8E-929B-4C3C-B035-A35ADDCCD6FA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J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D607A-9196-4A6C-8439-F76A6831C39F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J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F3B94-2F05-459A-A3BB-6D562AEEDC45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J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ishment- CULTURAL SENSI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B4761-0F71-4899-9225-C41CF5B2DCBB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ACA1F-0F3B-4778-BDA6-AFB37D16F3BC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J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8EFF5-71FE-4828-8831-D7A28F796750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J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05720-DB95-4DC8-983F-09B99AE9CF6E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46C2F-D1B2-4EF2-B61A-03EEDF221A77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34FF4-C1B7-44B4-8C04-95B3E77CFA28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ALLY, CULTURALLY B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BC3EC-0579-4E0D-86C7-7D771F9FFAC3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J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C352-B8E5-4C47-8637-D75A3F48A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F94A-8929-44B3-875F-C5EA887A3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3B4E-0DF0-4C0A-85B2-99CA758E6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F7B9-AA2E-4466-B062-6E136356A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1E9EB-007E-47F2-8931-DE174D463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68CD1-0063-4245-AFB6-83C2B2E77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05729-2228-44AC-AD7B-273AE27AA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4AD4E-0568-4319-9DBB-161F2E87C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49571-8FBE-4876-8CFB-64884AC66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E1A0E-DE94-4997-9DB0-C46090FE0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9080E-8EC0-4CCA-A57A-6402BF84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0C7B-826A-4A61-9D9F-9DFFAA7B9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8F367-9F94-4D5E-B134-BF6A5FBB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C638A-2EA7-42DA-B963-2F015348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ABE78-DF5F-4244-B11D-356B4E33E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D29E0-8834-48CC-A387-7A4930AD2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D1157-3FF2-470E-97F5-44BAACF6B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6288-FD0E-4344-A1A4-D94169352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4E4A-6411-404E-A24D-E787A12EF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BD3A-7FD2-4DD8-9B79-A109FBF30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546F-E72B-41C1-8B6E-FC54A58A5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F20E-3F7C-4EAF-82FE-3FB729BF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3CC8-85BE-4CB0-9FC8-0168A8A7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AD6D-49C1-4592-B94C-808F2FDB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13901-883A-47A5-A46B-7A8017F761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7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68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3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4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7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8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29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0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1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2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3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4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5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6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7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8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39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0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1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2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3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4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5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6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7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8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49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0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1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2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3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4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5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6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76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65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3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4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6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>
                  <a:gd name="textAreaLeft" fmla="*/ 360 w 247680"/>
                  <a:gd name="textAreaRight" fmla="*/ 24840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75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7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8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9"/>
              <p:cNvSpPr/>
              <p:nvPr/>
            </p:nvSpPr>
            <p:spPr>
              <a:xfrm rot="5400000">
                <a:off x="8090640" y="5314320"/>
                <a:ext cx="247680" cy="2491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8C4B6-DB80-4F40-9870-B0A2D551B93E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ttention-Deficit / Hyperactivity Disord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295280" y="3276720"/>
            <a:ext cx="655344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oss Andelman, M.D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Contra Costa Children’s Mental Health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CCRMC Noon Lecture Seri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September 8</a:t>
            </a:r>
            <a:r>
              <a:rPr b="0" i="1" lang="en-US" sz="2000" spc="-1" strike="noStrike" baseline="30000">
                <a:solidFill>
                  <a:srgbClr val="40458c"/>
                </a:solidFill>
                <a:latin typeface="Tahoma"/>
              </a:rPr>
              <a:t>th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 2009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, Presentation</a:t>
            </a:r>
            <a:br>
              <a:rPr sz="44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-Elementary Ag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ifficulty, especially with challenging wor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omework disorganized, messy, with careless error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asily distracted, unable to sustain atten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ifficulty forming &amp; keeping peer relationship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nny Cantwell's 'lack of social savoir-faire'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erceived as poorly controlled, disrespectful, disruptive,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class clown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, immature,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b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mpulsivity and noncompliance now result in trips to the principal's offi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685800" y="304920"/>
            <a:ext cx="8153280" cy="59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, Presentation</a:t>
            </a:r>
            <a:br>
              <a:rPr sz="40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-Adolescence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rom 'on the go' to fidgety and restles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chool performance inconsiste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75000"/>
              </a:lnSpc>
              <a:spcBef>
                <a:spcPts val="17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f not yet diagnosed, likely to be intellige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75000"/>
              </a:lnSpc>
              <a:spcBef>
                <a:spcPts val="17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oor organization &amp; poor follow through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ersistent high risk behavi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75000"/>
              </a:lnSpc>
              <a:spcBef>
                <a:spcPts val="17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ike and auto acciden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75000"/>
              </a:lnSpc>
              <a:spcBef>
                <a:spcPts val="17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rug and alcohol us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ck of social skills now impacts on both  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ame-sex and opposite-sex relationship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838080" y="1752480"/>
            <a:ext cx="7925040" cy="48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749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ailure to meet educational and career goal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65000"/>
              </a:lnSpc>
              <a:spcBef>
                <a:spcPts val="1250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oor organization, time management, and Procrastination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65000"/>
              </a:lnSpc>
              <a:spcBef>
                <a:spcPts val="1250"/>
              </a:spcBef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nterpersonal instability at home and at wor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oor social skills 'grown up‘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65000"/>
              </a:lnSpc>
              <a:spcBef>
                <a:spcPts val="1250"/>
              </a:spcBef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hort fuse, irritabilit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65000"/>
              </a:lnSpc>
              <a:spcBef>
                <a:spcPts val="1250"/>
              </a:spcBef>
              <a:buSzPct val="1131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nability to maintain long-term relationship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y still be restless or fidge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buSzPct val="11307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y be drawn to high risk activities &amp;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ubstance abus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buSzPct val="11307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y have legal problem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buSzPct val="11307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y have low self-estee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762120" y="304920"/>
            <a:ext cx="693396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, Presentation</a:t>
            </a:r>
            <a:br>
              <a:rPr sz="28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-Adul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 - Assessment</a:t>
            </a:r>
            <a:br>
              <a:rPr sz="36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iagnostic Bottom Lin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iagnostic interviews with parents &amp; child or adult +/- spouse/ co-work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ating scales – e.g. SNAP, Vanderbilt, Conners, &amp; Adult ADHD checklis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rills and Extr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bservation of behavior in </a:t>
            </a:r>
            <a:r>
              <a:rPr b="0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natural contex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edical and / or neurological evalu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gnitive, psycholinguistic, and psycho-educational test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685800" y="228600"/>
            <a:ext cx="7924680" cy="60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, Initial Assessment</a:t>
            </a:r>
            <a:br>
              <a:rPr sz="40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-Goals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749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termine presence of core symptoms (Sx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749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ule out alternate explanations for symptom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749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ssess for co-morbid condition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749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btain baseline ratings of symptom severity and functional impairme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749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ducate family about disord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749"/>
              </a:spcBef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ispel myths and normalize condi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, Initial Assessment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-Interview and History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9250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ymptom &amp; impairment histor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ow long / how bad / where / whe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amily’s understanding of proble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hat has helped? What has not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st mental health histor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irth, development, and medical histor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ocial and educational histor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amily and home environme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amily psychiatric histor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dividual and family strengths and resour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ADHDCOFFE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, Treatment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-Goal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duce core symptoms of ADH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tablish individual target symptom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mprove functioning in all areas of impairm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ssess for and attend to co-occurring condi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inimize adverse effects of therap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, Treatment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i="1" lang="en-US" sz="3600" spc="-1" strike="noStrike">
                <a:solidFill>
                  <a:srgbClr val="660066"/>
                </a:solidFill>
                <a:latin typeface="Tahoma"/>
              </a:rPr>
              <a:t>Treatment is Multimodal!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sycho-Edu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sycho-Pharmacolog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sycho-Soci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ducational Intervention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rent Training and Suppor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ocial Skills Train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creational Mainstream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dividual and Group Psychotherapi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ADHD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Psychopharmacology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1604880" y="-5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7" name="Picture 3" descr="kids taking about their teacher"/>
          <p:cNvPicPr/>
          <p:nvPr/>
        </p:nvPicPr>
        <p:blipFill>
          <a:blip r:embed="rId1"/>
          <a:stretch/>
        </p:blipFill>
        <p:spPr>
          <a:xfrm>
            <a:off x="380880" y="1066680"/>
            <a:ext cx="5554800" cy="5562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533520" y="685800"/>
            <a:ext cx="7696080" cy="41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ADHD Diagnosis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A persistent pattern of inattention and/or hyperactivity-impulsivity that is more frequent and severe than is typically observed in individuals at comparable level of development.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DSM IV, APA 1994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, Treatment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-Psychopharmacology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ymptoms likely to respond to med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atten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mpulsivi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yperactivi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Non-compliance with authori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Impulsive aggress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Social defici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Academic performa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, Treatment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-Psychopharmacology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1467000" y="11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2" name="Picture 3" descr="ritalin"/>
          <p:cNvPicPr/>
          <p:nvPr/>
        </p:nvPicPr>
        <p:blipFill>
          <a:blip r:embed="rId1"/>
          <a:stretch/>
        </p:blipFill>
        <p:spPr>
          <a:xfrm>
            <a:off x="380880" y="1447920"/>
            <a:ext cx="7467840" cy="514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, Treatment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-Psychopharmacology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Psychostimulants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MPH, dextroamphetamine, mixed amphetamin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&gt;200 double-blind random controlled trials (RCT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Typical investigations of efficacy usually quite brief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Other medications found effective in RCTs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Tricyclic Antidepressants (&gt;18 trial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tomoxetin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Bupropr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lpha-2 agonis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mising, efficacy not yet fully establishe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enlafaxine, Nicotine, modafinil, donepezi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, Psychopharmacology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-? Adverse effects of stimulant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Weight loss; Sleep disturbance; Mood lability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? Risk of sudden death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? Induce tics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? Height suppression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? Dependence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? Drug abuse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, Psychopharmacology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-Stimulant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Andelman (Cantwell-UCLA) Algorithm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rial of one of the long-acting formulations, titrating dose weekly, and monitoring benefits and side effects through parent and child interviews, and teacher serial checklis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ncerta 18mg – 36 mg – 54 mg qAM;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tadate CD 20mg – 40 mg - 60mg qAM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xadrine Spansule 10 mg – 20 mg - 30mg qAM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dderall XR 10 mg – 20 mg -30mg qA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yvance 20mg – 30 mg – 40 mg – 50 mg qA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, Psychopharmacology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-Beyond Stimulant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tomoxetine (Strattera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itiate 0.5mg/kg/D qAM or 10m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itrate alt weekly to 1.2mg/kg or 80mg Max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upropion (Wellbutrin [SR]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itiate 3mg/kg/D qAM to TID [BID for SR]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itrate weekly to 7mg/kg/D or 400mg Max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lonidine (Catapres) or Guanfacine (Tenex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itiate 0.05mg qHS (.5mg Guanfacin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itrate weekly to .05mg TID (.5mg Guanfacine), then to .1mg TID Max (1mg TID Guanfacin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, Treatment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-Psychosocial intervention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Arial"/>
              </a:rPr>
              <a:t>Behavioral parent support &amp; train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Bibliotherapy / Organizational suppor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Arial"/>
              </a:rPr>
              <a:t>Behavioral classroom interven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Arial"/>
              </a:rPr>
              <a:t>Social skills group therap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Arial"/>
              </a:rPr>
              <a:t>Individual psychotherap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0458c"/>
                </a:solidFill>
                <a:latin typeface="Arial"/>
              </a:rPr>
              <a:t>Unfortunately not all that usefu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, Treatment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-P</a:t>
            </a: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arent train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154764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5" name="Picture 3" descr="All%20tied%20up"/>
          <p:cNvPicPr/>
          <p:nvPr/>
        </p:nvPicPr>
        <p:blipFill>
          <a:blip r:embed="rId1"/>
          <a:stretch/>
        </p:blipFill>
        <p:spPr>
          <a:xfrm>
            <a:off x="1523880" y="1523880"/>
            <a:ext cx="6886800" cy="4945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, Psychosocial Treatment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-Parent Train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rmalize hygiene – food and slee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nsistency in expectations / disciplin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ositive reinforceme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mework &amp; Chor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vide structure and predicta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odeling good organizational skill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Home-school-clinician commun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ercise &amp; relax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, Psychosocial Treatment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-Parent Training </a:t>
            </a:r>
            <a:r>
              <a:rPr b="0" i="1" lang="en-US" sz="3600" spc="-1" strike="noStrike">
                <a:solidFill>
                  <a:srgbClr val="660066"/>
                </a:solidFill>
                <a:latin typeface="Tahoma"/>
              </a:rPr>
              <a:t>–Behavioral Mod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0773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Positive attending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0458c"/>
                </a:solidFill>
                <a:latin typeface="Arial"/>
              </a:rPr>
              <a:t>Catch the child doing good: Be specific!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Contingency contract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Identifying “target behavior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Establishing behavioral baselin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Ignoring low-level negative behavior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Creating positive reward syst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Selected use of “punishment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Shaping, cueing, model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: Current Perspectiv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ighly prevalent in community studi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xtremely prevalent in clinical sampl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velopmental disord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esents in childhood (before age 7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ersists into adolescence and into adulthoo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eurobiological disorder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isorder of executive func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pectrum ‘heterogeneous’ disord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ighly inheritab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sponsive to appropriate treatme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4343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Parent Training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-Creating positive reward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71" name="Picture 3" descr="student%20wants%20money%20for%20doing%20classwork"/>
          <p:cNvPicPr/>
          <p:nvPr/>
        </p:nvPicPr>
        <p:blipFill>
          <a:blip r:embed="rId1"/>
          <a:stretch/>
        </p:blipFill>
        <p:spPr>
          <a:xfrm>
            <a:off x="2057400" y="914400"/>
            <a:ext cx="5943600" cy="3070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Parent Training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-Creating positive reward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Rectangle 1028"/>
          <p:cNvSpPr/>
          <p:nvPr/>
        </p:nvSpPr>
        <p:spPr>
          <a:xfrm>
            <a:off x="2114640" y="46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4" name="Picture 1027" descr="ant%20eater%20wants%20ants"/>
          <p:cNvPicPr/>
          <p:nvPr/>
        </p:nvPicPr>
        <p:blipFill>
          <a:blip r:embed="rId1"/>
          <a:stretch/>
        </p:blipFill>
        <p:spPr>
          <a:xfrm>
            <a:off x="685800" y="1676520"/>
            <a:ext cx="4952880" cy="4724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525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-Parent Training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Selective ignor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76" name="Picture 1028" descr="child%20having%20a%20tantrum"/>
          <p:cNvPicPr/>
          <p:nvPr/>
        </p:nvPicPr>
        <p:blipFill>
          <a:blip r:embed="rId1"/>
          <a:stretch/>
        </p:blipFill>
        <p:spPr>
          <a:xfrm>
            <a:off x="2057400" y="914400"/>
            <a:ext cx="5943600" cy="4114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, Psychosocial Treatment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-School-based intervention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183816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9" name="Picture 3" descr="dad glues kid to wall"/>
          <p:cNvPicPr/>
          <p:nvPr/>
        </p:nvPicPr>
        <p:blipFill>
          <a:blip r:embed="rId1"/>
          <a:stretch/>
        </p:blipFill>
        <p:spPr>
          <a:xfrm>
            <a:off x="3733920" y="1523880"/>
            <a:ext cx="4933800" cy="4724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, Psychosocial Treatment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Self Discipline (Adult)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rmalize hygiene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ood and slee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xercise &amp; relax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tructure and predicta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veloping good organizational skill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ttention to schedule, deadlines, &amp; prioriti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, Treatment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-Psycho-Education: Bibliotherapy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98400" indent="-268560">
              <a:lnSpc>
                <a:spcPct val="10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458c"/>
                </a:solidFill>
                <a:uFillTx/>
                <a:latin typeface="AGaramond"/>
                <a:ea typeface="Arial"/>
              </a:rPr>
              <a:t>Driven to Distraction: Recognizing and Coping with Attention Deficit Disorder from Childhood through Adulthood</a:t>
            </a:r>
            <a:r>
              <a:rPr b="0" lang="en-US" sz="2400" spc="-1" strike="noStrike">
                <a:solidFill>
                  <a:srgbClr val="40458c"/>
                </a:solidFill>
                <a:latin typeface="AGaramond"/>
                <a:ea typeface="Arial"/>
              </a:rPr>
              <a:t>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Garamond"/>
                <a:ea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Garamond"/>
                <a:ea typeface="Arial"/>
              </a:rPr>
              <a:t>Hallowell and Ratey, 1995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458c"/>
                </a:solidFill>
                <a:uFillTx/>
                <a:latin typeface="AGaramond"/>
                <a:ea typeface="Arial"/>
              </a:rPr>
              <a:t>Attention Deficit Hyperactivity Disorder: What Every Parent Wants To Know</a:t>
            </a:r>
            <a:r>
              <a:rPr b="0" lang="en-US" sz="2400" spc="-1" strike="noStrike">
                <a:solidFill>
                  <a:srgbClr val="40458c"/>
                </a:solidFill>
                <a:latin typeface="AGaramond"/>
                <a:ea typeface="Arial"/>
              </a:rPr>
              <a:t>, Wodrich, 1994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458c"/>
                </a:solidFill>
                <a:uFillTx/>
                <a:latin typeface="AGaramond"/>
                <a:ea typeface="Arial"/>
              </a:rPr>
              <a:t>ADHD 102: Practical Strategies for Reducing the Deficit</a:t>
            </a:r>
            <a:r>
              <a:rPr b="0" lang="en-US" sz="2400" spc="-1" strike="noStrike">
                <a:solidFill>
                  <a:srgbClr val="40458c"/>
                </a:solidFill>
                <a:latin typeface="AGaramond"/>
                <a:ea typeface="Arial"/>
              </a:rPr>
              <a:t>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Garamond"/>
                <a:ea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Garamond"/>
                <a:ea typeface="Arial"/>
              </a:rPr>
              <a:t>Frank and Smith, 2001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458c"/>
                </a:solidFill>
                <a:uFillTx/>
                <a:latin typeface="AGaramond"/>
                <a:ea typeface="Arial"/>
              </a:rPr>
              <a:t>Getting a Grip on ADD: A Kids Guide to Understanding and Coping With Attention Disorders</a:t>
            </a:r>
            <a:r>
              <a:rPr b="0" lang="en-US" sz="2400" spc="-1" strike="noStrike">
                <a:solidFill>
                  <a:srgbClr val="40458c"/>
                </a:solidFill>
                <a:latin typeface="AGaramond"/>
                <a:ea typeface="Arial"/>
              </a:rPr>
              <a:t>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Garamond"/>
                <a:ea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Garamond"/>
                <a:ea typeface="Arial"/>
              </a:rPr>
              <a:t>Frank and Smith, 1994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458c"/>
                </a:solidFill>
                <a:uFillTx/>
                <a:latin typeface="AGaramond"/>
                <a:ea typeface="Arial"/>
              </a:rPr>
              <a:t>I Would If I Could : a Teenagers Guide ADHD Hyperactivity</a:t>
            </a:r>
            <a:r>
              <a:rPr b="0" lang="en-US" sz="2400" spc="-1" strike="noStrike">
                <a:solidFill>
                  <a:srgbClr val="40458c"/>
                </a:solidFill>
                <a:latin typeface="AGaramond"/>
                <a:ea typeface="Arial"/>
              </a:rPr>
              <a:t>, Gordon, 1992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reat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40458c"/>
                </a:solidFill>
                <a:latin typeface="Tahoma"/>
              </a:rPr>
              <a:t>QUESTIONS?</a:t>
            </a:r>
            <a:endParaRPr b="0" lang="en-US" sz="6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 Etiology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-Genetic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p to 92% concordance in monozygotic twin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eritability - .75 (twin studie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mparable to schizophreni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nic - .48; Height - .9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iblings - 26-50% in full; 9% in half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irst degree family members – 20-25%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opamine transporter gene (DAT1), chr 5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opamine receptor D4 (DRD4*7), chr 1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: D/O of Executive Fx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hifting from one mindset to another - flexibili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rganization - anticipating needs &amp; problem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anning - goal sett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orking memory (short-term) - receiving, storing, retrieving inform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parating affect from cognition - detaching emotions from reas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hibiting and regulating verbal and motoric action - jumping to conclusions too quickly, difficulty waiting in line in an appropriate fash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609480" y="838080"/>
            <a:ext cx="815364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ADHD, DSM IV Diagnosis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6 of 9 Sxs of </a:t>
            </a:r>
            <a:r>
              <a:rPr b="0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inattention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and/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6 of 9 Sxs of </a:t>
            </a:r>
            <a:r>
              <a:rPr b="0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hyperactivity-impulsivi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xs present for more than 6 month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esence of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some Sxs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40458c"/>
                </a:solidFill>
                <a:latin typeface="Tahoma"/>
              </a:rPr>
              <a:t>before age 7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mpairment in 2 or more setting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lear evidence of significant social, academic,   or occupation impairme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SzPct val="1130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ymptoms not secondary to other Dx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, DSM IV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–Inattentive Symptom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ails to give close attention; makes careless mistak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as difficulty sustaining atten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oes not seem to be listening when spoken 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oes not follow through; fails to finish task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ifficulty organizing task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voids tasks requiring sustained mental effor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ften loses thing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asily distracted by extraneous stimul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orgetful in daily activiti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609480" y="457200"/>
            <a:ext cx="8153640" cy="65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, DSM IV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-Hyperactivity-Impulsivity Sympto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idgets or squirm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nable to stay in sea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uns and climbs excessivel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ifficulty playing quietl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On the go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(driven by a motor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alks excessivel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SzPct val="1130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lurts out answer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SzPct val="11307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ifficulty waiting tur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SzPct val="11307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errupts or intrudes on other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6f89f7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HD, Presentation</a:t>
            </a:r>
            <a:br>
              <a:rPr sz="44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-Preschool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yperactivity the ru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requent temper tantrum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mpulsive aggression toward peer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earlessness with frequent injuri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ncompliance with preschool rules &amp; decoru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manding and argumentative with paren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leep disturba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2926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lays in motor-language developme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8:49:40Z</dcterms:created>
  <dc:creator>randelman</dc:creator>
  <dc:description/>
  <dc:language>en-US</dc:language>
  <cp:lastModifiedBy>HCMARTINEZ</cp:lastModifiedBy>
  <dcterms:modified xsi:type="dcterms:W3CDTF">2009-09-08T18:42:24Z</dcterms:modified>
  <cp:revision>86</cp:revision>
  <dc:subject/>
  <dc:title>Attention-Deficit / Hyperactivity Disorder</dc:title>
</cp:coreProperties>
</file>