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E49B-75F4-4A3E-BAE8-10AAA4C33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5024-981B-41DA-A716-B8CA64407DB1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418C-D67A-415E-82A9-21CA01BEEB4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3830-111B-4CFB-93EA-5BD02D16D9BF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 &amp; 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P-90 &amp; CBCL / TRF: broader, more global picture, less false positives, not end-all. Should be administered parents, teach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P-IV &amp; Connors: short, better to follow behavior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5C88-8F06-4A2C-BBAA-D1B408E2561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 / 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ASSESSING STRENGTH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 BACK TO FAMILY; GIVE THEM H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IN DEVISING INTERVEN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D60F-ADBE-43AF-81A8-1EEDC79B62F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464E-8287-4EE9-B7FA-CCE6F1949E2C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76F1-E839-4E8E-9C48-B02DE8F11C87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0A10-55F9-425A-8C4F-77834454ADF6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595B-C258-40FE-9FDC-36ACEA92F38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6A01-2074-443C-B5E1-476993A97185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02A9-E81A-4CF2-A707-CB5C6CAA0301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C979-593B-4DB9-905B-AF3BAE73622A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6942-D88C-49B7-8776-0A297C09C707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ishment- CULTURAL SENSI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F283-2954-4F9F-925E-ACECA6B8D26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A798-729B-477A-A8DE-8D3A76DFE26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86DE-83FA-47BB-9AED-0B9F61213266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8109-0D2F-453A-BDBC-BECEED355A6E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F66A-95E1-4F4E-A1DE-3CB3581DDFA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E2DB-C838-49C2-BFE7-9E1BC1A48BD4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ALLY, CULTURALLY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A4C9-1D04-41B6-86F7-8868CB8F2D3E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DCB9-B14F-4AD0-8EB6-0AE32A90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842-E99E-44E5-819A-8D220161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CF8-F003-4ADA-AC78-D18B0D4C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AE1B-EEA8-49AD-A34B-71361B4D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D5DE-A67C-483B-B267-DD974DE1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644D-87C1-47E4-80B8-6F242B3C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0286-1BAC-4EC3-AD54-C48E2907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A5BD-1336-4694-96A6-D4D7F540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FDC9-FA2A-4B16-982E-0B82858D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9944-D256-40DF-96C7-F115F15B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EBD8-8201-42EB-A789-772F8A9A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7CB2-BFC5-4BD1-BF69-62256AED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F5D8-274F-4D94-A57B-8C5E3BF7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6A85-17CD-4CA1-ABE2-8BAEF84B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1817-0996-446F-8A19-0593E980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93F0-9D09-4720-8DFF-18AA9038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9188-8294-4763-B591-44A747DA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6DBD-36B2-4CC4-987F-3446CE52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A88-7E03-4FAF-B594-E1C0C550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FEF-A7DB-4BAB-A0B0-9848D775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1E12-0AC5-4DCD-89C2-9392080C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886B-D1FA-45BA-A0E5-2927CC9B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B615-6BCD-47D4-A9F9-DCDA4991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75D-DD47-45B9-86F0-105D664B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1D55-E78B-4CEC-8CF1-E35C6206F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68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7C7F-A6C6-43CC-A9B4-D7E8629955C4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ttention-Deficit / Hyperactivity Disor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6553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ss Andelman, M.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Contra Costa Children’s Mental Healt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CCRMC Noon Lecture Seri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September 8</a:t>
            </a:r>
            <a:r>
              <a:rPr b="0" i="1" lang="en-US" sz="20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 2009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resentation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Elementary Ag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iculty, especially with challenging 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mework disorganized, messy, with careless erro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asily distracted, unable to sustain atten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iculty forming &amp; keeping peer relationship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nny Cantwell's 'lack of social savoir-faire'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ceived as poorly controlled, disrespectful, disruptive,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class clow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immature,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b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ulsivity and noncompliance now result in trips to the principal's offi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685800" y="304920"/>
            <a:ext cx="815328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resentation</a:t>
            </a:r>
            <a:br>
              <a:rPr sz="40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Adolescenc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om 'on the go' to fidgety and restl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chool performance inconsist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75000"/>
              </a:lnSpc>
              <a:spcBef>
                <a:spcPts val="17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f not yet diagnosed, likely to be intellig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75000"/>
              </a:lnSpc>
              <a:spcBef>
                <a:spcPts val="17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or organization &amp; poor follow throug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sistent high risk behavi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75000"/>
              </a:lnSpc>
              <a:spcBef>
                <a:spcPts val="17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ike and auto accid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75000"/>
              </a:lnSpc>
              <a:spcBef>
                <a:spcPts val="17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rug and alcohol u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ck of social skills now impacts on both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me-sex and opposite-sex relationship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838080" y="1752480"/>
            <a:ext cx="792504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ilure to meet educational and career goa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65000"/>
              </a:lnSpc>
              <a:spcBef>
                <a:spcPts val="1250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or organization, time management, and Procrastination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65000"/>
              </a:lnSpc>
              <a:spcBef>
                <a:spcPts val="1250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terpersonal instability at home and at wor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or social skills 'grown up‘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65000"/>
              </a:lnSpc>
              <a:spcBef>
                <a:spcPts val="1250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hort fuse, irritabili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65000"/>
              </a:lnSpc>
              <a:spcBef>
                <a:spcPts val="1250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ability to maintain long-term relationshi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y still be restless or fidge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y be drawn to high risk activities &amp;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bstance abu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y have legal proble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SzPct val="1130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y have low self-este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762120" y="304920"/>
            <a:ext cx="6933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resentation</a:t>
            </a:r>
            <a:br>
              <a:rPr sz="28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-Adul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 - Assessment</a:t>
            </a:r>
            <a:br>
              <a:rPr sz="36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agnostic Bottom Li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agnostic interviews with parents &amp; child or adult +/- spouse/ co-work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ting scales – e.g. SNAP, Vanderbilt, Conners, &amp; Adult ADHD checklis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ills and Extr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servation of behavior in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natural contex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dical and / or neurological evalu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gnitive, psycholinguistic, and psycho-educational tes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685800" y="228600"/>
            <a:ext cx="7924680" cy="60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Initial Assessment</a:t>
            </a:r>
            <a:br>
              <a:rPr sz="40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Goal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termine presence of core symptoms (Sx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ule out alternate explanations for sympto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sess for co-morbid condi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tain baseline ratings of symptom severity and functional impair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ducate family about disor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pel myths and normalize condi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Initial Assess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Interview and Histor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mptom &amp; impairment his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w long / how bad / where / wh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amily’s understanding of proble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at has helped? What has not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st mental health his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irth, development, and medical his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cial and educational his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mily and home environ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mily psychiatric his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dividual and family strengths and resour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ADHDCOFF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Goal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duce core symptoms of ADH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ablish individual target sympto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rove functioning in all areas of impair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sess for and attend to co-occurring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nimize adverse effects of therap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660066"/>
                </a:solidFill>
                <a:latin typeface="Tahoma"/>
              </a:rPr>
              <a:t>Treatment is Multimodal!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sycho-Edu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sycho-Pharmac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sycho-Soc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ducational Interven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ent Training and Suppo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cial Skills Trai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reational Mainstream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dividual and Group Psychotherap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DHD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sychopharmacolog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604880" y="-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7" name="Picture 3" descr="kids taking about their teacher"/>
          <p:cNvPicPr/>
          <p:nvPr/>
        </p:nvPicPr>
        <p:blipFill>
          <a:blip r:embed="rId1"/>
          <a:stretch/>
        </p:blipFill>
        <p:spPr>
          <a:xfrm>
            <a:off x="380880" y="1066680"/>
            <a:ext cx="5554800" cy="556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533520" y="685800"/>
            <a:ext cx="769608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DHD Diagnosi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A persistent pattern of inattention and/or hyperactivity-impulsivity that is more frequent and severe than is typically observed in individuals at comparable level of development.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DSM IV, APA 199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sychopharmacolog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mptoms likely to respond to med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atten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ulsiv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yperactiv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Non-compliance with author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Impulsive aggress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Social defici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Academic perform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sychopharmacolog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46700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2" name="Picture 3" descr="ritalin"/>
          <p:cNvPicPr/>
          <p:nvPr/>
        </p:nvPicPr>
        <p:blipFill>
          <a:blip r:embed="rId1"/>
          <a:stretch/>
        </p:blipFill>
        <p:spPr>
          <a:xfrm>
            <a:off x="380880" y="1447920"/>
            <a:ext cx="7467840" cy="514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sychopharmacolog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sychostimulant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MPH, dextroamphetamine, mixed amphetami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&gt;200 double-blind random controlled trials (RCT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ypical investigations of efficacy usually quite brief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Other medications found effective in RCT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ricyclic Antidepressants (&gt;18 trial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omoxet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Bupropr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pha-2 agonis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mising, efficacy not yet fully establish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nlafaxine, Nicotine, modafinil, donepezi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pharmacology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? Adverse effects of stimulant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Weight loss; Sleep disturbance; Mood lability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? Risk of sudden death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? Induce tic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? Height suppression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? Dependenc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? Drug abus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pharmacology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Stimulant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Andelman (Cantwell-UCLA) Algorith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ial of one of the long-acting formulations, titrating dose weekly, and monitoring benefits and side effects through parent and child interviews, and teacher serial checklis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certa 18mg – 36 mg – 54 mg qAM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tadate CD 20mg – 40 mg - 60mg qAM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xadrine Spansule 10 mg – 20 mg - 30mg qAM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derall XR 10 mg – 20 mg -30mg qA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vance 20mg – 30 mg – 40 mg – 50 mg qA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pharmacology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Beyond Stimulant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tomoxetine (Stratte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itiate 0.5mg/kg/D qAM or 10m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trate alt weekly to 1.2mg/kg or 80mg Ma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upropion (Wellbutrin [SR]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itiate 3mg/kg/D qAM to TID [BID for SR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trate weekly to 7mg/kg/D or 400mg Ma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onidine (Catapres) or Guanfacine (Tenex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itiate 0.05mg qHS (.5mg Guanfacin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trate weekly to .05mg TID (.5mg Guanfacine), then to .1mg TID Max (1mg TID Guanfacin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sychosocial intervention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Behavioral parent support &amp; train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ibliotherapy / Organizational suppo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Behavioral classroom interven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Social skills group therap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Individual psychotherap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Arial"/>
              </a:rPr>
              <a:t>Unfortunately not all that usefu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nt train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54764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5" name="Picture 3" descr="All%20tied%20up"/>
          <p:cNvPicPr/>
          <p:nvPr/>
        </p:nvPicPr>
        <p:blipFill>
          <a:blip r:embed="rId1"/>
          <a:stretch/>
        </p:blipFill>
        <p:spPr>
          <a:xfrm>
            <a:off x="1523880" y="1523880"/>
            <a:ext cx="6886800" cy="4945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social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arent Train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rmalize hygiene – food and slee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sistency in expectations / discipli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sitive reinforc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mework &amp; Ch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vide structure and predicta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deling good organizational skil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me-school-clinician commun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ercise &amp; relax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social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arent Training </a:t>
            </a:r>
            <a:r>
              <a:rPr b="0" i="1" lang="en-US" sz="3600" spc="-1" strike="noStrike">
                <a:solidFill>
                  <a:srgbClr val="660066"/>
                </a:solidFill>
                <a:latin typeface="Tahoma"/>
              </a:rPr>
              <a:t>–Behavioral Mo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Positive attending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Arial"/>
              </a:rPr>
              <a:t>Catch the child doing good: Be specific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ontingency contrac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Identifying “target behavior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stablishing behavioral baseli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Ignoring low-level negative behavio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reating positive reward syst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lected use of “punishment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haping, cueing, mode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: Current Perspectiv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ighly prevalent in community stud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tremely prevalent in clinical samp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velopmental disor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sents in childhood (before age 7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sists into adolescence and into adulthoo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urobiological disorde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order of executive fun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ectrum ‘heterogeneous’ disor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ighly inherita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sponsive to appropriate treat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Parent Training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-Creating positive rewar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Picture 3" descr="student%20wants%20money%20for%20doing%20classwork"/>
          <p:cNvPicPr/>
          <p:nvPr/>
        </p:nvPicPr>
        <p:blipFill>
          <a:blip r:embed="rId1"/>
          <a:stretch/>
        </p:blipFill>
        <p:spPr>
          <a:xfrm>
            <a:off x="2057400" y="914400"/>
            <a:ext cx="5943600" cy="307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Parent Training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-Creating positive rewar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Rectangle 1028"/>
          <p:cNvSpPr/>
          <p:nvPr/>
        </p:nvSpPr>
        <p:spPr>
          <a:xfrm>
            <a:off x="211464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4" name="Picture 1027" descr="ant%20eater%20wants%20ants"/>
          <p:cNvPicPr/>
          <p:nvPr/>
        </p:nvPicPr>
        <p:blipFill>
          <a:blip r:embed="rId1"/>
          <a:stretch/>
        </p:blipFill>
        <p:spPr>
          <a:xfrm>
            <a:off x="685800" y="1676520"/>
            <a:ext cx="4952880" cy="472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arent Training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elective ignor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6" name="Picture 1028" descr="child%20having%20a%20tantrum"/>
          <p:cNvPicPr/>
          <p:nvPr/>
        </p:nvPicPr>
        <p:blipFill>
          <a:blip r:embed="rId1"/>
          <a:stretch/>
        </p:blipFill>
        <p:spPr>
          <a:xfrm>
            <a:off x="2057400" y="914400"/>
            <a:ext cx="59436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social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School-based intervention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183816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9" name="Picture 3" descr="dad glues kid to wall"/>
          <p:cNvPicPr/>
          <p:nvPr/>
        </p:nvPicPr>
        <p:blipFill>
          <a:blip r:embed="rId1"/>
          <a:stretch/>
        </p:blipFill>
        <p:spPr>
          <a:xfrm>
            <a:off x="3733920" y="1523880"/>
            <a:ext cx="4933800" cy="472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social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Self Discipline (Adult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rmalize hygien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od and slee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ercise &amp; relax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ructure and predicta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veloping good organizational skil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ttention to schedule, deadlines, &amp; prior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sycho-Education: Bibliotherap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AGaramond"/>
                <a:ea typeface="Arial"/>
              </a:rPr>
              <a:t>Driven to Distraction: Recognizing and Coping with Attention Deficit Disorder from Childhood through Adulthood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Hallowell and Ratey, 1995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AGaramond"/>
                <a:ea typeface="Arial"/>
              </a:rPr>
              <a:t>Attention Deficit Hyperactivity Disorder: What Every Parent Wants To Know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, Wodrich, 1994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AGaramond"/>
                <a:ea typeface="Arial"/>
              </a:rPr>
              <a:t>ADHD 102: Practical Strategies for Reducing the Deficit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Frank and Smith, 2001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AGaramond"/>
                <a:ea typeface="Arial"/>
              </a:rPr>
              <a:t>Getting a Grip on ADD: A Kids Guide to Understanding and Coping With Attention Disorders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Frank and Smith, 1994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AGaramond"/>
                <a:ea typeface="Arial"/>
              </a:rPr>
              <a:t>I Would If I Could : a Teenagers Guide ADHD Hyperactivity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, Gordon, 1992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40458c"/>
                </a:solidFill>
                <a:latin typeface="Tahoma"/>
              </a:rPr>
              <a:t>QUESTIONS?</a:t>
            </a:r>
            <a:endParaRPr b="0" lang="en-US" sz="6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 Etiology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Genetic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p to 92% concordance in monozygotic twi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eritability - .75 (twin studi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parable to schizophren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nic - .48; Height - .9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blings - 26-50% in full; 9% in hal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rst degree family members – 20-25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pamine transporter gene (DAT1), chr 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pamine receptor D4 (DRD4*7), chr 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: D/O of Executive Fx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hifting from one mindset to another - flexibil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rganization - anticipating needs &amp; proble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anning - goal set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orking memory (short-term) - receiving, storing, retrieving inform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parating affect from cognition - detaching emotions from reas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hibiting and regulating verbal and motoric action - jumping to conclusions too quickly, difficulty waiting in line in an appropriate fash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609480" y="838080"/>
            <a:ext cx="815364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DHD, DSM IV Diagnosi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 of 9 Sxs of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inattentio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and/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 of 9 Sxs of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hyperactivity-impulsiv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xs present for more than 6 month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sence of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some Sx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before age 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airment in 2 or more setting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ear evidence of significant social, academic,   or occupation impair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mptoms not secondary to other Dx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DSM IV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–Inattentive Symptom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ils to give close attention; makes careless mistak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s difficulty sustaining atten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es not seem to be listening when spoken 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es not follow through; fails to finish tas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iculty organizing tas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voids tasks requiring sustained mental effo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ften loses thing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asily distracted by extraneous stimul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getful in daily activ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609480" y="457200"/>
            <a:ext cx="8153640" cy="65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DSM IV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-Hyperactivity-Impulsivity Sympt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dgets or squir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able to stay in se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uns and climbs excessive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iculty playing quiet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On the g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driven by a moto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alks excessive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lurts out answ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iculty waiting tur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rupts or intrudes on oth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resentation</a:t>
            </a:r>
            <a:br>
              <a:rPr sz="44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reschoo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yperactivity the ru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equent temper tantru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ulsive aggression toward pe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earlessness with frequent injur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ncompliance with preschool rules &amp; decoru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manding and argumentative with par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leep disturb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lays in motor-language develop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8:49:40Z</dcterms:created>
  <dc:creator>randelman</dc:creator>
  <dc:description/>
  <dc:language>en-US</dc:language>
  <cp:lastModifiedBy>HCMARTINEZ</cp:lastModifiedBy>
  <dcterms:modified xsi:type="dcterms:W3CDTF">2009-09-08T18:42:24Z</dcterms:modified>
  <cp:revision>86</cp:revision>
  <dc:subject/>
  <dc:title>Attention-Deficit / Hyperactivity Disorder</dc:title>
</cp:coreProperties>
</file>