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8A1D-36DD-4D6B-8BA9-D669C6C2A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B444-C25C-4D41-A0CC-E9DF1FE5402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B7BC-7F24-48A7-9C04-17D1B4A74A9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64FB-754B-4C3E-AC1A-E6D4053FD9A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 &amp; 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P-90 &amp; CBCL / TRF: broader, more global picture, less false positives, not end-all. Should be administered parents, teach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P-IV &amp; Connors: short, better to follow behavior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7BA0-5D48-4A61-BE28-62F0738F408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 / 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ASSESSING STRENGTH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BACK TO FAMILY; GIVE THEM H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DEVISING INTERVEN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E939-9A04-4E45-89FA-635B0E92B03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DC12-BB0E-4880-B1C6-15D2A8AE9F4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5950-3727-4977-AE94-518664E5849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4A6A-A2CA-4D46-A82A-E54702A2215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0C55-64BA-491A-93D3-67CC83D450C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761D-1251-45B5-BB27-10AC8F94399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8D7C-6672-41F4-AD62-B26A2E2A089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528D-5260-427E-B350-3C64A8559C6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ED2C-CB2C-4F88-BCA1-C9EC85A57F8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ishment- CULTURAL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B1EB-4847-4B17-A689-ACEBD7AD7FE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42D0-9F01-44EA-90D1-9FB49E3237B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7103-0A20-4A1E-AF9E-97DD40C4A4D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95F5-F169-4CFD-8200-3BF1D0CDAE5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47CA-A16B-4D76-815A-F1CB56DE5D5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EFF1-D078-4409-A957-5C9706956EF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LY, CULTURALLY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1542-93E5-4A0E-B951-22D489AA0A3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35A-4319-4569-9336-C1185627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08B-4338-47A7-B421-AD55E8BB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C48-60B2-44FA-80A9-F4AFA5FF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653-E5ED-4B1E-8243-1FC1749E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2C2D-84FE-497C-B9DB-0E0614C5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407B-982C-4429-AF3F-F97A36CA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879A-3CA8-4E11-AA1B-8558273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44CB-C206-4A3C-90E7-10D69E01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C23C-198C-4BAE-B747-A866FC51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9375-0126-48A5-86F8-CB0DC683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5751-FB7E-4961-9CA9-826B0950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ACE-13C6-4242-97B9-064C8764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DC09-CC19-453B-8DAE-18024568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B0E3-85D4-435C-B88C-3B523D6C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C824-BB76-4BD5-84F4-D1AEA422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5E43-4626-4C71-A085-3FB1C1E9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B7AF-81DA-470F-8C11-27BDAA6F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764-6866-4E95-9F18-5002F9A6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B44-31F0-4577-9978-9C6031BE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68B-ED33-4282-A4EF-347C4278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688-8D5E-4E58-929C-AA40BFCC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BE1-A1EA-405F-9CF9-2DDB87D0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E6C-5C26-4586-A898-1A58E298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2C3-4DEE-417A-A63E-8D63B09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9F7D-ED39-4BD2-AB17-ED60A7672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8804-E6AB-4560-A399-52645DE51F5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ttention-Deficit / Hyperactivity Disor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553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ss Andelman, M.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tra Costa Children’s Mental Healt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CRMC Noon Lecture Ser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September 8</a:t>
            </a:r>
            <a:r>
              <a:rPr b="0" i="1" lang="en-US" sz="20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200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Elementary Ag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, especially with challenging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ework disorganized, messy, with careless err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ily distracted, unable to sustain 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forming &amp; keeping peer relationship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nny Cantwell's 'lack of social savoir-faire'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ceived as poorly controlled, disrespectful, disruptive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lass clow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immature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b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ity and noncompliance now result in trips to the principal's off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685800" y="304920"/>
            <a:ext cx="815328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0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Adolescenc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om 'on the go' to fidgety and rest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hool performance inconsist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not yet diagnosed, likely to be intellig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or organization &amp; poor follow throug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sistent high risk behavi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ike and auto accid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rug and alcohol 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ck of social skills now impacts on both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e-sex and opposite-sex relationship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838080" y="1752480"/>
            <a:ext cx="79250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ilure to meet educational and career go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or organization, time management, and Procrastinati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terpersonal instability at home and at wor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or social skills 'grown up‘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ort fuse, irritabil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ability to maintain long-term relationshi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still be restless or fidge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be drawn to high risk activities &amp;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stance ab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have legal probl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have low self-este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762120" y="304920"/>
            <a:ext cx="6933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28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-Ad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 - Assessment</a:t>
            </a:r>
            <a:br>
              <a:rPr sz="36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agnostic Bottom 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agnostic interviews with parents &amp; child or adult +/- spouse/ co-work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ting scales – e.g. SNAP, Vanderbilt, Conners, &amp; Adult ADHD checkli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ills and Extr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servation of behavior in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atural contex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dical and / or neurological evalu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gnitive, psycholinguistic, and psycho-educational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85800" y="228600"/>
            <a:ext cx="792468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Initial Assessment</a:t>
            </a:r>
            <a:br>
              <a:rPr sz="40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oal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ermine presence of core symptoms (Sx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le out alternate explanations for sympto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sess for co-morbid condi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tain baseline ratings of symptom severity and functional impair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ducate family about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el myths and normalize cond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Initial Assess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Interview and Histor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mptom &amp; impairment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long / how bad / where / wh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amily’s understanding of probl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has helped? What has not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t mental health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irth, development, and medical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cial and educational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mily and home environ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mily psychiatric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ividual and family strengths and resour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ADHDCOFF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oal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duce core symptoms of ADH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individual target sympto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ove functioning in all areas of impair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sess for and attend to co-occurring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nimize adverse effects of 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Treatment is Multimodal!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Edu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Pharmac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So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ducational Interven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ent Training and Sup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cial Skills Trai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reational Mainstream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ividual and Group Psychotherap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DHD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604880" y="-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7" name="Picture 3" descr="kids taking about their teacher"/>
          <p:cNvPicPr/>
          <p:nvPr/>
        </p:nvPicPr>
        <p:blipFill>
          <a:blip r:embed="rId1"/>
          <a:stretch/>
        </p:blipFill>
        <p:spPr>
          <a:xfrm>
            <a:off x="380880" y="1066680"/>
            <a:ext cx="55548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533520" y="685800"/>
            <a:ext cx="76960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DHD Diagnosi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A persistent pattern of inattention and/or hyperactivity-impulsivity that is more frequent and severe than is typically observed in individuals at comparable level of development.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DSM IV, APA 199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mptoms likely to respond to med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yperact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Non-compliance with auth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Impulsive agg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ocial defici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Academic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4670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Picture 3" descr="ritalin"/>
          <p:cNvPicPr/>
          <p:nvPr/>
        </p:nvPicPr>
        <p:blipFill>
          <a:blip r:embed="rId1"/>
          <a:stretch/>
        </p:blipFill>
        <p:spPr>
          <a:xfrm>
            <a:off x="380880" y="1447920"/>
            <a:ext cx="7467840" cy="51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sychostimulan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PH, dextroamphetamine, mixed amphetam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&gt;200 double-blind random controlled trials (RCT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ypical investigations of efficacy usually quite brie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Other medications found effective in RC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ricyclic Antidepressants (&gt;18 trial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omoxet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Bupropr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pha-2 agonis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mising, efficacy not yet fully establish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nlafaxine, Nicotine, modafinil, donepez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? Adverse effects of 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Weight loss; Sleep disturbance; Mood lability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Risk of sudden death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Induce tic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Height suppression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Dependenc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Drug abus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Andelman (Cantwell-UCLA) Algorith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ial of one of the long-acting formulations, titrating dose weekly, and monitoring benefits and side effects through parent and child interviews, and teacher serial checkli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certa 18mg – 36 mg – 54 mg qAM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adate CD 20mg – 40 mg - 60mg qAM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xadrine Spansule 10 mg – 20 mg - 30mg qAM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erall XR 10 mg – 20 mg -30mg q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vance 20mg – 30 mg – 40 mg – 50 mg q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Beyond 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tomoxetine (Stratte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0.5mg/kg/D qAM or 10m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alt weekly to 1.2mg/kg or 80mg Ma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propion (Wellbutrin [SR]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3mg/kg/D qAM to TID [BID for S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weekly to 7mg/kg/D or 400mg Ma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onidine (Catapres) or Guanfacine (Tenex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0.05mg qHS (.5mg Guanfaci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weekly to .05mg TID (.5mg Guanfacine), then to .1mg TID Max (1mg TID Guanfaci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social interven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Behavioral parent support &amp; trai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bliotherapy / Organizational sup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Behavioral classroom interven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Social skills group 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Individual psycho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Unfortunately not all that usefu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nt train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54764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5" name="Picture 3" descr="All%20tied%20up"/>
          <p:cNvPicPr/>
          <p:nvPr/>
        </p:nvPicPr>
        <p:blipFill>
          <a:blip r:embed="rId1"/>
          <a:stretch/>
        </p:blipFill>
        <p:spPr>
          <a:xfrm>
            <a:off x="1523880" y="1523880"/>
            <a:ext cx="6886800" cy="494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rmalize hygiene – food and slee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istency in expectations / discip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sitive reinforc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mework &amp; Ch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vide structure and predict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eling good organizational skil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me-school-clinician commun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ercise &amp; relax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 </a:t>
            </a: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–Behavioral Mo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Positive attending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Catch the child doing good: Be specific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ontingency contrac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Identifying “target behavior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stablishing behavioral baseli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Ignoring low-level negative behavi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reating positive reward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lected use of “punishment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haping, cueing, mode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: Current Perspec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ighly prevalent in community stud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remely prevalent in clinical samp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mental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sents in childhood (before age 7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sists into adolescence and into adultho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urobiological disorde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order of executive fun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ctrum ‘heterogeneous’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ighly inherit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ponsive to appropriate treat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arent Training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-Creating positive rewar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Picture 3" descr="student%20wants%20money%20for%20doing%20classwork"/>
          <p:cNvPicPr/>
          <p:nvPr/>
        </p:nvPicPr>
        <p:blipFill>
          <a:blip r:embed="rId1"/>
          <a:stretch/>
        </p:blipFill>
        <p:spPr>
          <a:xfrm>
            <a:off x="2057400" y="914400"/>
            <a:ext cx="5943600" cy="307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arent Training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-Creating positive rewar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Rectangle 1028"/>
          <p:cNvSpPr/>
          <p:nvPr/>
        </p:nvSpPr>
        <p:spPr>
          <a:xfrm>
            <a:off x="211464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Picture 1027" descr="ant%20eater%20wants%20ants"/>
          <p:cNvPicPr/>
          <p:nvPr/>
        </p:nvPicPr>
        <p:blipFill>
          <a:blip r:embed="rId1"/>
          <a:stretch/>
        </p:blipFill>
        <p:spPr>
          <a:xfrm>
            <a:off x="685800" y="1676520"/>
            <a:ext cx="4952880" cy="47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elective ignor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Picture 1028" descr="child%20having%20a%20tantrum"/>
          <p:cNvPicPr/>
          <p:nvPr/>
        </p:nvPicPr>
        <p:blipFill>
          <a:blip r:embed="rId1"/>
          <a:stretch/>
        </p:blipFill>
        <p:spPr>
          <a:xfrm>
            <a:off x="2057400" y="914400"/>
            <a:ext cx="59436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School-based interven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8381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Picture 3" descr="dad glues kid to wall"/>
          <p:cNvPicPr/>
          <p:nvPr/>
        </p:nvPicPr>
        <p:blipFill>
          <a:blip r:embed="rId1"/>
          <a:stretch/>
        </p:blipFill>
        <p:spPr>
          <a:xfrm>
            <a:off x="3733920" y="1523880"/>
            <a:ext cx="4933800" cy="472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Self Discipline (Adult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rmalize hygien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od and slee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ercise &amp; relax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ructure and predict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ing good organizational skil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ttention to schedule, deadlines, &amp; prior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-Education: Bibliotherap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Driven to Distraction: Recognizing and Coping with Attention Deficit Disorder from Childhood through Adulthood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Hallowell and Ratey, 1995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Attention Deficit Hyperactivity Disorder: What Every Parent Wants To Know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Wodrich, 199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ADHD 102: Practical Strategies for Reducing the Deficit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Frank and Smith, 2001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Getting a Grip on ADD: A Kids Guide to Understanding and Coping With Attention Disorders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Frank and Smith, 199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I Would If I Could : a Teenagers Guide ADHD Hyperactivity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Gordon, 199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40458c"/>
                </a:solidFill>
                <a:latin typeface="Tahoma"/>
              </a:rPr>
              <a:t>QUESTIONS?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 Eti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enetic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92% concordance in monozygotic tw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ritability - .75 (twin studi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arable to schizophren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nic - .48; Height - .9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blings - 26-50% in full; 9% in hal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rst degree family members – 20-2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pamine transporter gene (DAT1), chr 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pamine receptor D4 (DRD4*7), chr 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: D/O of Executive Fx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hifting from one mindset to another - flexi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ganization - anticipating needs &amp; probl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ning - goal set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king memory (short-term) - receiving, storing, retrieving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ting affect from cognition - detaching emotions from reas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ibiting and regulating verbal and motoric action - jumping to conclusions too quickly, difficulty waiting in line in an appropriate fash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09480" y="838080"/>
            <a:ext cx="815364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DHD, DSM IV Diagnosi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 of 9 Sxs of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attenti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nd/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 of 9 Sxs of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hyperactivity-impuls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xs present for more than 6 month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 of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ome Sx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before age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airment in 2 or more sett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 evidence of significant social, academic,   or occupation impair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mptoms not secondary to other D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DSM IV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–Inattentive Symptom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ils to give close attention; makes careless mistak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 difficulty sustaining 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seem to be listening when spoken 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follow through; fails to finish tas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organizing tas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voids tasks requiring sustained mental eff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ften loses th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ily distracted by extraneous stimu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getful in daily activ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609480" y="457200"/>
            <a:ext cx="8153640" cy="65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DSM IV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-Hyperactivity-Impulsivity Sympt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dgets or squir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able to stay in se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s and climbs excessiv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playing quiet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n the g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driven by a mo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lks excessiv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lurts out answ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waiting tur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rupts or intrudes on oth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4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reschoo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yperactivity the ru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quent temper tantru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e aggression toward pe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earlessness with frequent injur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ncompliance with preschool rules &amp; decoru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manding and argumentative with par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leep disturb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ays in motor-language develop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8:49:40Z</dcterms:created>
  <dc:creator>randelman</dc:creator>
  <dc:description/>
  <dc:language>en-US</dc:language>
  <cp:lastModifiedBy>HCMARTINEZ</cp:lastModifiedBy>
  <dcterms:modified xsi:type="dcterms:W3CDTF">2009-09-08T18:42:24Z</dcterms:modified>
  <cp:revision>86</cp:revision>
  <dc:subject/>
  <dc:title>Attention-Deficit / Hyperactivity Disorder</dc:title>
</cp:coreProperties>
</file>