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41F-58F6-4BAD-A4A6-A6582EF5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0E9-DC3C-4CA5-927D-26415523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AE3-4ECB-4999-9F68-43A41D84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91F-FA78-448A-9CCC-442ED296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2D5-F549-46E4-9A39-05850953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BFB-E470-4BC4-9E26-5C290B05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8E3-2BB5-4214-AB72-DC917E6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303-23F0-4AD7-835D-C489888F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C16-1410-4118-B25E-39FCDC45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3A2-5154-425E-8AC7-F467E8E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205-CC46-4950-A4AD-80A70F9C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473-7E90-4F29-A962-6AD9F1F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78A8-A213-4214-B453-A8278C97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L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sha Chilcott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RMC Emergenc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lent CPR: Hard and 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atio is 30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t compressions are more important than rescue br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s delivered at 100/minute (staying alive, staying alive, ah, ah, ah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s 8-10/minute – slower than you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thm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ques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ck, or not to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Fib or pulseless V-Ta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 or Asysto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AND CONTINUED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: KEEP DOING CP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elivering a shock, resume CPR for 2 minutes before checking rhyth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ly check for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CPR while defibrillator charges, if need to shoc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ET Tub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access or IO acces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nephrine/Vasopressin Q3-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odarone after Epi/Vasopressin; Lidocaine also OK, but now out of favor and not in fiel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opres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for V-Fib, V-Tach, PEA, Asysto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ONLY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Units IV/IO instead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 of 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or responsive (talking) patients with know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neph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drug for ALL pulseless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l of 1:10,000 solution --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g in 500 ml of NaCl or D5W @ 1microgram/min, titrate t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oda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for V-Fib or pulseless V-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 30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15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use: 0.5 mg/min x 1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o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atic bradycardia or SLOW 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, Asystole: 1mg IV/IO Q3-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cardia: 0.5mg IV/IOQ3-5 min, P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dose &lt; 0.5mg can cause paradoxical brad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 YO Caucasian Family Do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, per his usual at the loca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eeling up to par, decides he should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s up in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stander C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surgeon swimming in same lane starts poor quality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R nurses, having breakfast @ poolside shove surgeon out of way and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s arrive, and deliver 2 shocks in field between continued CPR, establishing a line and intub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ER – CPR contin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certified in ACLS in last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certified befo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ever give bystander CPR or CPR in the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last time you participated in a Code Blue that ha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 out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 Code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rrival to ER, rhythm remains VF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in ER and Amiodarone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 converts to 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red to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antable defibrillator 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R and Code Blue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eeks later, back in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years later, still swimming and seeing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324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hinks that CPR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actually save any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initiate CPR as a bysta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alked to Ann Lockhart or Elise Lewis about their experience on the reservoir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im Statistics for Code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of spontaneous circulation (ROSC) of about 40% - 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to hospital discharge of at most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(3 year) survival ~40% OF the 15% that are dis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-term survival after successful in hospital cardiac arrest resuscitation American Heart Journal - Volume 153, Issue 5 (May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 of adult cardiopulmonary resuscitations at a tertiary referral center including results of "limited" resuscita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umot JA 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ch Intern 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23-JUL-2001; 161(14): 1751-8 (From NIH/NLM MEDLIN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8 YO Asian Male Homicide Det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s road bike total of 250 miles during week of 10/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for easy 3 mile training run w/ other officers 10/1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es post run; reaching for the sky is the last thing he remembers until waking in the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While He was Asl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d forward, striking head and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unresponsive, pul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on officers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FD on scene in less than 3 minutes, defibrillator pads placed, rhythm check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189160"/>
            <a:ext cx="82296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-Fib Ar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w/ 120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EXCELLENT CP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ow do we know it was excellen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pulse, check rhythm – carotid pulse present, sinus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Santa Rosa Memori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R trauma bay, patient becomes alert, speaks coherently, and complains of being very s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goes to cardiac catheter where he is diagnosed with severe 3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3 Vessel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 study demonstrates need for implantable defibr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s take CPR and get their own cholesterol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7:56:51Z</dcterms:created>
  <dc:creator>Ian-Peter Sherburne</dc:creator>
  <dc:description/>
  <dc:language>en-US</dc:language>
  <cp:lastModifiedBy>Ian-Peter Sherburne</cp:lastModifiedBy>
  <dcterms:modified xsi:type="dcterms:W3CDTF">2009-01-08T20:03:10Z</dcterms:modified>
  <cp:revision>5</cp:revision>
  <dc:subject/>
  <dc:title>ACLS Update</dc:title>
</cp:coreProperties>
</file>