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087-C12A-4B56-B44D-8803D72A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39F-4706-48A7-B480-A5442C5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44E-00FD-4F6A-ACBD-E5186207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029-ECA0-4AA9-8915-5ACE5B56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4B8-8759-460C-B170-110AE965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088-3283-448A-96C9-EB48C41A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D0E-C19C-489B-9EBC-6F6CFF61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231-CD7E-443B-B040-8296024D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C1A-375F-4930-B476-D545B0F1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5BB-568A-43FA-8B0E-0CC1A4A6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3BC-7394-4BC0-958C-F15BBE3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383-0E62-4F5D-84FA-31F1A60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87ED-0C56-4D00-BA60-208E2A38A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L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sha Chilcott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RMC Emergenc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lent CPR: Hard and 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atio is 30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t compressions are more important than rescue bre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s delivered at 100/minute (staying alive, staying alive, ah, ah, ah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ons 8-10/minute – slower than you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ythm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nly one ques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ock, or not to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Fib or pulseless V-Ta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 or Asysto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AND CONTINUED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: KEEP DOING CP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delivering a shock, resume CPR for 2 minutes before checking rhythm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ly check for 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 CPR while defibrillator charges, if need to shock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ET Tub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access or IO acces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nephrine/Vasopressin Q3-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odarone after Epi/Vasopressin; Lidocaine also OK, but now out of favor and not in fiel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opres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for V-Fib, V-Tach, PEA, Asysto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ONLY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Units IV/IO instead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 of Epineph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or responsive (talking) patients with know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neph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drug for ALL pulseless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l of 1:10,000 solution --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g in 500 ml of NaCl or D5W @ 1microgram/min, titrate t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oda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for V-Fib or pulseless V-T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 30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15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use: 0.5 mg/min x 1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op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atic bradycardia or SLOW 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, Asystole: 1mg IV/IO Q3-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ycardia: 0.5mg IV/IOQ3-5 min, P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dose &lt; 0.5mg can cause paradoxical brad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 YO Caucasian Family Do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ming, per his usual at the local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eeling up to par, decides he should ge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s up in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stander C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surgeon swimming in same lane starts poor quality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ER nurses, having breakfast @ poolside shove surgeon out of way and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dics arrive, and deliver 2 shocks in field between continued CPR, establishing a line and intub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ER – CPR contin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een certified in ACLS in last 3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certified befo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ever give bystander CPR or CPR in the fi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 last time you participated in a Code Blue that ha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 out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 Code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rrival to ER, rhythm remains VF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in ER and Amiodarone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 converts to 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red to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antable defibrillator p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R and Code Blue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weeks later, back in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years later, still swimming and seeing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324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thinks that CPR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actually save any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initiate CPR as a bysta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talked to Ann Lockhart or Elise Lewis about their experience on the reservoir r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im Statistics for Code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of spontaneous circulation (ROSC) of about 40% - 6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to hospital discharge of at most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(3 year) survival ~40% OF the 15% that are dis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-term survival after successful in hospital cardiac arrest resuscitation American Heart Journal - Volume 153, Issue 5 (May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 of adult cardiopulmonary resuscitations at a tertiary referral center including results of "limited" resuscitation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umot JA 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ch Intern 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23-JUL-2001; 161(14): 1751-8 (From NIH/NLM MEDLIN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8 YO Asian Male Homicide Det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es road bike total of 250 miles during week of 10/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s for easy 3 mile training run w/ other officers 10/1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es post run; reaching for the sky is the last thing he remembers until waking in the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While He was Asl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d forward, striking head and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unresponsive, pul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ion officers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FD on scene in less than 3 minutes, defibrillator pads placed, rhythm check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189160"/>
            <a:ext cx="82296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-Fib Ar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w/ 120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EXCELLENT CP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ow do we know it was excellent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pulse, check rhythm – carotid pulse present, sinus 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Santa Rosa Memori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R trauma bay, patient becomes alert, speaks coherently, and complains of being very s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goes to cardiac catheter where he is diagnosed with severe 3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oes 3 Vessel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 study demonstrates need for implantable defibril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riends take CPR and get their own cholesterol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7:56:51Z</dcterms:created>
  <dc:creator>Ian-Peter Sherburne</dc:creator>
  <dc:description/>
  <dc:language>en-US</dc:language>
  <cp:lastModifiedBy>Ian-Peter Sherburne</cp:lastModifiedBy>
  <dcterms:modified xsi:type="dcterms:W3CDTF">2009-01-08T20:03:10Z</dcterms:modified>
  <cp:revision>5</cp:revision>
  <dc:subject/>
  <dc:title>ACLS Update</dc:title>
</cp:coreProperties>
</file>