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6.jpeg" ContentType="image/jpeg"/>
  <Override PartName="/ppt/media/image5.wmf" ContentType="image/x-wmf"/>
  <Override PartName="/ppt/media/image11.png" ContentType="image/png"/>
  <Override PartName="/ppt/media/image7.jpeg" ContentType="image/jpeg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8387-F68D-467B-98B5-119113DB7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7063-E0D7-476F-924C-8E092887A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DE8D-69EE-46BA-A910-B460CA5F2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7A5-3CFE-48CC-823A-D0B735BF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D7F-F68F-4432-BEC5-F21DEC29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F49-B837-4A4A-95F2-68EB0826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447-97F2-4431-A9E9-D1FB0860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D83C-41AF-438E-9812-45F1434D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E684-E466-48B3-8276-C5AB3955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5AD8-8E13-4C43-8C23-3F91C9EC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6BBB-8E45-499B-B555-0AAE308C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EBDF-C926-4408-B325-8CA2840F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575D-B151-446B-A670-E2E64AFD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58D4-63C1-4E99-A540-E522CCAB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EFB-3C79-4939-B6A9-B1BC5A5C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E902-3E62-4B36-9E03-2E703C8C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9095-659E-4A79-A049-3E997014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019A-C502-4E97-AFDF-A887090C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3929-5D78-4C04-AACE-1661CB35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A314-EB0F-4F9F-BB02-F0EDB5D2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08C-0007-41A3-A8BD-6AB1F05A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EFB-BF76-4097-A130-4A4872C3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8D1-8A58-41B3-9964-6077B725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923-C545-4018-8D76-85C528F3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E0B-F418-4B55-89B8-20790EF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894-04C1-40D0-B37F-917844A6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4A4-8F09-4360-865F-021770FB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639C-70AA-4728-B2D7-E7E396304A95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031F-95FF-46F9-8FBF-E20845117F17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HIV Care 2010:</a:t>
            </a:r>
            <a:br>
              <a:rPr sz="6000"/>
            </a:b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The 3</a:t>
            </a:r>
            <a:r>
              <a:rPr b="0" i="1" lang="en-US" sz="6000" spc="-1" strike="noStrike" baseline="30000">
                <a:solidFill>
                  <a:srgbClr val="996633"/>
                </a:solidFill>
                <a:latin typeface="Times New Roman"/>
              </a:rPr>
              <a:t>rd</a:t>
            </a:r>
            <a:r>
              <a:rPr b="0" i="1" lang="en-US" sz="6000" spc="-1" strike="noStrike">
                <a:solidFill>
                  <a:srgbClr val="996633"/>
                </a:solidFill>
                <a:latin typeface="Times New Roman"/>
              </a:rPr>
              <a:t> Revolution in HIV treatment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11,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-360"/>
            <a:ext cx="7564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US AIDS Cases and Death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0" y="711360"/>
          <a:ext cx="9144000" cy="60958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1136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2n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Restoring the damaged immune system,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Improving health of HIV+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lamivudine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5: saquinavir approved as first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nevirapine approved as first non-nuke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6: ritonavir, indinavir approv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3rd revolution in HIV care:</a:t>
            </a:r>
            <a:br>
              <a:rPr sz="3600"/>
            </a:b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Preventing immune related damag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, 09: DHHS revises guidelines on when to start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2009 guidelin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, 2006: Darunavir, protease inhibitor with efficacy against highly PI-resistant virus,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gust, 07: Maravaroc, first CCR5 co-receptor blocke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07: Raltegravir, first integrase inhibitor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, 08: Etravirine, firs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ion non-nukes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darun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rezista (darun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prote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1 tablet (600 mg) twice a day with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with 1 tablet Norvir (ritonavir 100mg) twice a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Works against protease inhibitor resistant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rash, abd pain, constipation, heada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1676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Take 1 tablet (300mg) with or without food twice a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mg bid c ritonavir boosted protease inhib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00 mg bid c etravarine or efava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50 mg bid c ritonavir and etrava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ose adjustment also needed with clarithromycin, i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01028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maraviroc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elzentry (maraviroc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CCR5 co-receptor blo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CCR5 tropism assay to see if will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80% of treatment experienced patients with Tcells&lt;100 have CXCR4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cough 5-10%, dizziness, fever, rare liver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0" y="5562720"/>
            <a:ext cx="1447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earning Objectiv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familiar with recent advances in anti-HIV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the new threshold for initiating HIV treatment according to the December, 2009 DHHS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discuss the reasons for these more aggressive treatment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HIV tropism assa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706400"/>
            <a:ext cx="4633920" cy="515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8320" y="1143000"/>
            <a:ext cx="4348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Isentress (raltegravir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integr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tablet (400 mg) twice a day with or without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uncommon: nausea, dizz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Avoid dosing with metal ions (calcium, ant-aci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raltegravir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447920" cy="992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5800" y="1508040"/>
            <a:ext cx="8458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Better, less toxic drugs: etravirine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lence (etravirin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non-nucleoside reverse transcriptase inhib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tablets (100 mg each) twice a day with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ffective agains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gen NNRTI resistant virus (K103N, Y181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E: 10-18% of men and 34% women get transient 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Contraindicated with atazanavir, fosamprenavir, tipranavir (levels markedly incr or dec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004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721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386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New drugs darunavir and raltegravir move into preferred first line therapy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ptions for Once-daily Therap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s with evidence of QD effica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FT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V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I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 + 3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562720" y="2666880"/>
            <a:ext cx="358128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V/rtv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-AMP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PV/r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648320" y="3505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6633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600200" y="6095880"/>
            <a:ext cx="380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46720" y="5943600"/>
            <a:ext cx="66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*indicates preferred regimen for initial therapy, DHHS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Most patients can control their virus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47920" y="1546200"/>
            <a:ext cx="769608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ion of liver disease in Hep B/C co-in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risk of many different 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lerated atheroscler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dys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ise, fatigue, lipodystr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creased recognition of harms of uncontrolled viral replic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7696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D. T. is a 51 y.o. woman diagnosed HIV+ in 1994 with T cells=232 at tha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history of antiviral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17,517 asymptomatic HIV+ US and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retroviral na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mortality between those starting ART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350 (deferred)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350-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4 &gt;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,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,Bold"/>
              </a:rPr>
              <a:t>Kitahata, NEJM,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NA-ACCORD analysis: Retrospective case control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Black"/>
              </a:rPr>
              <a:t>Higher risk of death in deferred ART group vs &gt;350 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350 vs 350-500 N=83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69 (95% CI 1.26-2.26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 &lt;500 vs &gt;500 N=9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risk 1.94 (95% CI 1.37-2.79) of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redictors of mortality: older age, injection drug use and H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: Prospective case matched stud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09480" y="1211400"/>
            <a:ext cx="85345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en to Start Consortiu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8001000" cy="56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Why the change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, less toxic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recognition of harms of uncontrolled viral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ng data showing better outcomes with earlier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Public health benefit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1859040"/>
            <a:ext cx="762012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1828800"/>
            <a:ext cx="769608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Model for Elimination of HIV Trans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d epidemic in South Africa (17% prevalenc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model to predict outc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aged 15 and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HIV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for all newly identified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infectiousness falls to 1% of pre-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elimination defined as reduction in incidence &lt;1/1000     people/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ich, Lancet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0760" y="1752480"/>
            <a:ext cx="7923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173240" y="1752480"/>
            <a:ext cx="7970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dovudine, lamivudine, stavudi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anosine, abac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nuke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ira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n more aggressive treatment break the back of the epidemic?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1981080"/>
            <a:ext cx="777240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Black"/>
              </a:rPr>
              <a:t>Universal HIV testing and immediate ART combined with other prevention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reduction in new HIV cases in 1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dence reduced from 15-20,000 to 1000 per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lence less than 1% by 2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esources higher but over time, given the reduction in HIV incidence, this approach may provide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costs are within UNAIDS estimates for Universal Access for a population this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n.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on tenofovir/lamivudine, etravarine, raltegr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lerates well with no noticeable 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month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ells= 3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al load &lt;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 UCSF transplant program, awaiting donation of living related donor kidney (cous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6633"/>
                </a:solidFill>
                <a:latin typeface="Times New Roman"/>
              </a:rPr>
              <a:t>It’s an infection, stupid, so treat it!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76201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996633"/>
                </a:solidFill>
                <a:latin typeface="Palatia"/>
              </a:rPr>
              <a:t>Hope!</a:t>
            </a:r>
            <a:endParaRPr b="0" i="1" lang="en-US" sz="9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9" name="Picture 3" descr="C:\Documents and Settings\All Users\Documents\My Pictures\2005\2005-08-13 Summer Vacation\2005-08-13 summer vacation 008.jpg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viral Hi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ase inhibitor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quinavir, indinavir, nelfinavir, ritonavir, amprenavir, lopinavir, azatanavi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l agents tr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xy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/Phenotype testing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all nukes except tenofo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istant to non-nu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I mutations, resistant to all protease inhibitors unless boosted with ritona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, 200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=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NA = 6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ialysis for HIV nephr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absolutely refuses to take even the lowest dose of ritonavir due to diarrhea and naus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looking at the Norvir pill makes me vom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ase Study: D.T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9680" y="-360"/>
            <a:ext cx="7564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33"/>
                </a:solidFill>
                <a:latin typeface="Times New Roman"/>
              </a:rPr>
              <a:t>The first revolution in HIV care: Slowing the damage to the immune function, delaying death from AIDS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7:AZT (zidovudine) becomes the first FDA-approved anti-HIV d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FDA approves aerosolized pentamidine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: CDC recommends use of TMP/SMZ (Septra/Bactrim) for PCP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P prophylaxis adds 2 years to HIV+ pt lifes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:DDI (didanosine) approved by F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3:38:31Z</dcterms:created>
  <dc:creator>Chris</dc:creator>
  <dc:description/>
  <dc:language>en-US</dc:language>
  <cp:lastModifiedBy>Administrator</cp:lastModifiedBy>
  <dcterms:modified xsi:type="dcterms:W3CDTF">2010-02-09T19:07:13Z</dcterms:modified>
  <cp:revision>25</cp:revision>
  <dc:subject/>
  <dc:title>HIV Care 2006 Update on Epidemiology and New Therapeutic approaches</dc:title>
</cp:coreProperties>
</file>