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9.wmf" ContentType="image/x-wmf"/>
  <Override PartName="/ppt/media/image8.wmf" ContentType="image/x-wmf"/>
  <Override PartName="/ppt/media/image13.png" ContentType="image/png"/>
  <Override PartName="/ppt/media/image12.jpeg" ContentType="image/jpeg"/>
  <Override PartName="/ppt/media/image6.jpeg" ContentType="image/jpeg"/>
  <Override PartName="/ppt/media/image5.wmf" ContentType="image/x-wmf"/>
  <Override PartName="/ppt/media/image11.png" ContentType="image/png"/>
  <Override PartName="/ppt/media/image7.jpeg" ContentType="image/jpeg"/>
  <Override PartName="/ppt/media/image21.wmf" ContentType="image/x-wmf"/>
  <Override PartName="/ppt/media/image4.wmf" ContentType="image/x-wmf"/>
  <Override PartName="/ppt/media/image19.png" ContentType="image/png"/>
  <Override PartName="/ppt/media/image1.png" ContentType="image/png"/>
  <Override PartName="/ppt/media/image18.wmf" ContentType="image/x-wmf"/>
  <Override PartName="/ppt/media/image20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22.jpeg" ContentType="image/jpeg"/>
  <Override PartName="/ppt/media/image14.wmf" ContentType="image/x-wmf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DFD1-B46E-4302-A6EF-4B5F7F1BD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298E-89B7-41C8-95A7-251ADB4B7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01AD-E2C9-4A34-8002-D00D032C2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D1C8-C265-408C-9525-4F22DB0E7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B834-FC08-4E83-8E3A-6EBEBBC4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AC53-163C-43AA-ACEA-F462A989C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4F9A-FEF1-4DA7-8B4C-A27A8824F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D0B3-715B-44DC-87FE-CED67397B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2960-CA73-4EF0-BD3A-EF94CD2B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DBF9-3196-4615-9E53-433E41BB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B14FE-B332-44CC-A442-DA1B68B1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C77B-39D6-4E45-AF53-627164E2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6BBE-5278-42FD-9DCC-9717F777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246D-6B38-4A99-943B-2977574B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3394-8F74-49CD-9E13-76CE7DC5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30CD-C5D3-4392-B035-9D2D2F0F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4145-C4B7-435F-8E9A-3C495218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D6C8-7F65-4A30-A620-4ED0185C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15D7-A93E-47D6-A549-3533774FB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38B1-7147-44EC-A45D-8DE369E4E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A195-267A-401A-9A0B-F79B8955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2D15-F237-487F-9C20-052C30C4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D704-6175-4499-A769-30038664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275C-E5CC-4D74-9027-F5B5BB42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4C38-8408-4B0A-8194-5C1B4203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826A-C0C3-4E99-8D11-1EC0BA24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2033-6C98-4CAD-B830-39F5F4B6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Freeform 6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>
                  <a:gd name="textAreaLeft" fmla="*/ 0 w 7564320"/>
                  <a:gd name="textAreaRight" fmla="*/ 7564680 w 756432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300F-3F14-4410-8D09-3D9E3F1F57B3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Group 3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Rectangle 4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5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6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7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8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9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>
                  <a:gd name="textAreaLeft" fmla="*/ 0 w 7564320"/>
                  <a:gd name="textAreaRight" fmla="*/ 7564680 w 756432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10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Rectangle 11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Group 12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Picture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Freeform 14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>
                    <a:gd name="textAreaLeft" fmla="*/ 0 w 1412640"/>
                    <a:gd name="textAreaRight" fmla="*/ 1413000 w 141264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Freeform 15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>
                    <a:gd name="textAreaLeft" fmla="*/ 0 w 1413000"/>
                    <a:gd name="textAreaRight" fmla="*/ 1413000 w 141300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16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>
                    <a:gd name="textAreaLeft" fmla="*/ 0 w 1413000"/>
                    <a:gd name="textAreaRight" fmla="*/ 1413000 w 141300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0CF5-C05D-4DBA-8467-D671EE0A6C95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00200" y="11426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996633"/>
                </a:solidFill>
                <a:latin typeface="Times New Roman"/>
              </a:rPr>
              <a:t>HIV Care 2010:</a:t>
            </a:r>
            <a:br>
              <a:rPr sz="6000"/>
            </a:br>
            <a:r>
              <a:rPr b="0" i="1" lang="en-US" sz="6000" spc="-1" strike="noStrike">
                <a:solidFill>
                  <a:srgbClr val="996633"/>
                </a:solidFill>
                <a:latin typeface="Times New Roman"/>
              </a:rPr>
              <a:t>The 3</a:t>
            </a:r>
            <a:r>
              <a:rPr b="0" i="1" lang="en-US" sz="6000" spc="-1" strike="noStrike" baseline="30000">
                <a:solidFill>
                  <a:srgbClr val="996633"/>
                </a:solidFill>
                <a:latin typeface="Times New Roman"/>
              </a:rPr>
              <a:t>rd</a:t>
            </a:r>
            <a:r>
              <a:rPr b="0" i="1" lang="en-US" sz="6000" spc="-1" strike="noStrike">
                <a:solidFill>
                  <a:srgbClr val="996633"/>
                </a:solidFill>
                <a:latin typeface="Times New Roman"/>
              </a:rPr>
              <a:t> Revolution in HIV treatment</a:t>
            </a:r>
            <a:endParaRPr b="0" i="1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 Farnitano, M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on Con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bruary 11, 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8920" y="-360"/>
            <a:ext cx="7564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US AIDS Cases and Death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37" name="Object 2"/>
          <p:cNvGraphicFramePr/>
          <p:nvPr/>
        </p:nvGraphicFramePr>
        <p:xfrm>
          <a:off x="0" y="711360"/>
          <a:ext cx="9144000" cy="609588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3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711360"/>
                    <a:ext cx="914400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The 2nd revolution in HIV care:</a:t>
            </a:r>
            <a:br>
              <a:rPr sz="3600"/>
            </a:b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Restoring the damaged immune system,</a:t>
            </a:r>
            <a:br>
              <a:rPr sz="3600"/>
            </a:b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Improving health of HIV+s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5: lamivudine approved by F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5: saquinavir approved as first protease inhib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6: nevirapine approved as first non-nuke dr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6: ritonavir, indinavir approv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The 3rd revolution in HIV care:</a:t>
            </a:r>
            <a:br>
              <a:rPr sz="3600"/>
            </a:b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Preventing immune related damage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, 06: Darunavir, protease inhibitor with efficacy against highly PI-resistant virus, approved by F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gust, 07: Maravaroc, first CCR5 co-receptor blocker appro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tober, 07: Raltegravir, first integrase inhibitor appro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uary, 08: Etravirine, first of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eneration non-nukes appro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The 3rd revolution in HIV care:</a:t>
            </a:r>
            <a:br>
              <a:rPr sz="3600"/>
            </a:b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Preventing immune related damage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ember, 09: DHHS revises guidelines on when to start therap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2009 guidelin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726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hy the change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tter, less toxic dru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d recognition of harms of uncontrolled viral re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ng data showing better outcomes with earlier thera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ublic health benefit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Better, less toxic drugs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, 2006: Darunavir, protease inhibitor with efficacy against highly PI-resistant virus, approved by F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gust, 07: Maravaroc, first CCR5 co-receptor blocker appro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tober, 07: Raltegravir, first integrase inhibitor appro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uary, 08: Etravirine, first of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eneration non-nukes appro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Better, less toxic drugs: darunavir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Prezista (darunavir)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 protease inhib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-1 tablet (600 mg) twice a day with f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Take with 1 tablet Norvir (ritonavir 100mg) twice a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Works against protease inhibitor resistant 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SE: rash, abd pain, constipation, heada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0048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781680" y="5029200"/>
            <a:ext cx="167652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Better, less toxic drugs: maraviroc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Selzentry (maraviroc)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 CCR5 co-receptor bloc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Take 1 tablet (300mg) with or without food twice a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50mg bid c ritonavir boosted protease inhib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600 mg bid c etravarine or efavare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50 mg bid c ritonavir and etravar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dose adjustment also needed with clarithromycin, itraconaz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0048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7212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7010280" y="5562720"/>
            <a:ext cx="144792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Better, less toxic drugs: maraviroc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Selzentry (maraviroc)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 CCR5 co-receptor bloc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need CCR5 tropism assay to see if will resp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80% of treatment experienced patients with Tcells&lt;100 have CXCR4 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SE: uncommon: cough 5-10%, dizziness, fever, rare liver tox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20048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7212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858000" y="5562720"/>
            <a:ext cx="144792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Learning Objectiv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familiar with recent advances in anti-HIV med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 the new threshold for initiating HIV treatment according to the December, 2009 DHHS guide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able to discuss the reasons for these more aggressive treatment guide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HIV tropism assay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1706400"/>
            <a:ext cx="4633920" cy="5151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648320" y="1143000"/>
            <a:ext cx="4348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Better, less toxic drugs: raltegravir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Isentress (raltegravir)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 integrase inhib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 tablet (400 mg) twice a day with or without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SE: uncommon: nausea, dizz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Avoid dosing with metal ions (calcium, ant-acid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0048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7212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386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172200" y="4952880"/>
            <a:ext cx="144792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Better, less toxic drugs: raltegravir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0048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7212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386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172200" y="4952880"/>
            <a:ext cx="1447920" cy="992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685800" y="1508040"/>
            <a:ext cx="8458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Better, less toxic drugs: etravirine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Intelence (etravirine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non-nucleoside reverse transcriptase inhib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 tablets (100 mg each) twice a day with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Effective against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gen NNRTI resistant virus (K103N, Y181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SE: 10-18% of men and 34% women get transient r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Contraindicated with atazanavir, fosamprenavir, tipranavir (levels markedly incr or dec.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20048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7212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386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0524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620120" y="4952880"/>
            <a:ext cx="106668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New drugs darunavir and raltegravir move into preferred first line therapy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Options for Once-daily Therapy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ons with evidence of QD efficac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DV + FTC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DV + D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DV + 3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DI + 3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 + 3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5562720" y="2666880"/>
            <a:ext cx="3581280" cy="41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V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V/rtv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V/rtv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V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-AMP/r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V/r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PV/r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4648320" y="3505320"/>
            <a:ext cx="68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6633"/>
                </a:solidFill>
                <a:latin typeface="Arial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1600200" y="6095880"/>
            <a:ext cx="38098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846720" y="5943600"/>
            <a:ext cx="66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*indicates preferred regimen for initial therapy, DHHS guide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Most patients can control their virus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447920" y="1546200"/>
            <a:ext cx="769608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hy the change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, less toxic dru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creased recognition of harms of uncontrolled viral repl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ng data showing better outcomes with earlier thera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ublic health benefit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Increased recognition of harms of uncontrolled viral replication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ropat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phropat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leration of liver disease in Hep B/C co-inf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risk of many different canc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lerated atheroscler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NS dys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laise, fatigue, lipodystro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Increased recognition of harms of uncontrolled viral replication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7696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s. D. T. is a 51 y.o. woman diagnosed HIV+ in 1994 with T cells=232 at that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ng history of antiviral therap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hy the change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, less toxic dru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d recognition of harms of uncontrolled viral re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ccumulating data showing better outcomes with earlier therap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ublic health benefit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NA-ACCORD analysi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 of 17,517 asymptomatic HIV+ US and Ca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retroviral na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mortality between those starting ART 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350 (deferred) v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4 350-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4 &gt;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,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,Bold"/>
              </a:rPr>
              <a:t>Kitahata, NEJM, 20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NA-ACCORD analysis: Retrospective case control study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Black"/>
              </a:rPr>
              <a:t>Higher risk of death in deferred ART group vs &gt;350 CD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4 &lt;350 vs 350-500 N=836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risk 1.69 (95% CI 1.26-2.26) of de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4 &lt;500 vs &gt;500 N=91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risk 1.94 (95% CI 1.37-2.79) of de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redictors of mortality: older age, injection drug use and HC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79680" y="-3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hen to Start Consortium: Prospective case matched study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609480" y="1211400"/>
            <a:ext cx="853452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hen to Start Consortium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143000" y="1219320"/>
            <a:ext cx="8001000" cy="56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hy the change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, less toxic dru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d recognition of harms of uncontrolled viral re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ng data showing better outcomes with earlier thera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Public health benefit?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n more aggressive treatment break the back of the epidemic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523880" y="1859040"/>
            <a:ext cx="762012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n more aggressive treatment break the back of the epidemic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47920" y="1828800"/>
            <a:ext cx="7696080" cy="44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Black"/>
              </a:rPr>
              <a:t>Model for Elimination of HIV Transmis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ized epidemic in South Africa (17% prevalence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model to predict outco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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tion aged 15 and ab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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HIV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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t for all newly identified c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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infectiousness falls to 1% of pre-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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V elimination defined as reduction in incidence &lt;1/1000     people/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nich, Lancet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n more aggressive treatment break the back of the epidemic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220760" y="1752480"/>
            <a:ext cx="79232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n more aggressive treatment break the back of the epidemic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173240" y="1752480"/>
            <a:ext cx="79707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iviral Histo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kes tri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idovudine, lamivudine, stavudin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danosine, abaca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nukes tri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virap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n more aggressive treatment break the back of the epidemic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71600" y="1981080"/>
            <a:ext cx="7772400" cy="37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Black"/>
              </a:rPr>
              <a:t>Universal HIV testing and immediate ART combined with other prevention interven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5% reduction in new HIV cases in 10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idence reduced from 15-20,000 to 1000 per m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alence less than 1% by 20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resources higher but over time, given the reduction in HIV incidence, this approach may provide cost sav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d costs are within UNAIDS estimates for Universal Access for a population this si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otype/Phenotype testing resul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istant to all nukes except tenofo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istant to all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en. non-nu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PI mutations, resistant to all protease inhibitors unless boosted with ritona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ne, 2008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cells = 6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RNA = 63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dialysis for HIV nephropat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 absolutely refuses to take even the lowest dose of ritonavir due to diarrhea and nause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looking at the Norvir pill makes me vomi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to do n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ed on tenofovir/lamivudine, etravarine, raltegra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lerates well with no noticeable side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months la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Cells= 1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al load &lt;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 months la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Cells= 3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al load &lt;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ient in UCSF transplant program, awaiting donation of living related donor kidney (cous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6633"/>
                </a:solidFill>
                <a:latin typeface="Times New Roman"/>
              </a:rPr>
              <a:t>It’s an infection, stupid, so treat it!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762012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996633"/>
                </a:solidFill>
                <a:latin typeface="Palatia"/>
              </a:rPr>
              <a:t>Hope!</a:t>
            </a:r>
            <a:endParaRPr b="0" i="1" lang="en-US" sz="9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39" name="Picture 3" descr="C:\Documents and Settings\All Users\Documents\My Pictures\2005\2005-08-13 Summer Vacation\2005-08-13 summer vacation 008.jpg"/>
          <p:cNvPicPr/>
          <p:nvPr/>
        </p:nvPicPr>
        <p:blipFill>
          <a:blip r:embed="rId2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iviral Histo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ase inhibitors tri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quinavir, indinavir, nelfinavir, ritonavir, amprenavir, lopinavir, azatanavi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el agents tri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droxyu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otype/Phenotype testing resul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istant to all nukes except tenofo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istant to non-nu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PI mutations, resistant to all protease inhibitors unless boosted with ritona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ne, 2008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cells = 6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RNA = 63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dialysis for HIV nephropat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 absolutely refuses to take even the lowest dose of ritonavir due to diarrhea and nause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looking at the Norvir pill makes me vomi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to do n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79680" y="-360"/>
            <a:ext cx="75643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The first revolution in HIV care: Slowing the damage to the immune function, delaying death from AIDS: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7:AZT (zidovudine) becomes the first FDA-approved anti-HIV dr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9: FDA approves aerosolized pentamidine for PCP prophylax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9: CDC recommends use of TMP/SMZ (Septra/Bactrim) for PCP prophylax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P prophylaxis adds 2 years to HIV+ pt lifes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1:DDI (didanosine) approved by F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03:38:31Z</dcterms:created>
  <dc:creator>Chris</dc:creator>
  <dc:description/>
  <dc:language>en-US</dc:language>
  <cp:lastModifiedBy>Administrator</cp:lastModifiedBy>
  <dcterms:modified xsi:type="dcterms:W3CDTF">2010-02-09T19:07:13Z</dcterms:modified>
  <cp:revision>25</cp:revision>
  <dc:subject/>
  <dc:title>HIV Care 2006 Update on Epidemiology and New Therapeutic approaches</dc:title>
</cp:coreProperties>
</file>