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6.jpeg" ContentType="image/jpeg"/>
  <Override PartName="/ppt/media/image5.wmf" ContentType="image/x-wmf"/>
  <Override PartName="/ppt/media/image11.png" ContentType="image/png"/>
  <Override PartName="/ppt/media/image7.jpeg" ContentType="image/jpe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D9E3-F3EF-4861-A2EA-0BE7BB006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E5BD-F0B6-4913-84F2-0DC106F4C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33AA-B351-4D1D-8EEF-733E2286F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59C-6933-45A8-9460-5CAA03C0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090-D225-4698-A112-D50157DE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3D6-B4E3-4F34-8F75-054F98C4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99C-15B5-4563-8D16-1F4A00AD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35D3-3061-4650-BE1B-590DFD7B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4B6A-B808-4AED-B645-D081E13F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AE28-8255-476A-844D-548BA77E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2157-02B3-41C3-9F8B-4CD41C49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0D56-5D52-40B1-B3CA-82349D94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7292-DE4F-40ED-A12A-4BFE8091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09A9-1A12-4BC9-8D80-672107C1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AE7-3B8E-49B1-ACCC-4F0033C2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C2D6-7AAC-489B-95F2-86323DB4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9D28-3508-446C-8E9D-A0262BC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C468-973B-42D6-966E-29656E97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A261-1A47-422D-B58B-1DC39245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3A5C-BD94-4E3A-908C-5C2ED483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B1E-FEB9-47C9-B744-89551899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5C7-4F7E-4777-A135-4B28A111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134-250C-4305-90D5-C16BFD1C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5FD-734D-42E6-8215-8E2E1380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DFB-04BF-4215-93F1-5F10AED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7A1-24F7-4FFA-958C-9B598B0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C5D-41D3-4011-A892-C0B84841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0FE-1C61-4788-BAD7-288F84C8A8F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482-F03C-4919-AEC2-C86F0C36788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HIV Care 2010:</a:t>
            </a:r>
            <a:br>
              <a:rPr sz="6000"/>
            </a:b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The 3</a:t>
            </a:r>
            <a:r>
              <a:rPr b="0" i="1" lang="en-US" sz="6000" spc="-1" strike="noStrike" baseline="30000">
                <a:solidFill>
                  <a:srgbClr val="996633"/>
                </a:solidFill>
                <a:latin typeface="Times New Roman"/>
              </a:rPr>
              <a:t>rd</a:t>
            </a: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 Revolution in HIV treatment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11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-36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S AIDS Cases and Death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0" y="711360"/>
          <a:ext cx="9144000" cy="60958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1136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2n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Restoring the damaged immune system,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Improving health of HIV+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lamivudine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saquinavir approved as first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nevirapine approved as first non-nuke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ritonavir, indinavir approv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, 09: DHHS revises guidelines on when to start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009 guidelin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20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darun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ezista (darun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1 tablet (600 mg) twice a day with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with 1 tablet Norvir (ritonavir 100mg) twice a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orks against protease inhibitor resistant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rash, abd pain, constipation, heada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676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1 tablet (300mg) with or without food twice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mg bid c ritonavir boosted protease inhib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00 mg bid c etravarine or efava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 mg bid c ritonavir and etrava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ose adjustment also needed with clarithromycin, i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01028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CCR5 tropism assay to see if will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80% of treatment experienced patients with Tcells&lt;100 have CXCR4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cough 5-10%, dizziness, fever, rare liver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arning Objectiv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familiar with recent advances in anti-HIV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the new threshold for initiating HIV treatment according to the December, 2009 DHHS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discuss the reasons for these more aggressive treatment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HIV tropism assa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706400"/>
            <a:ext cx="4633920" cy="515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1143000"/>
            <a:ext cx="434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Isentress (raltegr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integr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tablet (400 mg) twice a day with or without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nausea, dizz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void dosing with metal ions (calcium, ant-aci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5800" y="1508040"/>
            <a:ext cx="8458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etravirin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lence (etraviri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non-nucleoside reverse transcript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tablets (100 mg each) twice a day with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ffective agains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gen NNRTI resistant virus (K103N, Y181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10-18% of men and 34% women get transient 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ontraindicated with atazanavir, fosamprenavir, tipranavir (levels markedly incr or de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New drugs darunavir and raltegravir move into preferred first line therapy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ptions for Once-daily Therap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 with evidence of QD effica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FT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I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562720" y="2666880"/>
            <a:ext cx="358128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-AMP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48320" y="3505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6633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00200" y="609588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46720" y="5943600"/>
            <a:ext cx="66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*indicates preferred regimen for initial therapy, DHHS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Most patients can control their viru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47920" y="1546200"/>
            <a:ext cx="76960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of liver disease in Hep B/C co-in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risk of many different 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ed atheroscle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dys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ise, fatigue, lipodystr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D. T. is a 51 y.o. woman diagnosed HIV+ in 1994 with T cells=232 at tha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history of antiviral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17,517 asymptomatic HIV+ US and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retroviral na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ortality between those starting ART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350 (deferred)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350-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&gt;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,Bold"/>
              </a:rPr>
              <a:t>Kitahata, NEJM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: Retrospective case control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Black"/>
              </a:rPr>
              <a:t>Higher risk of death in deferred ART group vs &gt;350 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350 vs 350-500 N=83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69 (95% CI 1.26-2.26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500 vs &gt;500 N=9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94 (95% CI 1.37-2.79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redictors of mortality: older age, injection drug use and H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: Prospective case matched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09480" y="1211400"/>
            <a:ext cx="85345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800100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1859040"/>
            <a:ext cx="76201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828800"/>
            <a:ext cx="769608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Model for Elimination of HIV Trans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d epidemic in South Africa (17% prevalenc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model to predict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aged 15 and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HIV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for all newly identified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infectiousness falls to 1% of pre-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elimination defined as reduction in incidence &lt;1/1000     people/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ich, Lancet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0760" y="1752480"/>
            <a:ext cx="7923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173240" y="1752480"/>
            <a:ext cx="7970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dovudine, lamivudine, stavudi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anosine, abac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ira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981080"/>
            <a:ext cx="777240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Universal HIV testing and immediate ART combined with other prevention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reduction in new HIV cases in 1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ce reduced from 15-20,000 to 1000 per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nce less than 1%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sources higher but over time, given the reduction in HIV incidence, this approach may provide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costs are within UNAIDS estimates for Universal Access for a population this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.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on tenofovir/lamivudine, etravarine, raltegr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tes well with no noticeable 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3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 UCSF transplant program, awaiting donation of living related donor kidney (cous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It’s an infection, stupid, so treat it!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76201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6633"/>
                </a:solidFill>
                <a:latin typeface="Palatia"/>
              </a:rPr>
              <a:t>Hope!</a:t>
            </a:r>
            <a:endParaRPr b="0" i="1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9" name="Picture 3" descr="C:\Documents and Settings\All Users\Documents\My Pictures\2005\2005-08-13 Summer Vacation\2005-08-13 summer vacation 008.jp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ase inhibitor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quinavir, indinavir, nelfinavir, ritonavir, amprenavir, lopinavir, azatanavi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l agent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xy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first revolution in HIV care: Slowing the damage to the immune function, delaying death from AIDS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7:AZT (zidovudine) becomes the first FDA-approved anti-HIV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FDA approves aerosolized pentamidine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CDC recommends use of TMP/SMZ (Septra/Bactrim)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P prophylaxis adds 2 years to HIV+ pt life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:DDI (didanosine)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3:38:31Z</dcterms:created>
  <dc:creator>Chris</dc:creator>
  <dc:description/>
  <dc:language>en-US</dc:language>
  <cp:lastModifiedBy>Administrator</cp:lastModifiedBy>
  <dcterms:modified xsi:type="dcterms:W3CDTF">2010-02-09T19:07:13Z</dcterms:modified>
  <cp:revision>25</cp:revision>
  <dc:subject/>
  <dc:title>HIV Care 2006 Update on Epidemiology and New Therapeutic approaches</dc:title>
</cp:coreProperties>
</file>