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EFFD6-AAD0-48D3-87D5-61AC608FC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F5547-5837-4036-87F3-4E8DA6DCA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A0EEE-C7B6-47E7-A8F1-B01ECD656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33B29-6498-48B9-B006-5F13241CD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83CBE-4E04-437C-9A0C-C50FCCB09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68D78-8BAC-46FB-8C0F-FE4434AB4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05DE3-3410-4DFB-9956-B60B6771A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55E32-769E-47C8-A304-5656F6777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183ED-5E7A-45B1-96FD-84333141F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62D5A-D098-46B3-A194-F04CB626E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FF8F5-B99D-4843-A14C-B556410C6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C4B51-4125-4446-8A0B-5BFDE30FD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1F05D-9626-4C71-91FA-FAFA4CDBE34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32-36 Week Infan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acie Bennett, M.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st Bay Newborn Specialis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ptember 12, 2007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ypoglycemi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5341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main concern: glucose is the primary substrate for cerebral metabolism.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 preterm infants moderate hypoglycemia with glucose &lt;47mg/dL has been shown to have neurodevelopmental consequenc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ypoglycemia can occur during the first 24 hours and needs to be monitore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reatment may include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nipple trial of formula or D10W if infant is able t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f unable to nipple, will require IV fluid with a D10W bolus of 2-3ml/kg followed by a dextrose infusion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espiratory Issu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creased risk for RDS, pulmonary hypertension, TTN, and Pneumonia(?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DS can occur in ~12% of 33-34 wk, 2% of 35-36 wk, and 0.11% in term infant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TN can occur in 11.6% of 33-34 wk, 5% of 35-36 wk, and &lt;1% in term infant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verall, ~31% of 35-36 weeks will have some respiratory distress requiring some management vs ~ 4% for te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espiratory Issu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tiology for distress is possibly due to lack of clearance of fluid  with immature Na transport channels or surfactant deficienc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ust monitor for signs of distress: tachypnea, nasal flaring, retractions, grunting, oxygen nee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nagement may include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01560" indent="-231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nitor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01560" indent="-231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xygen via a hood or nasal canul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01560" indent="-231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e of nasal continuous positive airway pressu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01560" indent="-231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tubation and surfactant therap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se infants are also at increased risk for apnea (4-5% at 34-36 weeks and ~0% at term) and must be monitore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nfec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600" y="19807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ate preterm infants are more likely to be evaluated for sepsis and treated for presumed or actual infecti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refore they have more antibiotic exposur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f an infant has respiratory distress, hypoglycemia, or hypothermia, it can be a sign of infection and may require a septic w/u including antibiotics.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erinatal history is also important, such as maternal chorio or prolonged rupture of membranes, as GBS status is often unknown at these gestation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GI/Feeding Issu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ate preterm infants have less mature peristaltic function and sphincter control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y are at increased risk for necrotizing enterocolitis (NEC)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y can also have uncoordinated suck and swallow, poor weight gain, and dehydrati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nagement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01560" indent="-231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VF and parenteral nutrition until enteral feeding improv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01560" indent="-231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avage feeds until oral feeding improves.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01560" indent="-231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upplementation of breast milk with formula or higher calorie supplementation if inadequate weight gai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Jaundic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ate preterms have an increased incidence of hyperbilirubinemi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s often leads to delayed discharge and an increased rate of readmissi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y appear to be at increased risk for bilirubin induced brain injury.  A large proportion of infants with kernicterus are late preterm infant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nagement:  These infants need to be monitored closely for jaundice.  Consider checking a bilirubin prior to discharge and plotting it on the graphs in the AAP guidelines if &gt;35 weeks.  These infants need close follow up after discharg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eadmiss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creased rate of readmissio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5.3-9.6% for infants from 33-37 week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.6-4.4% for term infant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admission may be secondary to jaundice, poor weight gain, dehydration, or other etiolog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y need close follow up as outpatient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ortalit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creased mortality from all causes compared to infants born at ter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7.7/1000 in late preterm infants vs 2.5/1000 in term infant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 X greater risk for SID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.4/1000 in late preterm infants vs 0.7/1000 in term infants; mechanism is unknow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Brai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ate preterms have more immature brai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eight is 60% of that at term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creased sulci/gyri/synaps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me studies suggest increased risk of periventricular leukomalacia seen at autops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se infants are at increased risk for cerebral palsy as compared to term infant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Long Term Outcom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mited data.  Studies are primarily based on survey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 follow-up studies, infants born at 32-35 weeks can have ~1/3 with some learning/behavioral  difficult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~20% of 34-37 week infants can have some learning difficulties compared to &lt;10% of those born at te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ther data suggest increased rates of ADHD and other behavioral problem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efini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ull Term &gt;37 weeks of gest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eterm &lt;34 weeks of gest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ate preterm 34 0/7-36 6/7 weeks of gest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rmal BW &gt;2500gra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BW &lt;2500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LBW &lt;1500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LBW &lt;1000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hat to do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ed more inform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? Best obstetric management, ? Later steroids, ? Check for fetal lung maturit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? Elective c/sectio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st neonatal management- well baby vs IC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tter studies evaluating long term follow up and how to improve outcom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32-33 week infan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ame complications of the late preterm infant, though increased frequenc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quire ICN admissi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fants between 30-34 weeks ~ 46% require assisted ventilation (CPAP or intubatio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st if not all require IV fluids and TP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ior to 34 weeks most infants can’t nipple all feeds and require gavage feeding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y are at risk for problems seen in more preterm infant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ven higher risk for developmental problems and readmission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veral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fants &lt;34 weeks and &lt;2100 grams: admit to ICN, neonatology consult and perhaps transf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4-36 weeks: close observation for all of the above issues before transferring to well bab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on’t discharge earl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ose follow up after discharge and into childhoo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Bibliograph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Raju, Higgins, Stark, Leveno. Optimizing care and outcome for late-Preterm Infants: A summary of the workshop sponsored by the National Institute of Child Health and Human Development. Pediatrics 2006; 118:1207-1214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ang, Dorer, Fleming, Catlin. Clinical Outcomes of Near-Term Infants. Pediatrics 2004; 114: 372-377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Kirkegaard, Obel, Hedegaard, Henriksen.  Gestational Age and birth weight in relation to school performance of 10 year old children. Pediatrics 2006; 118: 1600-1607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tein, Siegel, Bauman.  Are children of moderately low birth weight at increased risk for poor health?  Pediatrics 2006; 118: 217-22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Engle.  A recommendation for the definition of “late Preterm” and the birth weight-Gestational age classification system.  Seminars in Perinatology 2006; 30: 2-7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Laptook, Jackson. Cold Stress and Hypoglycemia in the late preterm infant.  Seminars in Perinatology 2006; 30: 24-27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Escobar, et al.  Unstudied infants: outcomes of moderately premature infants in the neonatal intensive care unit.  Archives of diseases of childhood 2006; 91; F238-244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hapiro-Mendoza et al. Risk factors for neonatal morbidity and mortality among “healthy’ late preterm newborns. Seminars in Perinatology. 2006; 30: 54-60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Huddy, Johnson, Hope. Educational and behavioral problems in babies of 32-35 weeks gestation. Archives of diseases of childhood fetal and neonatal edition. 2001; 85: F23-28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Jain, Eaton. Physiology of Fetal lung fluid clearance and the effect of labor. Seminars in perinatology 2006; 30: 34-43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tatistic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ate of preterm birth in US increased from 9.1% in 1981 to 12.3% in 2003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/3 of this increase was due to late preterm birth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~74% of preterm births are late preterm infants from 34-36 weeks of gest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s leads to huge impact on health car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tatistic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~50% of infants born at 34 weeks require intensive car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~15% at 35week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~8% at 36 week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Late Preterm Infan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 2005 the NICHD had a workshop to address the issues and impact of these late preterm infant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ior to this meeting these infants were called “near term”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se infants have significantly higher rates of morbidities and mortalities compared to term infants and should be considered prete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Neonatal Issues of Late Preterm Infan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emperature Instabil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ypoglycem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spiratory distr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pne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creased mortality and risk of SI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creased risk of sepsis/antibiotic exposu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I problems and feeding difficult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yperbilirubinem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creased readmiss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ng term neurodevelopmental proble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emperature Instabilit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5341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ypothermia: rectal temperature &lt;36.5 degrees 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ate preterms are at increased risk for hypothermia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hrough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the first 24 hours of lif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bably secondary to immature epidermal barrier, increased surface area to weight ratio, more delivery room intervention preventing bundling, but also may be a sign of sepsi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0% of infants at 35-36 weeks and ~0% at term require some type of management for hypothermi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emperature Instabilit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341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nical signs of hypothermia include: tachypnea, poor color due to vasoconstriction, low heart rate, and metabolic acidosi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nagement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livery room:  routine NALS, warmers, skin to ski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CN: may include skin to skin contact for larger stable infants, or extra bundling and hats, but often require a radiant warmer or isolette to maintain normal temperature (36.5-37.4 degrees C).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mportant to follow temperatures frequently for the first 24 hour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ypoglycemi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ate preterms are at increased risk for hypoglycemia requiring treatmen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~18% at 35-36 weeks and 4% at term develop hypoglycemi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/3 of these infants require treatment with IV dextros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etiology is felt to be secondary to delay in hepatic glucose-6-phosphatase activity, low body fuel stores, inadequate oral intake, or other risk factors such as hypothermia and sepsis that increases metabolic deman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18:55:52Z</dcterms:created>
  <dc:creator>stacie</dc:creator>
  <dc:description/>
  <dc:language>en-US</dc:language>
  <cp:lastModifiedBy>Ada Ho</cp:lastModifiedBy>
  <dcterms:modified xsi:type="dcterms:W3CDTF">2010-06-09T22:07:07Z</dcterms:modified>
  <cp:revision>11</cp:revision>
  <dc:subject/>
  <dc:title>32-36 week infants</dc:title>
</cp:coreProperties>
</file>