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A7EB-346E-4E3B-839F-DC1767DD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F670-E5D2-4ABE-9E58-E5F75D66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706-8093-4B31-A3E9-BFB9C38B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6A9-6C4A-4E0A-A093-51C434D6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0A92-6BD4-4E60-8555-65930E2D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16A-00C4-40B3-9318-D6127E59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8213-C7D7-41F0-92F4-8CFB26CB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F7AD-9D45-4F4A-92D3-7DBBD17A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E77A-B351-466B-AE63-40B18E09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4706-0A41-4C54-B6B8-233A8C77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C94-A89B-4F04-8205-81FB09BE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0BC-6699-43A7-87F9-8672F010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A4CB-8C31-4169-BF49-2FCFF6DC8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2-36 Week Inf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cie Bennett, M.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t Bay Newborn Specia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ember 12,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poglycem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in concern: glucose is the primary substrate for cerebral metabolism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reterm infants moderate hypoglycemia with glucose &lt;47mg/dL has been shown to have neurodevelopmental consequen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 can occur during the first 24 hours and needs to be monito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 may inclu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nipple trial of formula or D10W if infant is able 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unable to nipple, will require IV fluid with a D10W bolus of 2-3ml/kg followed by a dextrose infus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piratory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for RDS, pulmonary hypertension, TTN, and Pneumonia(?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DS can occur in ~12% of 33-34 wk, 2% of 35-36 wk, and 0.11%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TN can occur in 11.6% of 33-34 wk, 5% of 35-36 wk, and &lt;1%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all, ~31% of 35-36 weeks will have some respiratory distress requiring some management vs ~ 4% for 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piratory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iology for distress is possibly due to lack of clearance of fluid  with immature Na transport channels or surfactant deficien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monitor for signs of distress: tachypnea, nasal flaring, retractions, grunting, oxygen ne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 may inclu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xygen via a hood or nasal canu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of nasal continuous positive airway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ubation and surfactant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infants are also at increased risk for apnea (4-5% at 34-36 weeks and ~0% at term) and must be monito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infants are more likely to be evaluated for sepsis and treated for presumed or actual inf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 they have more antibiotic expos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an infant has respiratory distress, hypoglycemia, or hypothermia, it can be a sign of infection and may require a septic w/u including antibiotic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natal history is also important, such as maternal chorio or prolonged rupture of membranes, as GBS status is often unknown at these gesta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I/Feeding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infants have less mature peristaltic function and sphincter contro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at increased risk for necrotizing enterocolitis (NEC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an also have uncoordinated suck and swallow, poor weight gain, and dehyd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F and parenteral nutrition until enteral feeding improv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vage feeds until oral feeding improve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ementation of breast milk with formula or higher calorie supplementation if inadequate weight ga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und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have an increased incidence of hyperbilirubine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often leads to delayed discharge and an increased rate of readmi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ppear to be at increased risk for bilirubin induced brain injury.  A large proportion of infants with kernicterus are lat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  These infants need to be monitored closely for jaundice.  Consider checking a bilirubin prior to discharge and plotting it on the graphs in the AAP guidelines if &gt;35 weeks.  These infants need close follow up after disch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mi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rate of readmiss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3-9.6% for infants from 33-37 wee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6-4.4% for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mission may be secondary to jaundice, poor weight gain, dehydration, or other etiolog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need close follow up as outpati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t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mortality from all causes compared to infants born at te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7/1000 in late preterm infants vs 2.5/1000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X greater risk for S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4/1000 in late preterm infants vs 0.7/1000 in term infants; mechanism is unknow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ra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 preterms have more immature bra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 is 60% of that at ter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sulci/gyri/synap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studies suggest increased risk of periventricular leukomalacia seen at autop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infants are at increased risk for cerebral palsy as compared to term infa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ng Term Outco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data.  Studies are primarily based on surve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follow-up studies, infants born at 32-35 weeks can have ~1/3 with some learning/behavioral  difficul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~20% of 34-37 week infants can have some learning difficulties compared to &lt;10% of those born at 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data suggest increased rates of ADHD and other behavioral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Term &gt;37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rm &lt;34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34 0/7-36 6/7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BW &gt;2500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BW &lt;25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LBW &lt;15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BW &lt;10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to do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more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Best obstetric management, ? Later steroids, ? Check for fetal lung matur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Elective c/se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neonatal management- well baby vs IC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ter studies evaluating long term follow up and how to improve outco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2-33 week inf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complications of the late preterm infant, though increased frequen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ICN admi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nts between 30-34 weeks ~ 46% require assisted ventilation (CPAP or intub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if not all require IV fluids and TP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to 34 weeks most infants can’t nipple all feeds and require gavage fee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at risk for problems seen in mor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higher risk for developmental problems and readmis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nts &lt;34 weeks and &lt;2100 grams: admit to ICN, neonatology consult and perhaps transf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4-36 weeks: close observation for all of the above issues before transferring to well ba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discharge ea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e follow up after discharge and into childh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aju, Higgins, Stark, Leveno. Optimizing care and outcome for late-Preterm Infants: A summary of the workshop sponsored by the National Institute of Child Health and Human Development. Pediatrics 2006; 118:1207-121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ang, Dorer, Fleming, Catlin. Clinical Outcomes of Near-Term Infants. Pediatrics 2004; 114: 372-37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Kirkegaard, Obel, Hedegaard, Henriksen.  Gestational Age and birth weight in relation to school performance of 10 year old children. Pediatrics 2006; 118: 1600-160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ein, Siegel, Bauman.  Are children of moderately low birth weight at increased risk for poor health?  Pediatrics 2006; 118: 217-2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ngle.  A recommendation for the definition of “late Preterm” and the birth weight-Gestational age classification system.  Seminars in Perinatology 2006; 30: 2-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ptook, Jackson. Cold Stress and Hypoglycemia in the late preterm infant.  Seminars in Perinatology 2006; 30: 24-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cobar, et al.  Unstudied infants: outcomes of moderately premature infants in the neonatal intensive care unit.  Archives of diseases of childhood 2006; 91; F238-24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hapiro-Mendoza et al. Risk factors for neonatal morbidity and mortality among “healthy’ late preterm newborns. Seminars in Perinatology. 2006; 30: 54-6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uddy, Johnson, Hope. Educational and behavioral problems in babies of 32-35 weeks gestation. Archives of diseases of childhood fetal and neonatal edition. 2001; 85: F23-2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ain, Eaton. Physiology of Fetal lung fluid clearance and the effect of labor. Seminars in perinatology 2006; 30: 34-4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e of preterm birth in US increased from 9.1% in 1981 to 12.3% in 200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3 of this increase was due to late preterm bir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74% of preterm births are late preterm infants from 34-36 weeks of ges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leads to huge impact on health c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50% of infants born at 34 weeks require intensive c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15% at 35wee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8% at 36 wee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e Preterm Inf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2005 the NICHD had a workshop to address the issues and impact of these lat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to this meeting these infants were called “near term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infants have significantly higher rates of morbidities and mortalities compared to term infants and should be considered pre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onatal Issues of Late Preterm Inf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e Ins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iratory dist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n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mortality and risk of S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sepsis/antibiotic exp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 problems and feeding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bilirubi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eadmi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term neurodevelopmental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erature Inst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hermia: rectal temperature &lt;36.5 degrees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are at increased risk for hypothermi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roug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first 24 hours of lif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ably secondary to immature epidermal barrier, increased surface area to weight ratio, more delivery room intervention preventing bundling, but also may be a sign of sep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% of infants at 35-36 weeks and ~0% at term require some type of management for hypother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erature Inst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nical signs of hypothermia include: tachypnea, poor color due to vasoconstriction, low heart rate, and metabolic acid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y room:  routine NALS, warmers, skin to sk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N: may include skin to skin contact for larger stable infants, or extra bundling and hats, but often require a radiant warmer or isolette to maintain normal temperature (36.5-37.4 degrees C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 to follow temperatures frequently for the first 24 hou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poglycem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are at increased risk for hypoglycemia requiring trea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~18% at 35-36 weeks and 4% at term develop hypoglyce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3 of these infants require treatment with IV dextro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tiology is felt to be secondary to delay in hepatic glucose-6-phosphatase activity, low body fuel stores, inadequate oral intake, or other risk factors such as hypothermia and sepsis that increases metabolic dem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8:55:52Z</dcterms:created>
  <dc:creator>stacie</dc:creator>
  <dc:description/>
  <dc:language>en-US</dc:language>
  <cp:lastModifiedBy>Ada Ho</cp:lastModifiedBy>
  <dcterms:modified xsi:type="dcterms:W3CDTF">2010-06-09T22:07:07Z</dcterms:modified>
  <cp:revision>11</cp:revision>
  <dc:subject/>
  <dc:title>32-36 week infants</dc:title>
</cp:coreProperties>
</file>