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8B4-2CAF-4CBD-BF4D-AA48F785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93F-7A56-4836-BF5C-78FE6BE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2BA-D60C-48F5-BFA8-04422ED6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503-558D-45F7-88F9-20F0DF3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B78-F7DE-44A0-86D1-80F7C91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F38-54ED-4C06-9C5E-E57EC7D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4741-EEF8-4B6E-938C-D27A065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CB00-08F7-4102-8D1F-CAAE118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8C18-75B6-46BE-BFF3-95EDA74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4786-681F-415D-8A1E-90C8305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9D5-C978-43C8-9405-6BB1807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117-8891-4D77-A11A-6104BFC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69DA-7BEE-4FD2-AFC2-3A83934D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1B13-6602-46D1-A2FE-FC5D3290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772-7712-4F69-83CA-210AC39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912-2CAC-480A-BED2-99F1ADFF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B6C-7373-407F-9D17-27805EC8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4D4-ACC7-4849-87E8-F5540AA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B74-0FEB-4BBC-81C4-531EB97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642-A706-4D58-8372-16B7601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9DB-5E70-4878-AE7A-47778CB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59E-90B4-436B-9D9C-A24B573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FC8-16B0-4AF7-B5D5-1D193DEF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CF0-D2B6-46E1-9252-E07138F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F8F-9592-4EC9-98CE-E195A06C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6C6-E056-48FF-96FF-531D7AEC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vectors.cx/paramedics/apps/abg.cgi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The ABCs of ABG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mita Kuruvilla and Jessica Co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 ICU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n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60 / 19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40 / 60 / 19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7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6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-7.5 / 80 /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5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9 / -7.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, uncompens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80 / 26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33 / 80 / 26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8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54 / 33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6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lkalosis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hyper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ady to try some real life cases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7" descr="happy%20and%20excited"/>
          <p:cNvPicPr/>
          <p:nvPr/>
        </p:nvPicPr>
        <p:blipFill>
          <a:blip r:embed="rId1"/>
          <a:stretch/>
        </p:blipFill>
        <p:spPr>
          <a:xfrm>
            <a:off x="3200400" y="2286000"/>
            <a:ext cx="3333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year old male with multiple ad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H: Poorly controlled diabetes, polysubstance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: dry mucus membranes with fruity odor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: Anion gap 25, glucose 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s 1 – P.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01 / 7 / 142 / 2 / -28.3 / 99 /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cidosi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lkal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the metabolic acido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tions: IVF, bicarb, insu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 year old female with long history of alcohol abuse presents to the ER with epigastric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tted for severe acute pancreatitis and received over 25 Liters of IVF in first 3 days of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was done 3 week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2 – E.K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7 / 68 / 100 / 48 / 21.8 / 98 / 6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alkalos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iratory acidosis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patient’s history, what is the cause of her alkal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f the respiratory compen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: gentle fluids, diam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 year old female presented with chest and abdominal pain, intubated in the 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ICU course with multiple intubations and then tracheos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 dependent for most of her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BG done 2 months into hos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Example 3 – J.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PM: 7.27 / 64 / 58 / 29 / 1.2 / 87 /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M: 7.34 / 64 / 57 / 38 / 3.7 / 93 / 9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Acidosis, with subsequent compensation, probably from CO2 narc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s: Improve ventilation, increase Respiratory Rate, increase tidal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n-vented patients, bipap or intu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9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0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481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terpreting an ABG, obtain patient history and try to identify baselin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 the ABG into the various components, analyze, then put it back together with the patient’s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auses and brainstorm inter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urse Outline and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and review of arterial blood gas, metabolic/respiratory acidoses/alkalos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pid Interpretation of arterial blood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cases/clinical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of the purpose of arterial blood gases in clinical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 of therapeutic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sour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ABG tutorial: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vectors.cx/paramedics/apps/abg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Date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3033720" y="1285920"/>
          <a:ext cx="307656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3720" y="1285920"/>
                    <a:ext cx="30765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BG: Normal Val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5-7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-4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-10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-28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Ex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-+2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4-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em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18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ss than 7.3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greater than 7.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ka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can be metabolic or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ee the pCO2 and the HCO3- to determine the c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CO2 and HCO3- Abnorm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gt; 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CO2 narcosis, brain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O2 (&lt; 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lt;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sepsis, DKA, alcohol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lka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O3- (&gt;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vomiting, massive diur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13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2 and sO2: 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2 = PaO2: arterial oxygen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oxygen dissolved from alveoli into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2 = SaO2: arterial oxygen sat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 proportion of red blood cells whose hemoglobin is bound to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se Excess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.k.a. the idiot’s guide to rapidly interpreting ABGs prior to drinking coffee…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ositive 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metabolic alka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egative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→ metabolic aci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if greater tha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for Interpre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H and the Base Excess and decide if it is acidosis, alkalosis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CO2 and the HCO3- and decide if it is metabolic, respiratory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mpensation present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 at the pO2, the sO2, and the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mmarize whether it is a simple acidosis /alkalosis, mixed, and/or compens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90 / 25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.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/ 90 / 25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5 /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9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1.2 / 95 /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0 / 40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25 / 1.2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22:46Z</dcterms:created>
  <dc:creator>HCMARTINEZ</dc:creator>
  <dc:description/>
  <dc:language>en-US</dc:language>
  <cp:lastModifiedBy>HCMARTINEZ</cp:lastModifiedBy>
  <dcterms:modified xsi:type="dcterms:W3CDTF">2009-06-02T22:11:50Z</dcterms:modified>
  <cp:revision>16</cp:revision>
  <dc:subject/>
  <dc:title>The ABCs of ABGs</dc:title>
</cp:coreProperties>
</file>