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E56-BA4D-4AD4-845F-343E202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758-CF5E-4DC1-BA30-2FC1A10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098-2E01-419E-B296-2D245C1F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94D-CCD1-4C95-B801-72E087C6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A0DF-5229-46D3-BF27-618C1589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6EF8-A174-4B3F-9361-8362BA9F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C17-48C6-4433-B5BF-A05B759E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99E-8801-472E-BAAD-A0629AE4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E001-A661-456D-B7F3-FE7B98EC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6F41-6E88-4BE8-873D-DACDB47A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BB41-920B-4709-BFDF-5AF15AA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B5B-CDFE-4DB7-84E6-DE18EDA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CC2E-D51E-498B-9F10-52FF9772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76C0-87FC-42DC-9A24-DA4248DF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8F18-55F2-4006-8C4D-74CDD37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014-4992-449D-922A-0897DCB4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FBB1-8BAC-41C5-BE06-473DCEC2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DD2-DD04-4BB3-8C2D-2F0A5BA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20E-60AA-41A3-A7D4-F647286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6CB-42EF-4A34-8B63-ECFA799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DA3-CCB9-49A7-BE66-9D3F1ED5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ED4-D2F1-428B-8626-7284631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4C3-299E-46C7-9CBE-1FAE1B04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96E-4A12-4480-869D-59BC2F3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ABE-9448-4D0F-B482-B1073DCBD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3A9-622A-489A-A064-8264B7012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ctors.cx/paramedics/apps/abg.cgi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 ABCs of AB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ita Kuruvilla and Jessica Co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 ICU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60 / 19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40 / 60 / 19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6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9 / -7.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, uncompens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80 / 26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33 / 80 / 26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6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lkalosis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hyper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ady to try some real life cases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7" descr="happy%20and%20excited"/>
          <p:cNvPicPr/>
          <p:nvPr/>
        </p:nvPicPr>
        <p:blipFill>
          <a:blip r:embed="rId1"/>
          <a:stretch/>
        </p:blipFill>
        <p:spPr>
          <a:xfrm>
            <a:off x="3200400" y="228600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year old male with multiple ad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H: Poorly controlled diabetes, polysubstance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: dry mucus membranes with fruity odor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: Anion gap 25, glucose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1 / 7 / 142 / 2 / -28.3 / 99 /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lkal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the metabolic acido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s: IVF, bicarb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year old female with long history of alcohol abuse presents to the ER with epigastric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ed for severe acute pancreatitis and received over 25 Liters of IVF in first 3 days of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was done 3 week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7 / 68 / 100 / 48 / 21.8 / 98 /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lkalo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cid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her alkal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: gentle fluids, diam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 year old female presented with chest and abdominal pain, intubated in the 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ICU course with multiple intubations and then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 dependent for most of her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done 2 month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PM: 7.27 / 64 / 58 / 29 / 1.2 / 87 /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M: 7.34 / 64 / 57 / 38 / 3.7 / 93 / 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cidosis, with subsequent compensation, probably from CO2 narc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: Improve ventilation, increase Respiratory Rate, increas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n-vented patients, bipap or intu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0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1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an ABG, obtain patient history and try to identify baselin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 the ABG into the various components, analyze, then put it back together with the patient’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auses and brainstorm inter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Outline and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and review of arterial blood gas, metabolic/respiratory acidoses/alkalos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Interpretation of arterial bloo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cases/clinical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the purpose of arterial blood gases in clinical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therapeutic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BG tutorial: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vectors.cx/paramedics/apps/abg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3033720" y="1285920"/>
          <a:ext cx="307656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285920"/>
                    <a:ext cx="30765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BG: Normal Val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-4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10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-28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Ex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-+2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e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8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ss than 7.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greater than 7.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ka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can be metabolic or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e the pCO2 and the HCO3- to determine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CO2 and HCO3-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gt;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CO2 narcosis, brai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lt; 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lt;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sepsis, DKA, alcohol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gt;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vomiting, massive diu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13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2 and sO2: 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2 = PaO2: arterial oxygen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oxygen dissolved from alveoli into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 = SaO2: arterial oxygen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proportion of red blood cells whose hemoglobin is bound t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e Excess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.k.a. the idiot’s guide to rapidly interpreting ABGs prior to drinking coffee…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ositive 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metabolic alka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egativ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 metabolic 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if greater tha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for Interpre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H and the Base Excess and decide if it is acidosis, alkalosis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CO2 and the HCO3- and decide if it is metabolic, respiratory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ensation present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O2, the sO2, and the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mmarize whether it is a simple acidosis /alkalosis, mixed, and/or compens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90 / 25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/ 90 / 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5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22:46Z</dcterms:created>
  <dc:creator>HCMARTINEZ</dc:creator>
  <dc:description/>
  <dc:language>en-US</dc:language>
  <cp:lastModifiedBy>HCMARTINEZ</cp:lastModifiedBy>
  <dcterms:modified xsi:type="dcterms:W3CDTF">2009-06-02T22:11:50Z</dcterms:modified>
  <cp:revision>16</cp:revision>
  <dc:subject/>
  <dc:title>The ABCs of ABGs</dc:title>
</cp:coreProperties>
</file>