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E578-0993-4E92-826A-8E784C92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2E47-61E5-4E2B-8110-6FD6C5E9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3A88-1C7C-493F-8998-D0EE5F50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7D3-7C07-4C98-ADD7-C882B206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9949-6063-4EEE-893C-A3B9AECC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A747-DD6F-4ED5-A26F-9ACB7B96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7949-F87A-44A4-8CFD-C44B3096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8DBF-0168-4205-B5D4-1AE6EF6F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B0B5-9082-4012-B898-7FE9F0A8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5F55-2B92-4B01-AD7B-F994B90E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B839-BA34-4719-803D-716C2BBD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58AF-5C8B-4A41-89D8-A8B336B4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CCF1-EA6A-4D56-9EA1-1562B8FD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3AB3-CC2C-4535-81EF-9B4C407D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D786-EC24-4FFB-B098-32FCAAF5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2275-2825-4622-B9F0-422742B9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4690-A6A4-40C4-A610-EC071DE3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C1A2-C5F9-4C80-B1E1-DD44BE7A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E3B8-AC26-44B7-8B67-05427A3B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C262-A810-44A7-89AC-1F5D6E84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A146-38B5-4462-8B74-95B24030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E03-C7C6-43EA-B1ED-D84AD0E4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76CE-F360-49F9-9727-F0284D73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5DE8-C231-44D7-8D6C-AE144A67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DF37-B3FB-446F-97F9-3B508080D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1027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1028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029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1030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31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32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033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34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35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036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037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038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039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040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041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042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043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044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1045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1046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1047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048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2D3A-8BCE-40EF-903F-FFD011E77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vectors.cx/paramedics/apps/abg.cgi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492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The ABCs of ABGs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amita Kuruvilla and Jessica Co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 ICU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e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5 / 40 / 60 / 19 / -7.5 / 80 /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.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40 / 60 / 19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7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80 /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5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6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-7.5 / 80 /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5 / 4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19 / -7.5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Acidosis, uncompens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7" dur="1" fill="hold"/>
                                  <p:tgtEl>
                                    <p:spTgt spid="14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4 / 33 / 80 / 26 / 1.2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.5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33 / 80 / 26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4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8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1.2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4 / 33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26 / 1.2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Alkalosis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 hyper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1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Ready to try some real life cases?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Picture 7" descr="happy%20and%20excited"/>
          <p:cNvPicPr/>
          <p:nvPr/>
        </p:nvPicPr>
        <p:blipFill>
          <a:blip r:embed="rId1"/>
          <a:stretch/>
        </p:blipFill>
        <p:spPr>
          <a:xfrm>
            <a:off x="3200400" y="2286000"/>
            <a:ext cx="33336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s 1 – P.H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 year old male with multiple ad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H: Poorly controlled diabetes, polysubstance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: dry mucus membranes with fruity odor b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s: Anion gap 25, glucose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s 1 – P.H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01 / 7 / 142 / 2 / -28.3 / 99 / 1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acidosis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espiratory alkalosis compen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patient’s history, what is the cause of the metabolic acido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of the respiratory compens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entions: IVF, bicarb,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9" dur="1" fill="hold"/>
                                  <p:tgtEl>
                                    <p:spTgt spid="15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 2 – E.K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9 year old female with long history of alcohol abuse presents to the ER with epigastric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tted for severe acute pancreatitis and received over 25 Liters of IVF in first 3 days of hospit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ABG was done 3 weeks into hospit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 2 – E.K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7 / 68 / 100 / 48 / 21.8 / 98 / 6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alkalos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espiratory acidosis compen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patient’s history, what is the cause of her alkal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of the respiratory compens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: gentle fluids, diam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6" dur="1" fill="hold"/>
                                  <p:tgtEl>
                                    <p:spTgt spid="1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 3 – J.M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8 year old female presented with chest and abdominal pain, intubated in the 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longed ICU course with multiple intubations and then tracheost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ilator dependent for most of her st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ABG done 2 months into hospit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 3 – J.M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PM: 7.27 / 64 / 58 / 29 / 1.2 / 87 / 9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AM: 7.34 / 64 / 57 / 38 / 3.7 / 93 / 9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Acidosis, with subsequent compensation, probably from CO2 narc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entions: Improve ventilation, increase Respiratory Rate, increase tidal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n-vented patients, bipap or intu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9" dur="1" fill="hold"/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480" dur="1" fill="hold"/>
                                  <p:tgtEl>
                                    <p:spTgt spid="1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481" dur="1" fill="hold"/>
                                  <p:tgtEl>
                                    <p:spTgt spid="1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nterpreting an ABG, obtain patient history and try to identify baseline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down the ABG into the various components, analyze, then put it back together with the patient’s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causes and brainstorm inter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urse Outline and Objectiv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tion and review of arterial blood gas, metabolic/respiratory acidoses/alkalose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apid Interpretation of arterial blood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ion of cases/clinical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of the purpose of arterial blood gases in clinical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ion of therapeutic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net Resour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ABG tutorial: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vectors.cx/paramedics/apps/abg.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 to Date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2"/>
          <p:cNvGraphicFramePr/>
          <p:nvPr/>
        </p:nvGraphicFramePr>
        <p:xfrm>
          <a:off x="3033720" y="1285920"/>
          <a:ext cx="307656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3720" y="1285920"/>
                    <a:ext cx="307656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ABG: Normal Val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35-7.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O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-45 mm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-100 mm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O3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-28 mEq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Ex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-+2 mEq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4-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Tem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glob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-18 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9" dur="1" fill="hold"/>
                                  <p:tgtEl>
                                    <p:spTgt spid="13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 Abnormal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less than 7.3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id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greater than 7.4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ka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can be metabolic or respi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see the pCO2 and the HCO3- to determine the ca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CO2 and HCO3- Abnormal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 acid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i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CO2 (&gt; 4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CO2 narcosis, brain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 alka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CO2 (&lt; 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hypervent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c acid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O3- (&lt;2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sepsis, DKA, alcoholic ketoacid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c alka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ig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O3- (&gt;2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vomiting, massive diur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5" dur="1" fill="hold"/>
                                  <p:tgtEl>
                                    <p:spTgt spid="13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146" dur="1" fill="hold"/>
                                  <p:tgtEl>
                                    <p:spTgt spid="13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2 and sO2: Defini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2 = PaO2: arterial oxygen 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.e. oxygen dissolved from alveoli into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2 = SaO2: arterial oxygen sat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.e. proportion of red blood cells whose hemoglobin is bound to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ase Excess: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.k.a. the idiot’s guide to rapidly interpreting ABGs prior to drinking coffee…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B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positive 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metabolic alkal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negative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→ metabolic acid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gnificant if greater tha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rategies for Interpret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ok at the pH and the Base Excess and decide if it is acidosis, alkalosis, 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ok at the pCO2 and the HCO3- and decide if it is metabolic, respiratory, 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mpensation present or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ok at the pO2, the sO2, and the hemoglo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ummarize whether it is a simple acidosis /alkalosis, mixed, and/or compens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9" dur="1" fill="hold"/>
                                  <p:tgtEl>
                                    <p:spTgt spid="1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0 / 40 / 90 / 25 / 1.2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.4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/ 90 / 25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95 / 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9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1.2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0 / 4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25 / 1.2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8" dur="1" fill="hold"/>
                                  <p:tgtEl>
                                    <p:spTgt spid="14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7:22:46Z</dcterms:created>
  <dc:creator>HCMARTINEZ</dc:creator>
  <dc:description/>
  <dc:language>en-US</dc:language>
  <cp:lastModifiedBy>HCMARTINEZ</cp:lastModifiedBy>
  <dcterms:modified xsi:type="dcterms:W3CDTF">2009-06-02T22:11:50Z</dcterms:modified>
  <cp:revision>16</cp:revision>
  <dc:subject/>
  <dc:title>The ABCs of ABGs</dc:title>
</cp:coreProperties>
</file>