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356E-9E96-4C1C-8B4A-2EF8AAA4E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FEE3-34BD-497A-9269-D3C4A5DD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7556-9FFD-4759-B2BC-CDBA59920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DC5F-CBA0-4844-AA1A-F60A81A2A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C70E-A641-497F-9064-E0F057D81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450C-1D44-4C19-A8D2-B0B1D356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76284-74CC-4064-B8F7-9369619F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FBCE-BB15-4A69-A502-2E9A6FCD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7564-2393-4177-9115-AE0937F9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4C60-DE96-4C60-90A9-951EEE8F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E4445-2E20-43BA-A4E7-CF75DC2D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F961-7A1D-498F-B02C-693DD6D0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7398-1BB3-4CB2-85BE-C44A3F98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7B4A-97F3-48E1-A276-8A8E9639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C99D-871B-494F-83A0-1B45729D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1D07-2AA3-4D8F-B907-98D68B54E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D67F2-127C-45D1-8400-0286D9FDF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740A-241F-4C73-8312-4306BDA2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111E-3F18-46B5-BB1A-D953DD03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CF04-4067-43F5-A5F8-69A35DEA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DCA0-F0DD-4F22-8376-0DD58A8E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A076-8D8E-42FA-8B29-C4A56EAD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F1F7-2265-44C0-B7C7-C6FB982A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3F8D-6C42-4D01-8C74-2B485D4A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837840"/>
                  <a:gd name="textAreaBottom" fmla="*/ 6838200 h 68378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6266-084B-40C5-B6F8-BE9EA2732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1026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1027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1028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20240"/>
                  <a:gd name="textAreaBottom" fmla="*/ 9120600 h 91202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1029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1030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1031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032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1033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560"/>
                  <a:gd name="textAreaBottom" fmla="*/ 574920 h 574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34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0040"/>
                  <a:gd name="textAreaBottom" fmla="*/ 500400 h 5000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035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036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037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038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039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040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041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042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043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1044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>
                  <a:gd name="textAreaLeft" fmla="*/ -360 w 461880"/>
                  <a:gd name="textAreaRight" fmla="*/ 461880 w 46188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1045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1046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840"/>
                  <a:gd name="textAreaBottom" fmla="*/ 502200 h 501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1047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>
                <a:gd name="textAreaLeft" fmla="*/ -360 w 9147240"/>
                <a:gd name="textAreaRight" fmla="*/ 9147240 w 914724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1048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B927-334F-443F-9E29-4D55D0A5A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vectors.cx/paramedics/apps/abg.cgi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4920"/>
            <a:ext cx="77724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The ABCs of ABGs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amita Kuruvilla and Jessica Co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 ICU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une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 2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25 / 40 / 60 / 19 / -7.5 / 80 /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7.2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40 / 60 / 19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7.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80 /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25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60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-7.5 / 80 /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25 / 40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6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19 / -7.5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8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bolic Acidosis, uncompens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7" dur="1" fill="hold"/>
                                  <p:tgtEl>
                                    <p:spTgt spid="14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 3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54 / 33 / 80 / 26 / 1.2 / 95 /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7.5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33 / 80 / 26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95 /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54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80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1.2 / 95 /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54 / 33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8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26 / 1.2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9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iratory Alkalosis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 hyperventi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6" dur="1" fill="hold"/>
                                  <p:tgtEl>
                                    <p:spTgt spid="14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Ready to try some real life cases?</a:t>
            </a: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1" name="Picture 7" descr="happy%20and%20excited"/>
          <p:cNvPicPr/>
          <p:nvPr/>
        </p:nvPicPr>
        <p:blipFill>
          <a:blip r:embed="rId1"/>
          <a:stretch/>
        </p:blipFill>
        <p:spPr>
          <a:xfrm>
            <a:off x="3200400" y="2286000"/>
            <a:ext cx="33336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al Examples 1 – P.H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 year old male with multiple ad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MH: Poorly controlled diabetes, polysubstance ab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: dry mucus membranes with fruity odor br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s: Anion gap 25, glucose 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al Examples 1 – P.H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01 / 7 / 142 / 2 / -28.3 / 99 / 11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bolic acidosis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respiratory alkalosis compen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e patient’s history, what is the cause of the metabolic acido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of the respiratory compens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entions: IVF, bicarb, insu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9" dur="1" fill="hold"/>
                                  <p:tgtEl>
                                    <p:spTgt spid="15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al Example 2 – E.K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9 year old female with long history of alcohol abuse presents to the ER with epigastric 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tted for severe acute pancreatitis and received over 25 Liters of IVF in first 3 days of hospit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ABG was done 3 weeks into hospit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al Example 2 – E.K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47 / 68 / 100 / 48 / 21.8 / 98 / 6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bolic alkalos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respiratory acidosis compen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e patient’s history, what is the cause of her alkalo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of the respiratory compens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ment: gentle fluids, diam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6" dur="1" fill="hold"/>
                                  <p:tgtEl>
                                    <p:spTgt spid="15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al Example 3 – J.M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8 year old female presented with chest and abdominal pain, intubated in the 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longed ICU course with multiple intubations and then tracheost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tilator dependent for most of her st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ABG done 2 months into hospit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al Example 3 – J.M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PM: 7.27 / 64 / 58 / 29 / 1.2 / 87 / 9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AM: 7.34 / 64 / 57 / 38 / 3.7 / 93 / 9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iratory Acidosis, with subsequent compensation, probably from CO2 narc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entions: Improve ventilation, increase Respiratory Rate, increase tidal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on-vented patients, bipap or intub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9" dur="1" fill="hold"/>
                                  <p:tgtEl>
                                    <p:spTgt spid="1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  <p:animClr clrSpc="rgb">
                                <p:cBhvr>
                                  <p:cTn id="480" dur="1" fill="hold"/>
                                  <p:tgtEl>
                                    <p:spTgt spid="16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  <p:animClr clrSpc="rgb">
                                <p:cBhvr>
                                  <p:cTn id="481" dur="1" fill="hold"/>
                                  <p:tgtEl>
                                    <p:spTgt spid="16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nterpreting an ABG, obtain patient history and try to identify baseline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 down the ABG into the various components, analyze, then put it back together with the patient’s con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causes and brainstorm interven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urse Outline and Objectiv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tion and review of arterial blood gas, metabolic/respiratory acidoses/alkaloses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apid Interpretation of arterial blood g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iscussion of cases/clinical sce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of the purpose of arterial blood gases in clinical sett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iscussion of therapeutic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ernet Resour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ABG tutorial: </a:t>
            </a: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www.vectors.cx/paramedics/apps/abg.c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 to Date on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Object 2"/>
          <p:cNvGraphicFramePr/>
          <p:nvPr/>
        </p:nvGraphicFramePr>
        <p:xfrm>
          <a:off x="3033720" y="1285920"/>
          <a:ext cx="3076560" cy="42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3720" y="1285920"/>
                    <a:ext cx="307656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ABG: Normal Valu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35-7.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O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-45 mm 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-100 mm 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O3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-28 mEq/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Ex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-+2 mEq/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4-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Tem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moglob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-18 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9" dur="1" fill="hold"/>
                                  <p:tgtEl>
                                    <p:spTgt spid="13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H Abnormaliti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 less than 7.3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id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 greater than 7.4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kal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 can be metabolic or respi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see the pCO2 and the HCO3- to determine the cau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CO2 and HCO3- Abnormaliti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iratory acid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hig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CO2 (&gt; 4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CO2 narcosis, brain de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iratory alkal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CO2 (&lt; 3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hyperventi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bolic acid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O3- (&lt;2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sepsis, DKA, alcoholic ketoacid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bolic alkal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ig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O3- (&gt;28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vomiting, massive diur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  <p:animClr clrSpc="rgb"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5" dur="1" fill="hold"/>
                                  <p:tgtEl>
                                    <p:spTgt spid="13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  <p:animClr clrSpc="rgb">
                                <p:cBhvr>
                                  <p:cTn id="146" dur="1" fill="hold"/>
                                  <p:tgtEl>
                                    <p:spTgt spid="13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O2 and sO2: Defini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2 = PaO2: arterial oxygen 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.e. oxygen dissolved from alveoli into pla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2 = SaO2: arterial oxygen sat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.e. proportion of red blood cells whose hemoglobin is bound to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Base Excess: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.k.a. the idiot’s guide to rapidly interpreting ABGs prior to drinking coffee…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ABO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positive 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→ metabolic alkal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negative num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→ metabolic acid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ignificant if greater tha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rategies for Interpret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Look at the pH and the Base Excess and decide if it is acidosis, alkalosis, or b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Look at the pCO2 and the HCO3- and decide if it is metabolic, respiratory, or b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mpensation present or no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Look at the pO2, the sO2, and the hemoglob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ummarize whether it is a simple acidosis /alkalosis, mixed, and/or compens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9" dur="1" fill="hold"/>
                                  <p:tgtEl>
                                    <p:spTgt spid="14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 1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40 / 40 / 90 / 25 / 1.2 / 95 /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7.4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 / 90 / 25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95 / 1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40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90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1.2 / 95 /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40 / 40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9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25 / 1.2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9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8" dur="1" fill="hold"/>
                                  <p:tgtEl>
                                    <p:spTgt spid="14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17:22:46Z</dcterms:created>
  <dc:creator>HCMARTINEZ</dc:creator>
  <dc:description/>
  <dc:language>en-US</dc:language>
  <cp:lastModifiedBy>HCMARTINEZ</cp:lastModifiedBy>
  <dcterms:modified xsi:type="dcterms:W3CDTF">2009-06-02T22:11:50Z</dcterms:modified>
  <cp:revision>16</cp:revision>
  <dc:subject/>
  <dc:title>The ABCs of ABGs</dc:title>
</cp:coreProperties>
</file>