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A46E-1515-4D39-8D85-AE086F21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B098-A5D4-4F93-BE16-629B83A9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FD38-1CB1-469A-9AD3-3D9A594C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5025-D2C6-44F7-AAEE-511516D7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A3C8-145B-44EC-AFDD-1E2D7812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A443-46FF-452B-A943-CCD334DF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CA7B-B2DF-473F-BBEC-2806F540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0A58-4AC8-4FF7-A547-0B4F8B54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8B19-A69A-49FB-BD4B-EDE674A9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C1A2-08C5-471C-AC07-03199057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0EF8-2631-4B14-9FC1-398DC689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B7A6-00A2-4B49-A9F1-E56221B3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E044-F4D6-4CE2-A17B-9CBA4648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196D-CC33-49D2-8571-3D0FB789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FD45-AF9D-4698-881B-35C31CE4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F5DD-1296-41BD-BA89-A83BF498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695B-F9F0-480D-8032-7B6009B3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775A-E97A-48BE-BBB0-8D5F6126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3B4B-A8D4-4072-A7C4-20C7AFA6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6FC8-691C-42B5-8FBF-1D086343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CA55-7F70-4F4E-ABA3-DF455B76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00CC-CCBC-4757-B585-4EB18176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89BE-07F2-4A31-8FFE-E61460D7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2E8D-0C39-4D06-8907-214CF293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62640" y="-4680"/>
                <a:ext cx="979560" cy="6831720"/>
              </a:xfrm>
              <a:custGeom>
                <a:avLst/>
                <a:gdLst>
                  <a:gd name="textAreaLeft" fmla="*/ -360 w 979560"/>
                  <a:gd name="textAreaRight" fmla="*/ 979560 w 979560"/>
                  <a:gd name="textAreaTop" fmla="*/ 0 h 6831720"/>
                  <a:gd name="textAreaBottom" fmla="*/ 6832080 h 683172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8320" y="1697040"/>
                <a:ext cx="979920" cy="50076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63000" y="1283760"/>
                <a:ext cx="979560" cy="502920"/>
              </a:xfrm>
              <a:custGeom>
                <a:avLst/>
                <a:gdLst>
                  <a:gd name="textAreaLeft" fmla="*/ -360 w 979560"/>
                  <a:gd name="textAreaRight" fmla="*/ 979560 w 97956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63000" y="148320"/>
                <a:ext cx="979560" cy="302760"/>
              </a:xfrm>
              <a:custGeom>
                <a:avLst/>
                <a:gdLst>
                  <a:gd name="textAreaLeft" fmla="*/ -360 w 979560"/>
                  <a:gd name="textAreaRight" fmla="*/ 979560 w 97956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8320" y="989640"/>
                <a:ext cx="979920" cy="3481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60120" y="680400"/>
                <a:ext cx="979920" cy="4327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61560" y="372600"/>
                <a:ext cx="992160" cy="375480"/>
              </a:xfrm>
              <a:custGeom>
                <a:avLst/>
                <a:gdLst>
                  <a:gd name="textAreaLeft" fmla="*/ 360 w 992160"/>
                  <a:gd name="textAreaRight" fmla="*/ 992880 w 99216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5720" y="3933720"/>
                <a:ext cx="979920" cy="4993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50400" y="3536640"/>
                <a:ext cx="979920" cy="50076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50400" y="2397600"/>
                <a:ext cx="979920" cy="30420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50400" y="3231000"/>
                <a:ext cx="979920" cy="34704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50400" y="2931480"/>
                <a:ext cx="979920" cy="42768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50400" y="2616480"/>
                <a:ext cx="992160" cy="375840"/>
              </a:xfrm>
              <a:custGeom>
                <a:avLst/>
                <a:gdLst>
                  <a:gd name="textAreaLeft" fmla="*/ 360 w 992160"/>
                  <a:gd name="textAreaRight" fmla="*/ 992880 w 99216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6200"/>
                <a:ext cx="979920" cy="4993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3640" y="4552200"/>
                <a:ext cx="979920" cy="5029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5720" y="5659560"/>
                <a:ext cx="979920" cy="30276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440" y="6189840"/>
                <a:ext cx="345960" cy="98100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81000"/>
                  <a:gd name="textAreaBottom" fmla="*/ 981360 h 98100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94520"/>
                <a:ext cx="979920" cy="4291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84920"/>
                <a:ext cx="992160" cy="375840"/>
              </a:xfrm>
              <a:custGeom>
                <a:avLst/>
                <a:gdLst>
                  <a:gd name="textAreaLeft" fmla="*/ 360 w 992160"/>
                  <a:gd name="textAreaRight" fmla="*/ 992880 w 99216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0136-3B72-4E2F-9E4F-060B8DD38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5560"/>
              <a:chOff x="-3240" y="2479680"/>
              <a:chExt cx="9146880" cy="10155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5320"/>
                <a:ext cx="990720" cy="4042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35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740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6240" y="2777400"/>
                <a:ext cx="990720" cy="4042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24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E530-7426-44C9-9A41-677B4DAEF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928440"/>
            <a:ext cx="8336160" cy="15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Positive Pressure Ventilation: The Basic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amita Kuruvilla, M.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ritical Care Cour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Mode: Assist Control (AC)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on initial mode in our I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ust fill out vent order form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dal Volume (usually 10 ml/kg ideal body w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 Rate (usually 14-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O2 (usually 100 % at fir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P (positive end expiratory pressure, usually 5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breath receives the same tidal volume 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gardless of preset rat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 breaths get the same tidal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E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End-Expiratory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stent: minimum pressure used to “stent” the airway to prevent alveolar collapse/atelact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EP = ____?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ist Contro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1" name="Picture 11" descr="AC Scalar"/>
          <p:cNvPicPr/>
          <p:nvPr/>
        </p:nvPicPr>
        <p:blipFill>
          <a:blip r:embed="rId1"/>
          <a:stretch/>
        </p:blipFill>
        <p:spPr>
          <a:xfrm>
            <a:off x="2643120" y="1981080"/>
            <a:ext cx="4832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se 2 – 68 yo M HD#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t is still intubated and on AC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O2 = 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ing to open eyes intermitt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G: 7.55/28/65/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, he’s overbreathing the vent; his rate is 40.  Do we sedate him mor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nterventions, if any, will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Mode: Synchronized Intermittent Mandatory Ventilation (SIMV)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ord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, tidal volume, RR, FiO2, PEEP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ure Support (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tilator breaths receive full tidal volum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p to the se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 patient breaths do not get the full tidal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 breaths get PEEP +/- pressure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ssure Suppor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possible in IMV and spontaneous breathing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tra pressure above the PEEP used to provide additional inspiratory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vary from 0-25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MV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9" name="Picture 9" descr="SIMV + PS + PEEP"/>
          <p:cNvPicPr/>
          <p:nvPr/>
        </p:nvPicPr>
        <p:blipFill>
          <a:blip r:embed="rId1"/>
          <a:stretch/>
        </p:blipFill>
        <p:spPr>
          <a:xfrm>
            <a:off x="1981080" y="1600200"/>
            <a:ext cx="577692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se 3 – 68 yo M HD#5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is still on SI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is alert on his daily awakening 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s 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R is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O2 is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nterventions, in any, will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2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otaibi, G. Ventilator Graphic Waveforms Tu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EEP and PS/PE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Picture 15" descr="CPAP Scalar"/>
          <p:cNvPicPr/>
          <p:nvPr/>
        </p:nvPicPr>
        <p:blipFill>
          <a:blip r:embed="rId1"/>
          <a:stretch/>
        </p:blipFill>
        <p:spPr>
          <a:xfrm>
            <a:off x="914400" y="1295280"/>
            <a:ext cx="3962520" cy="3276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PS + CPAP Scalar"/>
          <p:cNvPicPr/>
          <p:nvPr/>
        </p:nvPicPr>
        <p:blipFill>
          <a:blip r:embed="rId2"/>
          <a:stretch/>
        </p:blipFill>
        <p:spPr>
          <a:xfrm>
            <a:off x="4876920" y="3048120"/>
            <a:ext cx="40384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nd now…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he 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 the concept of positive pressure vent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 the most-commonly used ventilator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patient case and appropriate mode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on the ventilato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sitive Pressure Ventil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non-invasive ventila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facial mask with bagging, BiPAP or CP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invasive vent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via endotracheal tube or tracheost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istory of PPV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55: Andreas Vesal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pening must be attempted in the trunk of the trachea, into which a tube of reed or cane should be put; you will then blow into this, so that the lung may rise again…and the heart becomes strong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0-1950s: Polio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5 outbreak overwhelmed iro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0s: First PPV machine in Bo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gative Pressure = Norm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normal breathing phys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phragm contract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negative intrathoracic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is sucked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in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od is sucked in to return to the hear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increased venous return / increased pre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sitive Pressure = Abnorm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is pushed in by bag/mach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positive intrathoracic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ovascular eff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o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lood can’t get sucked in to 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lo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iac contractility: pressure squeezes heart during syst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oad effect predominates if hypovol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ving on to the Ventilator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1" name="Content Placeholder 7" descr="Puritan Bennet vent 840.jpg"/>
          <p:cNvPicPr/>
          <p:nvPr/>
        </p:nvPicPr>
        <p:blipFill>
          <a:blip r:embed="rId1"/>
          <a:stretch/>
        </p:blipFill>
        <p:spPr>
          <a:xfrm>
            <a:off x="2035080" y="1501920"/>
            <a:ext cx="558504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entilator Mod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me-based Ventilatory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: Assist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V: Synchronized Intermittent Mandatory Vent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ntaneous Breathing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/P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P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se 1 – 68 yo M COPD in 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D “Triage”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 of intubation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O2 u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l steroid u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: RR 40, chest “clear”, falling asleep but can do 1 word answers when aro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G: 7.25/90/&lt;48/35 on 4L ncO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nterventions, if any, will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16:30:21Z</dcterms:created>
  <dc:creator>HCMARTINEZ</dc:creator>
  <dc:description/>
  <dc:language>en-US</dc:language>
  <cp:lastModifiedBy>HCMARTINEZ</cp:lastModifiedBy>
  <dcterms:modified xsi:type="dcterms:W3CDTF">2009-06-04T23:30:47Z</dcterms:modified>
  <cp:revision>17</cp:revision>
  <dc:subject/>
  <dc:title>Positive Pressure Ventilation: The Basics</dc:title>
</cp:coreProperties>
</file>