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F09-A657-4E5C-80E3-A6A1B620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E40-C38E-425A-9154-A375E867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795-7DE1-4061-B171-E3438A82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A2C-622F-4350-A8B9-EE20164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A1CB-52D5-4E94-9B50-B4D00D30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C421-5F07-4ED2-A259-894021E1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2525-B91F-41EE-BE00-1CA19BBC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0C9-1D2E-47F9-8557-5F8F1CCD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00C-C87E-459C-9BF6-6A414251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F916-66B6-49D5-80AF-ED458C2F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B218-4B43-4B2E-B360-59F08BC0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967-9527-4838-B900-1F0D860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44DF-72B3-46FE-9FAF-62B819E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7E90-0ED7-4658-950F-8270AC7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BF1-6166-4424-9623-4CDCE6C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604-9C9E-4A92-9A8B-E89F83C0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CDE-1DD7-4881-B133-FD9C37A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F5A-7D3B-4FC2-A87C-D0C3682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BFD-8D82-47D2-B175-30990329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044-5C55-46D5-8E8D-DDC7B10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3E4-DEF2-4B4F-97FE-C1D48715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58F-2EBE-4297-8950-1FC27AE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D20-FBF1-4D3F-9696-C70118A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740-531D-494E-8580-5DA3239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F76B-88BA-4C9F-9F68-8C12DA23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BB8-AAA1-4B2F-8E9C-3EEF28189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28440"/>
            <a:ext cx="833616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Positive Pressure Ventilation: The Basic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amita Kuruvilla, M.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ritical Care Cour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Assist Control (AC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initial mode in our I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fill out vent order form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l Volume (usually 10 ml/kg ideal body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 Rate (usually 14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O2 (usually 100 % at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P (positive end expiratory pressure, usually 5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breath receives the same tidal volume 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gardless of preset r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breaths get the sam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End-Expiratory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stent: minimum pressure used to “stent” the airway to prevent alveolar collapse/atelac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P = ____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st Contro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11" descr="AC Scalar"/>
          <p:cNvPicPr/>
          <p:nvPr/>
        </p:nvPicPr>
        <p:blipFill>
          <a:blip r:embed="rId1"/>
          <a:stretch/>
        </p:blipFill>
        <p:spPr>
          <a:xfrm>
            <a:off x="2643120" y="1981080"/>
            <a:ext cx="483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2 – 68 yo M HD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t is still intubated and on A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=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to open eyes intermitt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55/28/6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, he’s overbreathing the vent; his rate is 40.  Do we sedate him mor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Mode: Synchronized Intermittent Mandatory Ventilation (SIMV)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ord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, tidal volume, RR, FiO2, PEEP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Support (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ilator breaths receive full tidal volu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 to the se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patient breaths do not get the full tidal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breaths get PEEP +/- pressur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sure Suppo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ossible in IMV and 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ra pressure above the PEEP used to provide additional inspirat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vary from 0-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9" descr="SIMV + PS + PEEP"/>
          <p:cNvPicPr/>
          <p:nvPr/>
        </p:nvPicPr>
        <p:blipFill>
          <a:blip r:embed="rId1"/>
          <a:stretch/>
        </p:blipFill>
        <p:spPr>
          <a:xfrm>
            <a:off x="1981080" y="1600200"/>
            <a:ext cx="57769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3 – 68 yo M HD#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s still on SI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is alert on his daily awakening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 is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O2 is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n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taibi, G. Ventilator Graphic Waveforms Tu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EP and PS/PE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Picture 15" descr="CPAP Scalar"/>
          <p:cNvPicPr/>
          <p:nvPr/>
        </p:nvPicPr>
        <p:blipFill>
          <a:blip r:embed="rId1"/>
          <a:stretch/>
        </p:blipFill>
        <p:spPr>
          <a:xfrm>
            <a:off x="914400" y="1295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PS + CPAP Scalar"/>
          <p:cNvPicPr/>
          <p:nvPr/>
        </p:nvPicPr>
        <p:blipFill>
          <a:blip r:embed="rId2"/>
          <a:stretch/>
        </p:blipFill>
        <p:spPr>
          <a:xfrm>
            <a:off x="4876920" y="30481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now…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concept of positive pressur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most-commonly used ventilator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atient case and appropriate mod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on the ventilat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Venti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non-invasive venti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facial mask with bagging, BiPAP or C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vasive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via endotracheal tube or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 of PP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: Andreas Vesa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pening must be attempted in the trunk of the trachea, into which a tube of reed or cane should be put; you will then blow into this, so that the lung may rise again…and the heart becomes stro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0-1950s: Polio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 outbreak overwhelmed iro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s: First PPV machine in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gative Pressure = 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ormal breathing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ega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sucked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is sucked in to return to the he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creased venous return / increased pre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itive Pressure = Abnorm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pushed in by bag/mach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positive intrathorac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vascular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lood can’t get sucked in to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lo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ontractility: pressure squeezes heart during sy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oad effect predominates if hypovol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ing on to the Ventilator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1" name="Content Placeholder 7" descr="Puritan Bennet vent 840.jpg"/>
          <p:cNvPicPr/>
          <p:nvPr/>
        </p:nvPicPr>
        <p:blipFill>
          <a:blip r:embed="rId1"/>
          <a:stretch/>
        </p:blipFill>
        <p:spPr>
          <a:xfrm>
            <a:off x="2035080" y="1501920"/>
            <a:ext cx="558504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entilator Mo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based Ventilator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: Assis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V: Synchronized Intermittent Mandatory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Breathing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/P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1 – 68 yo M COPD in 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D “Triage”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intubation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O2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l steroid u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: RR 40, chest “clear”, falling asleep but can do 1 word answers when aro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G: 7.25/90/&lt;48/35 on 4L n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ventions, if any, will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6:30:21Z</dcterms:created>
  <dc:creator>HCMARTINEZ</dc:creator>
  <dc:description/>
  <dc:language>en-US</dc:language>
  <cp:lastModifiedBy>HCMARTINEZ</cp:lastModifiedBy>
  <dcterms:modified xsi:type="dcterms:W3CDTF">2009-06-04T23:30:47Z</dcterms:modified>
  <cp:revision>17</cp:revision>
  <dc:subject/>
  <dc:title>Positive Pressure Ventilation: The Basics</dc:title>
</cp:coreProperties>
</file>