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C8CE6-DDE3-4062-A596-654992BCB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2E69B-EE99-4597-B155-F9AE0E8E4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3C819-5EBA-40DF-8CA8-6B700A8BB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BFFF7-2913-41F4-85BC-84D822D91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C42B1-4B12-44C3-8961-B8CB2AEA6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46C24-65CD-4B05-961E-B20AC792E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D0D8D-41FA-4B5E-9C4C-FE97C106F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68E0D-23E5-422C-8198-366E47795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542C4-82E9-4783-BDD1-E7AD6CC68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51A95-48B8-46FC-AC80-4B23A28F8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D9A68-C4CA-4A2F-B707-12F41AE4B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B3FBA-5987-4B9B-AC74-859F2B561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779F1-266B-455C-A56E-F739923F3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06B9A-18A9-489C-8D32-F510C09AB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1E6F2-62D9-4F8A-80D4-34476A83A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05A32-BD8F-4958-8E54-4FF66BD09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E2DE0-A765-4E36-9F14-6178F85E4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44EB3-49ED-4F79-8FE0-BC55FA8EC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F69CC-8C76-452F-A7B3-1212B975B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9A118-DFC6-40DA-8790-D0E3A3A77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2D421-9A19-42D8-830D-09A15269C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6A3E7-0D16-4A42-9C90-5A2146FE5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B906F-2819-4F5F-B631-C623FD966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534B3-CBBE-4508-93DF-37063EF8A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320" cy="6858000"/>
              <a:chOff x="41400" y="-4680"/>
              <a:chExt cx="1012320" cy="685800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62640" y="-4680"/>
                <a:ext cx="979560" cy="6831720"/>
              </a:xfrm>
              <a:custGeom>
                <a:avLst/>
                <a:gdLst>
                  <a:gd name="textAreaLeft" fmla="*/ -360 w 979560"/>
                  <a:gd name="textAreaRight" fmla="*/ 979560 w 979560"/>
                  <a:gd name="textAreaTop" fmla="*/ 0 h 6831720"/>
                  <a:gd name="textAreaBottom" fmla="*/ 6832080 h 6831720"/>
                </a:gdLst>
                <a:ahLst/>
                <a:rect l="textAreaLeft" t="textAreaTop" r="textAreaRight" b="textAreaBottom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58320" y="1697040"/>
                <a:ext cx="979920" cy="500760"/>
              </a:xfrm>
              <a:custGeom>
                <a:avLst/>
                <a:gdLst>
                  <a:gd name="textAreaLeft" fmla="*/ 360 w 979920"/>
                  <a:gd name="textAreaRight" fmla="*/ 980640 w 979920"/>
                  <a:gd name="textAreaTop" fmla="*/ 0 h 500760"/>
                  <a:gd name="textAreaBottom" fmla="*/ 501120 h 5007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63000" y="1283760"/>
                <a:ext cx="979560" cy="502920"/>
              </a:xfrm>
              <a:custGeom>
                <a:avLst/>
                <a:gdLst>
                  <a:gd name="textAreaLeft" fmla="*/ -360 w 979560"/>
                  <a:gd name="textAreaRight" fmla="*/ 979560 w 979560"/>
                  <a:gd name="textAreaTop" fmla="*/ 0 h 502920"/>
                  <a:gd name="textAreaBottom" fmla="*/ 503280 h 5029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63000" y="148320"/>
                <a:ext cx="979560" cy="302760"/>
              </a:xfrm>
              <a:custGeom>
                <a:avLst/>
                <a:gdLst>
                  <a:gd name="textAreaLeft" fmla="*/ -360 w 979560"/>
                  <a:gd name="textAreaRight" fmla="*/ 979560 w 979560"/>
                  <a:gd name="textAreaTop" fmla="*/ 0 h 302760"/>
                  <a:gd name="textAreaBottom" fmla="*/ 303120 h 30276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58320" y="989640"/>
                <a:ext cx="979920" cy="348120"/>
              </a:xfrm>
              <a:custGeom>
                <a:avLst/>
                <a:gdLst>
                  <a:gd name="textAreaLeft" fmla="*/ 360 w 979920"/>
                  <a:gd name="textAreaRight" fmla="*/ 980640 w 979920"/>
                  <a:gd name="textAreaTop" fmla="*/ 0 h 348120"/>
                  <a:gd name="textAreaBottom" fmla="*/ 348480 h 3481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60120" y="680400"/>
                <a:ext cx="979920" cy="432720"/>
              </a:xfrm>
              <a:custGeom>
                <a:avLst/>
                <a:gdLst>
                  <a:gd name="textAreaLeft" fmla="*/ 360 w 979920"/>
                  <a:gd name="textAreaRight" fmla="*/ 980640 w 979920"/>
                  <a:gd name="textAreaTop" fmla="*/ 0 h 432720"/>
                  <a:gd name="textAreaBottom" fmla="*/ 433080 h 43272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61560" y="372600"/>
                <a:ext cx="992160" cy="375480"/>
              </a:xfrm>
              <a:custGeom>
                <a:avLst/>
                <a:gdLst>
                  <a:gd name="textAreaLeft" fmla="*/ 360 w 992160"/>
                  <a:gd name="textAreaRight" fmla="*/ 992880 w 992160"/>
                  <a:gd name="textAreaTop" fmla="*/ 0 h 375480"/>
                  <a:gd name="textAreaBottom" fmla="*/ 375840 h 375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45720" y="3933720"/>
                <a:ext cx="979920" cy="499320"/>
              </a:xfrm>
              <a:custGeom>
                <a:avLst/>
                <a:gdLst>
                  <a:gd name="textAreaLeft" fmla="*/ 360 w 979920"/>
                  <a:gd name="textAreaRight" fmla="*/ 980640 w 979920"/>
                  <a:gd name="textAreaTop" fmla="*/ 0 h 499320"/>
                  <a:gd name="textAreaBottom" fmla="*/ 499680 h 4993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50400" y="3536640"/>
                <a:ext cx="979920" cy="500760"/>
              </a:xfrm>
              <a:custGeom>
                <a:avLst/>
                <a:gdLst>
                  <a:gd name="textAreaLeft" fmla="*/ 360 w 979920"/>
                  <a:gd name="textAreaRight" fmla="*/ 980640 w 979920"/>
                  <a:gd name="textAreaTop" fmla="*/ 0 h 500760"/>
                  <a:gd name="textAreaBottom" fmla="*/ 501120 h 5007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50400" y="2397600"/>
                <a:ext cx="979920" cy="304200"/>
              </a:xfrm>
              <a:custGeom>
                <a:avLst/>
                <a:gdLst>
                  <a:gd name="textAreaLeft" fmla="*/ 360 w 979920"/>
                  <a:gd name="textAreaRight" fmla="*/ 980640 w 97992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50400" y="3231000"/>
                <a:ext cx="979920" cy="347040"/>
              </a:xfrm>
              <a:custGeom>
                <a:avLst/>
                <a:gdLst>
                  <a:gd name="textAreaLeft" fmla="*/ 360 w 979920"/>
                  <a:gd name="textAreaRight" fmla="*/ 980640 w 979920"/>
                  <a:gd name="textAreaTop" fmla="*/ 0 h 347040"/>
                  <a:gd name="textAreaBottom" fmla="*/ 347400 h 34704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50400" y="2931480"/>
                <a:ext cx="979920" cy="427680"/>
              </a:xfrm>
              <a:custGeom>
                <a:avLst/>
                <a:gdLst>
                  <a:gd name="textAreaLeft" fmla="*/ 360 w 979920"/>
                  <a:gd name="textAreaRight" fmla="*/ 980640 w 97992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50400" y="2616480"/>
                <a:ext cx="992160" cy="375840"/>
              </a:xfrm>
              <a:custGeom>
                <a:avLst/>
                <a:gdLst>
                  <a:gd name="textAreaLeft" fmla="*/ 360 w 992160"/>
                  <a:gd name="textAreaRight" fmla="*/ 992880 w 992160"/>
                  <a:gd name="textAreaTop" fmla="*/ 0 h 375840"/>
                  <a:gd name="textAreaBottom" fmla="*/ 376200 h 37584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48960" y="4966200"/>
                <a:ext cx="979920" cy="499320"/>
              </a:xfrm>
              <a:custGeom>
                <a:avLst/>
                <a:gdLst>
                  <a:gd name="textAreaLeft" fmla="*/ 360 w 979920"/>
                  <a:gd name="textAreaRight" fmla="*/ 980640 w 979920"/>
                  <a:gd name="textAreaTop" fmla="*/ 0 h 499320"/>
                  <a:gd name="textAreaBottom" fmla="*/ 499680 h 4993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53640" y="4552200"/>
                <a:ext cx="979920" cy="502920"/>
              </a:xfrm>
              <a:custGeom>
                <a:avLst/>
                <a:gdLst>
                  <a:gd name="textAreaLeft" fmla="*/ 360 w 979920"/>
                  <a:gd name="textAreaRight" fmla="*/ 980640 w 979920"/>
                  <a:gd name="textAreaTop" fmla="*/ 0 h 502920"/>
                  <a:gd name="textAreaBottom" fmla="*/ 503280 h 5029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45720" y="5659560"/>
                <a:ext cx="979920" cy="302760"/>
              </a:xfrm>
              <a:custGeom>
                <a:avLst/>
                <a:gdLst>
                  <a:gd name="textAreaLeft" fmla="*/ 360 w 979920"/>
                  <a:gd name="textAreaRight" fmla="*/ 980640 w 979920"/>
                  <a:gd name="textAreaTop" fmla="*/ 0 h 302760"/>
                  <a:gd name="textAreaBottom" fmla="*/ 303120 h 30276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1440" y="6189840"/>
                <a:ext cx="345960" cy="981000"/>
              </a:xfrm>
              <a:custGeom>
                <a:avLst/>
                <a:gdLst>
                  <a:gd name="textAreaLeft" fmla="*/ 0 w 345960"/>
                  <a:gd name="textAreaRight" fmla="*/ 345960 w 345960"/>
                  <a:gd name="textAreaTop" fmla="*/ 0 h 981000"/>
                  <a:gd name="textAreaBottom" fmla="*/ 981360 h 981000"/>
                </a:gdLst>
                <a:ahLst/>
                <a:rect l="textAreaLeft" t="textAreaTop" r="textAreaRight" b="textAreaBottom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1400" y="6194520"/>
                <a:ext cx="979920" cy="429120"/>
              </a:xfrm>
              <a:custGeom>
                <a:avLst/>
                <a:gdLst>
                  <a:gd name="textAreaLeft" fmla="*/ 360 w 979920"/>
                  <a:gd name="textAreaRight" fmla="*/ 980640 w 979920"/>
                  <a:gd name="textAreaTop" fmla="*/ 0 h 429120"/>
                  <a:gd name="textAreaBottom" fmla="*/ 429480 h 42912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1400" y="5884920"/>
                <a:ext cx="992160" cy="375840"/>
              </a:xfrm>
              <a:custGeom>
                <a:avLst/>
                <a:gdLst>
                  <a:gd name="textAreaLeft" fmla="*/ 360 w 992160"/>
                  <a:gd name="textAreaRight" fmla="*/ 992880 w 992160"/>
                  <a:gd name="textAreaTop" fmla="*/ 0 h 375840"/>
                  <a:gd name="textAreaBottom" fmla="*/ 376200 h 37584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>
                <a:gd name="textAreaLeft" fmla="*/ 360 w 6858000"/>
                <a:gd name="textAreaRight" fmla="*/ 6858720 w 6858000"/>
                <a:gd name="textAreaTop" fmla="*/ 0 h 654120"/>
                <a:gd name="textAreaBottom" fmla="*/ 654480 h 654120"/>
              </a:gdLst>
              <a:ahLst/>
              <a:rect l="textAreaLeft" t="textAreaTop" r="textAreaRight" b="textAreaBottom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>
                <a:gd name="textAreaLeft" fmla="*/ -360 w 6856200"/>
                <a:gd name="textAreaRight" fmla="*/ 6856200 w 6856200"/>
                <a:gd name="textAreaTop" fmla="*/ 0 h 300240"/>
                <a:gd name="textAreaBottom" fmla="*/ 300600 h 300240"/>
              </a:gdLst>
              <a:ahLst/>
              <a:rect l="textAreaLeft" t="textAreaTop" r="textAreaRight" b="textAreaBottom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EA4FD-3F02-48E4-8B95-F90BB5045C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Group 3"/>
            <p:cNvGrpSpPr/>
            <p:nvPr/>
          </p:nvGrpSpPr>
          <p:grpSpPr>
            <a:xfrm>
              <a:off x="-3240" y="2479680"/>
              <a:ext cx="9146880" cy="1015560"/>
              <a:chOff x="-3240" y="2479680"/>
              <a:chExt cx="9146880" cy="101556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88880" y="-1575000"/>
                <a:ext cx="990720" cy="91188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9118800"/>
                  <a:gd name="textAreaBottom" fmla="*/ 9119160 h 9118800"/>
                </a:gdLst>
                <a:ahLst/>
                <a:rect l="textAreaLeft" t="textAreaTop" r="textAreaRight" b="textAreaBottom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50880" y="2650320"/>
                <a:ext cx="990720" cy="6681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8160"/>
                  <a:gd name="textAreaBottom" fmla="*/ 668520 h 6681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89800" y="2649600"/>
                <a:ext cx="990720" cy="6696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9600"/>
                  <a:gd name="textAreaBottom" fmla="*/ 669960 h 6696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1120" y="2785320"/>
                <a:ext cx="990720" cy="40428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04280"/>
                  <a:gd name="textAreaBottom" fmla="*/ 404640 h 40428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4160" y="2751120"/>
                <a:ext cx="990720" cy="4662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66200"/>
                  <a:gd name="textAreaBottom" fmla="*/ 466560 h 4662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6600" y="2697120"/>
                <a:ext cx="990720" cy="5742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574200"/>
                  <a:gd name="textAreaBottom" fmla="*/ 574560 h 57420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92280" y="2743560"/>
                <a:ext cx="1003320" cy="49968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499680"/>
                  <a:gd name="textAreaBottom" fmla="*/ 500040 h 4996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54240" y="2643840"/>
                <a:ext cx="990360" cy="66780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667800"/>
                  <a:gd name="textAreaBottom" fmla="*/ 668160 h 6678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3520" y="2641680"/>
                <a:ext cx="990720" cy="6696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9600"/>
                  <a:gd name="textAreaBottom" fmla="*/ 669960 h 6696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8080" y="2777400"/>
                <a:ext cx="990720" cy="40464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04640"/>
                  <a:gd name="textAreaBottom" fmla="*/ 405000 h 40464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098960" y="2743200"/>
                <a:ext cx="990720" cy="4662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66200"/>
                  <a:gd name="textAreaBottom" fmla="*/ 466560 h 4662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4280" y="2691360"/>
                <a:ext cx="990360" cy="57240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572400"/>
                  <a:gd name="textAreaBottom" fmla="*/ 572760 h 57240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3120" y="2731680"/>
                <a:ext cx="1003320" cy="50112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501120"/>
                  <a:gd name="textAreaBottom" fmla="*/ 501480 h 50112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79760" y="2650320"/>
                <a:ext cx="990720" cy="6681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8160"/>
                  <a:gd name="textAreaBottom" fmla="*/ 668520 h 6681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18680" y="2649600"/>
                <a:ext cx="990720" cy="6696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9600"/>
                  <a:gd name="textAreaBottom" fmla="*/ 669960 h 6696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76240" y="2777400"/>
                <a:ext cx="990720" cy="40428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04280"/>
                  <a:gd name="textAreaBottom" fmla="*/ 404640 h 40428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240" y="2479680"/>
                <a:ext cx="461520" cy="992160"/>
              </a:xfrm>
              <a:custGeom>
                <a:avLst/>
                <a:gdLst>
                  <a:gd name="textAreaLeft" fmla="*/ 360 w 461520"/>
                  <a:gd name="textAreaRight" fmla="*/ 462240 w 461520"/>
                  <a:gd name="textAreaTop" fmla="*/ 0 h 992160"/>
                  <a:gd name="textAreaBottom" fmla="*/ 992520 h 992160"/>
                </a:gdLst>
                <a:ahLst/>
                <a:rect l="textAreaLeft" t="textAreaTop" r="textAreaRight" b="textAreaBottom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82440" y="2691360"/>
                <a:ext cx="990360" cy="57276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572760"/>
                  <a:gd name="textAreaBottom" fmla="*/ 573120 h 57276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1280" y="2731680"/>
                <a:ext cx="1003320" cy="50148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501480"/>
                  <a:gd name="textAreaBottom" fmla="*/ 501840 h 501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5800" cy="654120"/>
            </a:xfrm>
            <a:custGeom>
              <a:avLst/>
              <a:gdLst>
                <a:gd name="textAreaLeft" fmla="*/ -360 w 9145800"/>
                <a:gd name="textAreaRight" fmla="*/ 9145800 w 9145800"/>
                <a:gd name="textAreaTop" fmla="*/ 0 h 654120"/>
                <a:gd name="textAreaBottom" fmla="*/ 654480 h 654120"/>
              </a:gdLst>
              <a:ahLst/>
              <a:rect l="textAreaLeft" t="textAreaTop" r="textAreaRight" b="textAreaBottom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1840"/>
              <a:ext cx="9144360" cy="300240"/>
            </a:xfrm>
            <a:custGeom>
              <a:avLst/>
              <a:gdLst>
                <a:gd name="textAreaLeft" fmla="*/ -360 w 9144360"/>
                <a:gd name="textAreaRight" fmla="*/ 9144360 w 9144360"/>
                <a:gd name="textAreaTop" fmla="*/ 0 h 300240"/>
                <a:gd name="textAreaBottom" fmla="*/ 300600 h 300240"/>
              </a:gdLst>
              <a:ahLst/>
              <a:rect l="textAreaLeft" t="textAreaTop" r="textAreaRight" b="textAreaBottom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9BEE4-DBB8-4543-A166-F1B3E39583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480" y="928440"/>
            <a:ext cx="8336160" cy="1555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66"/>
                </a:solidFill>
                <a:latin typeface="Times New Roman"/>
              </a:rPr>
              <a:t>Positive Pressure Ventilation: The Basics</a:t>
            </a: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Pramita Kuruvilla, M.D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Critical Care Cours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June 2009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66"/>
                </a:solidFill>
                <a:latin typeface="Times New Roman"/>
              </a:rPr>
              <a:t>Mode: Assist Control (AC)</a:t>
            </a:r>
            <a:endParaRPr b="0" lang="en-US" sz="4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st common initial mode in our IC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must fill out vent order form wi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dal Volume (usually 10 ml/kg ideal body weigh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 Rate (usually 14-1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O2 (usually 100 % at firs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EP (positive end expiratory pressure, usually 5c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ry breath receives the same tidal volume (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regardless of preset rate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tra breaths get the same tidal volu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EEP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itive End-Expiratory Press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ir stent: minimum pressure used to “stent” the airway to prevent alveolar collapse/atelacta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EP = ____?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ssist Control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51" name="Picture 11" descr="AC Scalar"/>
          <p:cNvPicPr/>
          <p:nvPr/>
        </p:nvPicPr>
        <p:blipFill>
          <a:blip r:embed="rId1"/>
          <a:stretch/>
        </p:blipFill>
        <p:spPr>
          <a:xfrm>
            <a:off x="2643120" y="1981080"/>
            <a:ext cx="48322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ase 2 – 68 yo M HD#2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t is still intubated and on AC m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O2 = 6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ing to open eyes intermittent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G: 7.55/28/65/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r, he’s overbreathing the vent; his rate is 40.  Do we sedate him more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nterventions, if any, will you d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66"/>
                </a:solidFill>
                <a:latin typeface="Times New Roman"/>
              </a:rPr>
              <a:t>Mode: Synchronized Intermittent Mandatory Ventilation (SIMV)</a:t>
            </a:r>
            <a:endParaRPr b="0" lang="en-US" sz="4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 must order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, tidal volume, RR, FiO2, PEEP, 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ssure Support (P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ntilator breaths receive full tidal volum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onl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up to the set 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ra patient breaths do not get the full tidal volu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ra breaths get PEEP +/- pressure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ressure Suppor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ly possible in IMV and spontaneous breathing mo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extra pressure above the PEEP used to provide additional inspiratory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vary from 0-25 c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SIMV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59" name="Picture 9" descr="SIMV + PS + PEEP"/>
          <p:cNvPicPr/>
          <p:nvPr/>
        </p:nvPicPr>
        <p:blipFill>
          <a:blip r:embed="rId1"/>
          <a:stretch/>
        </p:blipFill>
        <p:spPr>
          <a:xfrm>
            <a:off x="1981080" y="1600200"/>
            <a:ext cx="5776920" cy="437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ase 3 – 68 yo M HD#5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tient is still on SIM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 is alert on his daily awakening tr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llows comm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R is 2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O2 is 3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nterventions, in any, will you d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Footer Placeholder 2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otaibi, G. Ventilator Graphic Waveforms Tutor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EEP and PS/PEEP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64" name="Picture 15" descr="CPAP Scalar"/>
          <p:cNvPicPr/>
          <p:nvPr/>
        </p:nvPicPr>
        <p:blipFill>
          <a:blip r:embed="rId1"/>
          <a:stretch/>
        </p:blipFill>
        <p:spPr>
          <a:xfrm>
            <a:off x="914400" y="1295280"/>
            <a:ext cx="3962520" cy="32767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8" descr="PS + CPAP Scalar"/>
          <p:cNvPicPr/>
          <p:nvPr/>
        </p:nvPicPr>
        <p:blipFill>
          <a:blip r:embed="rId2"/>
          <a:stretch/>
        </p:blipFill>
        <p:spPr>
          <a:xfrm>
            <a:off x="4876920" y="3048120"/>
            <a:ext cx="4038480" cy="32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nd now…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the 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Goa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e the concept of positive pressure venti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e the most-commonly used ventilator mo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cuss patient case and appropriate mode sel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actice on the ventilator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ositive Pressure Ventila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ludes non-invasive ventilation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.g. facial mask with bagging, BiPAP or CP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invasive venti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.g. via endotracheal tube or tracheostom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History of PPV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55: Andreas Vesali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 opening must be attempted in the trunk of the trachea, into which a tube of reed or cane should be put; you will then blow into this, so that the lung may rise again…and the heart becomes strong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30-1950s: Polio Epidem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55 outbreak overwhelmed iron lu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50s: First PPV machine in Bost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Negative Pressure = Normal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ur normal breathing physi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aphragm contract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negative intrathoracic press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ir is sucked i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inspi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lood is sucked in to return to the heart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increased venous return / increased prelo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ositive Pressure = Abnormal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ir is pushed in by bag/machin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positive intrathoracic press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rdiovascular effec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↓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loa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blood can’t get sucked in to he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↓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fterloa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↑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diac contractility: pressure squeezes heart during systo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load effect predominates if hypovolem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oving on to the Ventilator…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41" name="Content Placeholder 7" descr="Puritan Bennet vent 840.jpg"/>
          <p:cNvPicPr/>
          <p:nvPr/>
        </p:nvPicPr>
        <p:blipFill>
          <a:blip r:embed="rId1"/>
          <a:stretch/>
        </p:blipFill>
        <p:spPr>
          <a:xfrm>
            <a:off x="2035080" y="1501920"/>
            <a:ext cx="5585040" cy="48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Ventilator Mod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olume-based Ventilatory Mo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: Assist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MV: Synchronized Intermittent Mandatory Venti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ontaneous Breathing Mo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S/PEE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P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ase 1 – 68 yo M COPD in ER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PD “Triage” ques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story of intubation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me O2 use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al steroid use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: RR 40, chest “clear”, falling asleep but can do 1 word answers when aro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G: 7.25/90/&lt;48/35 on 4L ncO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nterventions, if any, will you d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5T16:30:21Z</dcterms:created>
  <dc:creator>HCMARTINEZ</dc:creator>
  <dc:description/>
  <dc:language>en-US</dc:language>
  <cp:lastModifiedBy>HCMARTINEZ</cp:lastModifiedBy>
  <dcterms:modified xsi:type="dcterms:W3CDTF">2009-06-04T23:30:47Z</dcterms:modified>
  <cp:revision>17</cp:revision>
  <dc:subject/>
  <dc:title>Positive Pressure Ventilation: The Basics</dc:title>
</cp:coreProperties>
</file>