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0E41-C764-4099-8D72-AED5C7E65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DBBB-6EE9-45FD-9186-0518DB445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411-EBA2-4AE1-A946-71DDB90B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250-FEB1-4875-8D71-0C0BBF19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F00-706C-43E5-A8B1-78A67541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F54-7137-4290-B589-4504FFDB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BEFD-31EC-4472-ACF7-8BDF41A9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7832-570F-476C-ABF1-AD8EE945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44C5-EC44-4856-A585-7D9CB260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FA66-71D1-4E90-AAAD-AEC4F752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E6FF-7E15-4BEF-95CC-48091778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63B2-AB11-47B9-ACF2-C1D03B9D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EA38-9AE0-45EA-AD69-FB371DBC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E2B-159A-4AE7-B1F6-3731BD67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9BF0-6554-43AB-B477-74DA76D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4668-1B88-4E49-8423-7C6199CB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5BB2-290F-4FB5-A12F-658C408B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587A-D652-41D7-A1F4-2ED367DE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0989-D64D-45C2-9F92-F1EE8421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DBA5-1223-48BC-B278-2AC9D5DB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1941-3064-4FC1-A6EE-F3CAB024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2492-B0C2-434C-8200-EC0B9A96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EE7A-5930-41B6-874E-BF546D63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D726-37A7-482A-B141-C9789FA5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25E-60AC-4D2C-B1DD-2B8C323C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41A2-7493-4F82-A256-B1B5BCA8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E7C1-A607-4406-BBB5-17D0DA43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E09C-6FE6-4F91-85DC-C2CB1D53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A24E-3C44-46DC-9A06-C0A71C5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4D27-725C-4D1B-987C-0B4B30A0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707F-DF8F-4A38-857D-67596138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1342-02DC-4988-AD9D-2F2044BF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40DF-BA37-4630-800F-32D0E97C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015B8-395C-43FB-938A-E73F88DE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8367-5030-45AF-A321-1A127FEE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1F8-8540-4855-9C58-68D5AD48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0AB3-9AD4-4251-8C22-C03867CB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A3AB-E6A3-40F3-BB59-03BB2A9D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4623-30DA-49BC-ABDB-D7136D43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0F0A6-F873-4AC0-9DD6-B0143AB9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9F583-855F-43CF-BEDA-F2166EE9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560D8-ECD6-4BB5-8FFD-315E9A25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46AF-1FC2-4197-AD53-1E983CB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F9D25-3EC7-4FA3-B777-CA53FF57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DF74-2371-4CC6-9562-29D34736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8D8BF-3420-4DEB-A553-AB3652DD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AF4-69D2-434E-8C77-499BA2AF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45275-49C1-4160-B248-3AD23CCE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65896-4D78-4423-B750-C3168F98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FB38-1C3E-42F9-B645-35E65779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3E25-6BC8-420A-BBDA-0C534B3E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531D6-9A02-40E9-AF27-0135024D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ED2DA-F56B-4BA3-B105-A49AA76B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A8110-2B8B-4876-BFF6-E2CBEE8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2C0BC-C538-4524-8E26-791F1B21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11D0-AC99-4056-9770-2953C03A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C35C-989A-4926-AFBB-7E953891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31B-5FB3-41D6-9B37-990854DE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981B-CA9F-4F6E-9013-67E87A99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60B-0CCC-42C4-82FA-0B1DD12D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9BD-E73B-4ECD-9CC4-04E02273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3C5-81E8-4D3E-A48F-A70BDD7E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0B13-C98B-4A4E-84C0-D8C79EC99AAE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62B4-F9F5-4BDE-AC3F-41139BFA064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0C91-B8C6-46F4-A948-07659B209D4C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0E86-74B3-4B70-8B01-6992EB9EDF3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0AD1-1D15-46BC-AE20-CCB33BCAFF00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530C-3B3F-4829-AC94-96BAF0552D7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D382-4924-4719-B64E-8858E352FFAE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E76F-4507-439A-9EF4-2E2F84C73BD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F0EE-DAB5-4304-8615-64D6F93B118A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B931-EA83-4C33-9286-DD075F5BBF5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Rockwell Condensed"/>
              </a:rPr>
              <a:t>Critical Care Training for Primary Care Physicia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61760" y="4876560"/>
            <a:ext cx="7732440" cy="1066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Pramita Kuruvilla, 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Critical Care Cou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June 2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2004 FOCCUS: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F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aming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O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ptions for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itical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are in the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U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nited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S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tat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askforce of the SCCM, ACCP, ATS, AACC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accelerated demand for crit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Baby boo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burden of chronic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public demand fo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decreasing numbers of CCU-trained fe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FOCCUS Find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Only 37% of CCU patients cared for by CCU-trained physic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63% of CCU patients are cared for by PRIMARY CARE M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Critical Care delivery, which has evolved over the last three decades, requires major reorganization, innovative technology, and more effective use of current professional talent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is why primary care physicians need CCU training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Course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Please arrive from and return to clinical duties promptly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3-4:30: Awesome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4:30-6: Sublime Workshops (2 group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628560" indent="-14580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A: Central Lines/US: 4A Conf Rm 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B: Vents: Noon Conf R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Next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Fantastic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Pimpalicious Megacode on Wednesday ev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Course Eval: if you do not fill this out, you will be tarred and feath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3:38:19Z</dcterms:created>
  <dc:creator>pkuruvil</dc:creator>
  <dc:description/>
  <dc:language>en-US</dc:language>
  <cp:lastModifiedBy>HCMARTINEZ</cp:lastModifiedBy>
  <dcterms:modified xsi:type="dcterms:W3CDTF">2009-06-02T22:12:59Z</dcterms:modified>
  <cp:revision>7</cp:revision>
  <dc:subject/>
  <dc:title>Critical Care Training for Primary Care Physicians</dc:title>
</cp:coreProperties>
</file>