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C3B-67C2-44F6-9557-5B1AB219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C031-0CC3-4E65-B123-15C36638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A01-85F5-4548-BE3E-07D8A1A1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E1E-47B7-4D39-BA2A-DA2A851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8FCE-E47D-48CB-8168-98E774D7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39D-25B9-46FD-8BB2-0E962DF7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BB6F-C956-43E3-A933-D7CD8CED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9069-80F4-42F4-BE06-95C87CED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C7C1-7BF1-49CA-91AB-58E36925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C6CE-32E9-4823-99BF-5D93413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5A8E-5323-4A4E-A38E-BABEA02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32BC-9F8D-48E8-928B-7643FAA9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D33F-47C9-4023-837C-FACC9EB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2CC-3A18-43BB-95F1-ACA6B4FA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2AAF-FCAD-4D06-85EA-CE1F0735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F08F-FE8D-487D-8C7A-66590B76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58CE-7EB0-4E97-9BD7-B4C3193E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6F7-E85C-4927-BDC4-A94C6573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29E-C153-4D20-AB5F-C0724327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547B-48FC-40FA-A83C-15E97B42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2D72-3D59-4E0C-8758-2C977DBC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E790-D250-48D8-A5A5-AD6E3CA7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F862-D40D-460F-9416-A7A22375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71C3B-EB83-450D-AA2F-CB8A2BF6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164-2DF9-4A95-BB1B-4CFDF0E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DB8E-6B7B-479D-A289-34B087CE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9354-AC8F-4A60-A27E-D38D0B2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9959-1D5D-4DCA-B32A-CC8DC4C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AEFD-9EED-42A5-8A56-4DDC83E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3582-5F78-4888-926E-31345179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961A-CD4B-4259-B4D8-196139FE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5E51C-3717-46D9-8D0C-885B34BC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62AF-2F24-4DE5-8721-F8282C91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0452-4D40-4390-8F0C-1620166E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65CA-7C6F-4142-9016-48E2DC3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176-BD3E-4C79-92E7-EA5B50AE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CB30-C3A4-40EB-BC7B-FAF3C3A3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240A-87AC-4EC6-BFEC-C5DEA42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71DF-8290-4DD0-9984-458847CD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E2207-31BD-440F-8250-2571601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CB95-3666-4A49-A8C5-0C0AFD0F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ABA9-7108-4E48-8D94-1A4A125E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BE61-D429-479C-A617-4D61A693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A818-B112-421C-9C97-DA33BC6A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2364-53B5-4820-B40A-B2DC062E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F1B3C-3205-4B0A-9609-800D7653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69E-FF08-4909-BDFD-3C2FF1A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BAE9D-EF6E-4CCF-8339-E681C081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920D-288C-4E84-8E1C-4AD4B36F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A61A-E42D-42A1-BB69-2196F15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9F646-7E1D-4430-A673-5A32026E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B68F-E2E7-42CC-9613-17BA0659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C478-A684-4D58-8371-4401869B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2966-77B8-4514-88AB-FB5EBC16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A05BD-7D67-460B-A95F-BF303AC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824C5-2AC8-4FE8-A56E-B6D4B32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4386-AA85-4F1E-A6A7-C3846EC3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4F1-D3D6-44F8-9966-F8E65830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F045-C0A1-427E-A0EA-89E47FC5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C86-C4D9-4935-8EB7-CF31C20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49B-6A6C-4A9A-AAF2-FD47894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8F5-85B4-4398-8A03-81F9C4C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DC4-5D6A-4AC7-9500-D2C51AB62E38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AF1-EAFB-4825-A619-7765D7CE432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BFD-C2BD-4591-9FC8-0A7BF4B46C67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440-3CFA-4817-BD5B-3EBCF04231D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A44-8BA7-4B85-8660-41143E522905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09D-F06D-4D7A-8FBB-B988F2875AC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0146-4D40-4A48-A259-EE32478670E7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5B94-F0DE-4A0F-B7A2-4F467AF10A7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409-3FB7-454F-BA5E-13083E4E1E00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6ED7-0A72-4B80-9CFC-B27F5F7B9E2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Rockwell Condensed"/>
              </a:rPr>
              <a:t>Critical Care Training for Primary Care Physicia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1760" y="4876560"/>
            <a:ext cx="7732440" cy="1066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Pramita Kuruvilla, M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Critical Care Cou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Rockwell Condensed"/>
              </a:rPr>
              <a:t>June 2,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2004 FOCCUS: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F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aming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O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ptions for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ritical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C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are in the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U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nited </a:t>
            </a:r>
            <a:r>
              <a:rPr b="1" lang="en-US" sz="3200" spc="-1" strike="noStrike" u="sng">
                <a:solidFill>
                  <a:srgbClr val="ff8d3e"/>
                </a:solidFill>
                <a:uFillTx/>
                <a:latin typeface="Rockwell Condensed"/>
              </a:rPr>
              <a:t>S</a:t>
            </a:r>
            <a:r>
              <a:rPr b="1" lang="en-US" sz="3200" spc="-1" strike="noStrike">
                <a:solidFill>
                  <a:srgbClr val="ff8d3e"/>
                </a:solidFill>
                <a:latin typeface="Rockwell Condensed"/>
              </a:rPr>
              <a:t>tate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askforce of the SCCM, ACCP, ATS, AACC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accelerated demand for crit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Baby boo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burden of chronic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Increasing public demand fo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Found decreasing numbers of CCU-trained fe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FOCCUS Findi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Only 37% of CCU patients cared for by CCU-trained physic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63% of CCU patients are cared for by PRIMARY CARE M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Critical Care delivery, which has evolved over the last three decades, requires major reorganization, innovative technology, and more effective use of current professional talent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is why primary care physicians need CCU train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Rockwell Condensed"/>
              </a:rPr>
              <a:t>Course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Please arrive from and return to clinical duties promptly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This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3-4:30: Awesome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4:30-6: Sublime Workshops (2 grou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28560" indent="-145800">
              <a:lnSpc>
                <a:spcPct val="10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A: Central Lines/US: 4A Conf Rm 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Rockwell Condensed"/>
              </a:rPr>
              <a:t>B: Vents: Noon Conf R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Next we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Fantastic Le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Pimpalicious Megacode on Wednesday ev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37760" indent="-159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Condensed"/>
              </a:rPr>
              <a:t>Course Eval: if you do not fill this out, you will be tarred and feath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3:38:19Z</dcterms:created>
  <dc:creator>pkuruvil</dc:creator>
  <dc:description/>
  <dc:language>en-US</dc:language>
  <cp:lastModifiedBy>HCMARTINEZ</cp:lastModifiedBy>
  <dcterms:modified xsi:type="dcterms:W3CDTF">2009-06-02T22:12:59Z</dcterms:modified>
  <cp:revision>7</cp:revision>
  <dc:subject/>
  <dc:title>Critical Care Training for Primary Care Physicians</dc:title>
</cp:coreProperties>
</file>