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/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62DB-3521-4828-87C9-A61C418DA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4CB3-28FC-4AC8-A2EF-CCDA5DED2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30E5-FCF5-4F9D-8F2F-DE29E98A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9E13-16DC-4EFE-B5B8-A17F2574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D0B4-308E-4861-898C-F98C0FAC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BDB2-FC31-4065-9700-879F90C5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02BE-63DF-45BA-8F0B-54806DD1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CF47-B309-4F47-91C1-9DCDFFEA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B486-A44C-4AF1-B4AC-4E04A3EA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C85E-6AAF-48A9-959D-E08B0758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00AE-F864-4E31-A861-1B35952B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3625-5350-457A-9C03-B2A72C57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1B2F-C540-480F-9343-5E2327AE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5646-31D3-458F-8817-892E61D2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D660-8289-458E-98B2-4D87FA6F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082D-3B67-4F28-AEDA-5C0E23B5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E16B-C40A-4336-A71B-994FB09D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D1C0-10DE-4D5C-A964-6ADC9BB7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F1B5-5D09-4564-B100-4F0ECE78D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05168-22C6-4CD3-B8AC-675C8DC6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6A3C9-6B00-4186-9A13-A8DFFAE7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A16F7-2104-4E6D-B6D7-4D13FEC8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F3615-8764-4BA5-B8AE-A4A3F853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73B0A-F72F-4343-A996-C1B65DE7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84E-AD0C-452F-9CAC-037E40A6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1DC5F-F492-4B17-AC81-9859B62B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C0F29-3735-45B2-8372-5BCD27A0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3CB83-3B1E-4EAC-B8AF-C61DEB26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5DF7A-E606-4FD7-BCC0-E2D958EA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E1814-7827-45C0-8410-628C695E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F69DE-115E-4F2C-BBDF-40A3DAF4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34593-62E8-4818-8C25-6CF21E52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6842D-D131-4484-AB56-579399E7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16D46-232D-4FF8-93C0-61854B47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09741-F496-4A0B-AB30-A45E737F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B9C6-8215-4B9B-8B8D-005D81BF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4BDBC-2B5C-4856-A1F8-A344164C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CAA08-7BC6-4241-979C-EC569668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E5CAB-7D0F-46F6-8D55-59E0125A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E5A0C-97FE-407F-B05C-A7B1CD5B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7A842-4B3D-45E5-AB0E-350C83DE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3A824-D6C2-4D62-88F6-DC2A60F5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DC3B9-1CC0-4284-99AE-3095F47C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85F7C-BF1F-4755-9874-CAF6B111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A82BD-962F-4C43-8B99-6B25E383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C5EC1-5763-477A-B0FA-192411A6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F2FD-E671-4847-ABC9-F94ABB2D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85619-73BE-4AA5-ADE6-7B5211B2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C3F2B-5A8C-467E-85E6-076A0B96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2206B-7D05-4780-9675-20FC750A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3EACF-1E0B-4AB8-81A4-81D3DB46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40003-10FB-44FC-8972-2C982543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78EDA-E74B-4B20-BCF3-444B659A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8A61F-A2B8-4FB6-A17F-9AED0840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89EB3-135D-4733-B756-7A56207D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97365-459B-4BB1-83C1-4299EF4B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01C78-E644-4B2B-9C96-AACAC2E7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E0CB-19D9-477F-8154-321EE75D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4D4B9-A715-4501-A9CF-37FDA04F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1409-80B2-4E54-8BC0-2428F2B2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7F99-8DF0-46CD-AEB3-0F3B363B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27E-E9E0-4903-A0AB-3338CA92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FFD4-7848-4422-A8A8-1AA0906CDC2C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2657-AC76-4E35-B54E-6059F5A7B24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6B3E-9E9C-4F0A-B8C2-8958E8048499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34D5-BA50-4771-90C1-650E54703220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6741-C054-4884-8F32-73D0EA6C4408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135F-1C84-4312-BFA5-680353CE02E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C9D2-7630-40B4-A581-C966CEBDDCFC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C820-B8F0-41B0-AEE6-E349BE3ECDD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7EEB-67C9-4111-A397-32AF77C64133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D07E-2B0D-4351-ABBF-D4A538A61E9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Rockwell Condensed"/>
              </a:rPr>
              <a:t>Critical Care Training for Primary Care Physicians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61760" y="4876560"/>
            <a:ext cx="7732440" cy="10666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Rockwell Condensed"/>
              </a:rPr>
              <a:t>Pramita Kuruvilla, M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Rockwell Condensed"/>
              </a:rPr>
              <a:t>Critical Care Cour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Rockwell Condensed"/>
              </a:rPr>
              <a:t>June 2,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2004 FOCCUS: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F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raming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O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ptions for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C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ritical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C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are in the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U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nited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S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tate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Taskforce of the SCCM, ACCP, ATS, AACC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Found accelerated demand for critical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Baby boo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Increasing burden of chronic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Increasing public demand fo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Found decreasing numbers of CCU-trained fello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Rockwell Condensed"/>
              </a:rPr>
              <a:t>FOCCUS Finding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0000"/>
          </a:bodyPr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Only 37% of CCU patients cared for by CCU-trained physici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63% of CCU patients are cared for by PRIMARY CARE M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Critical Care delivery, which has evolved over the last three decades, requires major reorganization, innovative technology, and more effective use of current professional talent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This is why primary care physicians need CCU training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Rockwell Condensed"/>
              </a:rPr>
              <a:t>Course Over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533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0000"/>
          </a:bodyPr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Please arrive from and return to clinical duties promptly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This week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3-4:30: Awesome Lec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4:30-6: Sublime Workshops (2 group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628560" indent="-145800">
              <a:lnSpc>
                <a:spcPct val="10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ckwell Condensed"/>
              </a:rPr>
              <a:t>A: Central Lines/US: 4A Conf Rm </a:t>
            </a:r>
            <a:r>
              <a:rPr b="0" lang="en-US" sz="2200" spc="-1" strike="noStrike">
                <a:solidFill>
                  <a:srgbClr val="000000"/>
                </a:solidFill>
                <a:latin typeface="Rockwell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Rockwell Condensed"/>
              </a:rPr>
              <a:t>B: Vents: Noon Conf Rm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Next week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Fantastic Lec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Pimpalicious Megacode on Wednesday ev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Course Eval: if you do not fill this out, you will be tarred and feath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3:38:19Z</dcterms:created>
  <dc:creator>pkuruvil</dc:creator>
  <dc:description/>
  <dc:language>en-US</dc:language>
  <cp:lastModifiedBy>HCMARTINEZ</cp:lastModifiedBy>
  <dcterms:modified xsi:type="dcterms:W3CDTF">2009-06-02T22:12:59Z</dcterms:modified>
  <cp:revision>7</cp:revision>
  <dc:subject/>
  <dc:title>Critical Care Training for Primary Care Physicians</dc:title>
</cp:coreProperties>
</file>