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44B6-C093-4553-B00A-7B141BCEE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92C2-7810-4560-876E-3E695921B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citis, ectropion, ect less important, less common and usu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prevalence20-30% vs 1% vs 0.1%, ectopic is most dangerous needs most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b usu handles itself, mole is cook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E701-A22E-4896-8DCD-F3F5E63BE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, sex, trauma- 2 yr sib kicking abd– vs meth use and t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erm IU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some data suggest higher SAB rate if within 3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0F55-E9AA-4750-AB78-2E1C81274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s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est for luteal phase defect, empiric antibiotic for mycoplasma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D7A3-767A-4F0A-94DF-51D3DC8FF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3 =GTN (vs gtd)- or metastatic g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06FE-18B5-4F12-A75D-B61AE4492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erribly important but check GTN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9B5D-CF12-4935-9C5C-84C4ADE31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alence varies- recog vs vs very early preg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15DF-EFD6-4427-9194-B01FDDB40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because it is a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E4A9-E5EE-4AED-884A-C55F80590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st literature give 53% as the lowest 2 day rise in normal pregna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CC0A-A533-4A54-8DFB-C8AE1DA46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 on heterotopic being rare-1:30,000  prob ~1-3000 or 4000 even w/o fert rx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ion all cramp/bleed-?all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i r/o ectopic, dating- decr postdates i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E35E-5003-470A-90E2-1FD259276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s double the discrim zone- more hormone for lesser gest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6300-5864-493B-8202-24B471818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toneal signs, hemodynamic in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’s, sono-empty ut, blood in morrison’s pouch,+/-adnex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1855-41F3-4397-B908-F8A8E8A16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DDx is completed SAB- minimally symptomatic and rapidly falling HCG in the setting of cramping and bleeding usually for som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F2F8-C501-4BBD-B5C1-E65C63FB3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ic precautions- pain, incr bleeding, lightheadedness,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AA25-91D2-4927-AA26-BE83CE1E0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nstrumentation if very likely completed SAB: crescendo-decrescendo, no rf’s, low h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ing with fire otherw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ush permanents instead of frozen or in addition to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41C9-A0B7-4D83-9232-096F04B7C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7765-4C3B-42AF-B2AD-A44B97C1A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-abd/pelvic surg,pid,failed contraception-neg pred value not vali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a to 8wk, fht’s prob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st if sono not 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s, tissue hard-always use path-frozen or rush 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A4F0-BED6-42D2-BFDF-318918059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alk about discrim zone, HCG curve with ectopics more in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711E-7E9A-4144-B07F-DC5F6A0E9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-2% risk of loss if fetal cardia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5E4-CD71-4594-9E77-926B659D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63B-E0CC-4EE4-BED2-E195CB68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01C-E49B-4886-B4A9-447196F5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B02-948C-4050-B9E5-517CC893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621-2417-4927-A3FB-F8DDB2DF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1DA-B75C-45CD-96BB-0C936EA7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7FB-3FD3-44A5-882D-9708A519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EA4-CD3E-40E7-8838-EAF236B1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9D3-E357-4E75-993C-5B50CEB3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4C1-47C1-47B8-921D-4445BDA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34C-3151-49CA-A1B9-CFA842F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ED8-4912-43C5-B4BA-AFC74E72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8556-A976-4BAD-A450-7859994DE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TRIMESTER BL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0%, usu self-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1%, most dang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1%, cook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TO INSTRU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/ what instr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oon?-septic vs bleeding vs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’s? EGA by sono, blighted ov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FROZEN SEC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h permanents vs 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wk, 80-90% res, s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ctopic, septic, BLEEDING, missed,&gt;10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, 80-90% res,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o 600-800 PV x 1-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 ISOIMMU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                       50mcg IM if  &lt; 12 WEEKS                           300mcg IM IF &gt; 1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UCATION &amp; SUPPO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U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R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PREGNANCY &gt; 3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 consecutive for therapeutic nihi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vid base for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comes similar- ~70% successful pr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/u, + or – w/u , +w/u with or without 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success after 6 consecutive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eval, day 3 FSH, antiphos syn w/u &amp; misc thrombophilia w/u, TSH, ?fast glu, ?ANA, kary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 is in –progesterone supps, doxy are both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errant fertilization, fetal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05-0.1% incid (US), chorioca 1:3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120 SE Asians, 1:1200 Hispanics, prior mole, age &lt;20 &gt;35, lower pa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-90% benign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metastatic disease c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ATIDIFORM MOLE  =GTD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/INVASIVE MOLE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RIOCARCINOMA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 SITE TROPHOBLASTIC TUMOR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&amp; partial m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sperm + anuclear ovum- 46XX or 46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sperm + 1 ovum - 69XXY or 69XY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INAL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H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&gt;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HCG- &gt;100,000 (nl preg peak &lt; 200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PREECLAMPSIA &lt;20Ww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YROTOXIC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TS ( THECA LUTE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LOSS, PRE-V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20 WKS, &lt;500 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IMESTER-”EARL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/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, Rh, TSH, LFP, BUN/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evac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, pitocin run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eeding, perforation, ?ARD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wk till negative then q mo for 6-12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drop rapidly&amp; be negative &lt; 9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reg usu takes 2-4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contraception during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nt/recurrent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HCG rise x2 wk, stable x 3wk,+@3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new pregnanc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ry re GTN/metastatic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%chorioca, 75% persist/invasive m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vic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repeat D&amp;C- up to 40%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 HC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, coags, liver, renal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T abd, pelvis, chest, ?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ccchsd.5A42PC-1\My Documents\My Pictures\figo_s2.gif"/>
          <p:cNvPicPr/>
          <p:nvPr/>
        </p:nvPicPr>
        <p:blipFill>
          <a:blip r:embed="rId1"/>
          <a:stretch/>
        </p:blipFill>
        <p:spPr>
          <a:xfrm>
            <a:off x="1662120" y="422280"/>
            <a:ext cx="581832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risk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om and characteristics of antecedent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, size and number of m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ure of prior ch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50% after nl preg, 25% after mole, 25% after ectopic/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 bleeding or amenorrhea esp prolonged postpartum,very bloody tumor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eck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after molar pr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rhog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mcg IM with m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antation outside endometrial ca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prevalence related to PID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8-99% tubal- usu rupturing 6-10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ual, cervical, ovarian, abdominal r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index of suspi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female patients are pregnant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9-50yrs, sexual hx reliability, contraceptive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pregnant patients are ectopic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ger of preexisting diagnosis of S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bal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ec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1:24 p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vic surg- appi, cystectomy, section, 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ed contra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UD, progesterone only methods, TL, emerg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insic mass, infert, smoking at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ence of risk factors does not rule out ec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@20, 20%@35, 40%@40, 80%@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 H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 NSVD/NO SAB, 30-40% IF 3 S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an evolution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orrhea, N, V, frequency, ris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 bleeding, ?tissue, flat/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/ rupturing ectop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(colic, peritoneal irritation, referred), mass, hemodynamic instability, fluid in be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99% ectopic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s correlate poorly w/ 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rise helpful early in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rise signifies abnormal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20-30% of ectopics have normal 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normal limits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723960" y="1974960"/>
          <a:ext cx="7740720" cy="576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74960"/>
                    <a:ext cx="774072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-Verify or rule out IUP-?hetero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ctopic cardiac, complex mass, free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ory z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vaginal vs. transabdo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tion-low thresholds symptoms-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stational sac (vs pseudo s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wks, singleton 1000-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.5wks, by mean sac diam of 16-20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ac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6wks, by 7 wks “minimum EGA” or fetal pole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D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P complica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st com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oid degeneration, to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2365200" y="1981080"/>
          <a:ext cx="4413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0" y="1981080"/>
                    <a:ext cx="4413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2355840" y="1981080"/>
          <a:ext cx="4432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5840" y="1981080"/>
                    <a:ext cx="4432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719280" y="1981080"/>
          <a:ext cx="770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981080"/>
                    <a:ext cx="770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2759040" y="1981080"/>
          <a:ext cx="3625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9040" y="1981080"/>
                    <a:ext cx="3625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OSOMAL ABN’S- 50%-spora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 ANOMA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ABN’S-fibroids, synechiae, sep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S-APS, APC res, prothro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M,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TROGENIC-amnio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ANCES-caffeine, tob, meth, coc, NS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matic, small ectopic, low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incidence tubal SAB, no therapeutic M&amp;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rupture awaiting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s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3-4cm, unruptured, no liver, renal, heme dis  ?no cardiac activity, ?HCG &lt;5000-1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/ 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/d, AST, BUN/Cr,Type/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cons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of treatment &amp;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rate, risk of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-effec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, stomatitis, liver, marrow, renal t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to a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’s, ETOH, folic acid, inter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mg/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 HCG 3&amp;6 days after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5% drop on HCG between day 3&amp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weekly till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 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g/kg IM every other day to 4 d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 HCG with leucovorin rescue on alternat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when 15% drop in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higher efficacy, less lost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paroscopy vs lapar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- maximize fer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os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irpative- prevent future ec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i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IUP-R/O ECTOPIC-urgent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VIABILITY-less u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TERVENTION-no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-all Rh n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E/ SUPPORT/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FACT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ence doesn’t r/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SIZE-decidua to 8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TONES- don’t settle for 2nd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VICAL-open sugge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SSUE PASSED-frozen/rush perma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- not if visualized on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 sono better if not de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 sac/yolk sac- ?normal app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pole if gest sac MSD &gt;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if fetal pole &gt;6-7wk=CRL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ENED-nex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VITABLE-open,SROM,heavy bl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-easiest in retrospect-decre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ED/” BLIGHTED OVU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tened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bleeding +/- cr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40% pregnancies bleed; 1/2 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ymptoms, small for dates, subchorionic bleed-poor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cardiac activity- bett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x-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2:58:32Z</dcterms:created>
  <dc:creator>Valued Gateway Customer</dc:creator>
  <dc:description/>
  <dc:language>en-US</dc:language>
  <cp:lastModifiedBy>HCMARTINEZ</cp:lastModifiedBy>
  <cp:lastPrinted>2002-05-14T14:23:24Z</cp:lastPrinted>
  <dcterms:modified xsi:type="dcterms:W3CDTF">2009-10-07T18:46:23Z</dcterms:modified>
  <cp:revision>13</cp:revision>
  <dc:subject/>
  <dc:title>FIRST TRIMESTER BLEEDING</dc:title>
</cp:coreProperties>
</file>