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91BA-D1EC-4C08-A455-AB25CFE9D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6401-6B57-4404-8DCA-2A2023CC6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vicitis, ectropion, ect less important, less common and usu obvi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 of prevalence20-30% vs 1% vs 0.1%, ectopic is most dangerous needs most s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b usu handles itself, mole is cook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5C9F-5BBF-483E-9889-150880BD5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, sex, trauma- 2 yr sib kicking abd– vs meth use and t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to term IUF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some data suggest higher SAB rate if within 3 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08FD-3291-43DB-B0E7-113B7ACED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onsecu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est for luteal phase defect, empiric antibiotic for mycoplasma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8DAA-2EA7-4317-AEDB-656DD3EC0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3 =GTN (vs gtd)- or metastatic g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3E7B-B36D-4669-AAFA-AC07033A4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erribly important but check GTN r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423B-E772-433C-A1C2-E44BB779D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alence varies- recog vs vs very early preg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4AB3-28E9-46FA-BD7E-3D6DA27D8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ble because it is an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E094-CCD2-4B72-A463-FEFF12286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est literature give 53% as the lowest 2 day rise in normal pregna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39D5-72B4-4E9A-A015-ECBBFA547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 on heterotopic being rare-1:30,000  prob ~1-3000 or 4000 even w/o fert rx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ility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ion all cramp/bleed-?all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ri r/o ectopic, dating- decr postdates in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1BC5-9A55-4331-9AEE-AF4C14B1C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ins double the discrim zone- more hormone for lesser gest 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F4C8-C96B-43DC-B9F1-F292328EE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toneal signs, hemodynamic in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F’s, sono-empty ut, blood in morrison’s pouch,+/-adnexal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2EA7-C8C8-4158-B036-D91DD497B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ty DDx is completed SAB- minimally symptomatic and rapidly falling HCG in the setting of cramping and bleeding usually for som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67E6-5D5A-4F36-9552-7D62E30C7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pic precautions- pain, incr bleeding, lightheadedness,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A15C-D4FE-4633-9E6C-2CCDF8ACC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instrumentation if very likely completed SAB: crescendo-decrescendo, no rf’s, low hc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ying with fire otherw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rush permanents instead of frozen or in addition to fro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C65A-799B-417E-8357-725C0F12E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CCFB-C550-43F4-9981-C93D3A8AC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f-abd/pelvic surg,pid,failed contraception-neg pred value not valid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dua to 8wk, fht’s prob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est if sono not av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 os, tissue hard-always use path-frozen or rush 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0B69-20EE-4DD2-A591-A91B5147A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talk about discrim zone, HCG curve with ectopics more in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5EEB-5696-4DCA-860A-870C6EFAC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1-2% risk of loss if fetal cardiac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37C6-2A0C-453D-9385-4C2C5AEDB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C0AA-6806-4EA2-8354-EC7D916E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7719-DFC0-4B32-911D-930BA82F4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6795-99FB-487B-A16A-230362468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0973-E725-44AE-BF09-5032F56C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25E3-A0E7-4E4E-A073-62EB03B3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2AFD-81F6-45F5-862B-04D2585D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BDE1-2834-4FC4-A33B-FE2A4257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3569-22B9-4972-85D5-3D912E91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8626-8934-440B-95DC-331618BD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259D-3F11-490C-9E0B-181FFABF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2CF1-FEE1-49DD-8F90-4C7A71CA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8D4B-AF0C-49D8-BB71-74B8ACFE1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TRIMESTER BLEE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ONTANEOUS ABOR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30%, usu self-lim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TOPIC PREGN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1%, most danger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LAR PREGN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1%, cook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I NEED TO INSTRU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/ what instru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soon?-septic vs bleeding vs mi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m’s? EGA by sono, blighted ov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I NEED FROZEN SECTIO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sh permanents vs rout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C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10-12wk, 80-90% res, sl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G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ectopic, septic, BLEEDING, missed,&gt;10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10-12, 80-90% res, f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o 600-800 PV x 1-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ENT ISOIMMU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MBER RHOGAM                       50mcg IM if  &lt; 12 WEEKS                           300mcg IM IF &gt; 12 WEE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DUCATION &amp; SUPPOR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RESS GUI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RESS GR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R PREGNANCY &gt; 3 MON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rent S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3 consecutive for therapeutic nihi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evid base for recommend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comes similar- ~70% successful pr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w/u, + or – w/u , +w/u with or without r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 success after 6 consecutive lo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erine eval, day 3 FSH, antiphos syn w/u &amp; misc thrombophilia w/u, TSH, ?fast glu, ?ANA, kary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mbophilia is in –progesterone supps, doxy are both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LAR PREGNA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errant fertilization, fetal ori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05-0.1% incid (US), chorioca 1:3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120 SE Asians, 1:1200 Hispanics, prior mole, age &lt;20 &gt;35, lower par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-90% benign co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metastatic disease cur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DATIDIFORM MOLE  =GTD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ISTENT/INVASIVE MOLE=GT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RIOCARCINOMA=GT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C SITE TROPHOBLASTIC TUMOR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T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&amp; partial m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fetal tiss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sperm + anuclear ovum- 46XX or 46X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TN risk 2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tal tiss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sperm + 1 ovum - 69XXY or 69XY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TN risk 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NICAL FIND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GINAL BLEE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FHT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 &gt; 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HCG- &gt;100,000 (nl preg peak &lt; 200,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EREMESIS GRAVIDA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Y PREECLAMPSIA &lt;20Ww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YROTOXIC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ARIAN CYTS ( THECA LUTE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GN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NOGRA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ONTANEOUS ABOR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ONTANEOUS LOSS, PRE-V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20 WKS, &lt;500 G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% PREVA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%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RIMESTER-”EARLY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/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CG, Rh, TSH, LFP, BUN/C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X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erine evac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&amp;C, pitocin runn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eeding, perforation, ?ARDS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 HCG’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 wk till negative then q mo for 6-12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drop rapidly&amp; be negative &lt; 90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 preg usu takes 2-4w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ive contraception during follow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sistent/recurrent HCG r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HCG rise x2 wk, stable x 3wk,+@3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new pregnanc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ry re GTN/metastatic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%chorioca, 75% persist/invasive m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lvic s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repeat D&amp;C- up to 40%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 HC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bc, coags, liver, renal la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T abd, pelvis, chest, ?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:\Documents and Settings\ccchsd.5A42PC-1\My Documents\My Pictures\figo_s2.gif"/>
          <p:cNvPicPr/>
          <p:nvPr/>
        </p:nvPicPr>
        <p:blipFill>
          <a:blip r:embed="rId1"/>
          <a:stretch/>
        </p:blipFill>
        <p:spPr>
          <a:xfrm>
            <a:off x="1662120" y="422280"/>
            <a:ext cx="5818320" cy="60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gh risk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 HC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from and characteristics of antecedent pregn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e, size and number of m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ilure of prior ch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T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curs 50% after nl preg, 25% after mole, 25% after ectopic/S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g bleeding or amenorrhea esp prolonged postpartum,very bloody tumors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eck HC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 HCG’s after molar pre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ember rhog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0mcg IM with m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TOPIC PREGNA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antation outside endometrial ca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 prevalence related to PID preva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8-99% tubal- usu rupturing 6-10 w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nual, cervical, ovarian, abdominal ra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gh index of suspi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all female patients are pregnant until proven otherw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9-50yrs, sexual hx reliability, contraceptive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all pregnant patients are ectopic until proven otherw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nger of preexisting diagnosis of SA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k fa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bal da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or ec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D 1:24 pre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lvic surg- appi, cystectomy, section, 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led contra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UD, progesterone only methods, TL, emergenc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insic mass, infert, smoking at con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ence of risk factors does not rule out ectop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K FA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%@20, 20%@35, 40%@40, 80%@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B H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% NSVD/NO SAB, 30-40% IF 3 SA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nical Present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an evolution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gn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enorrhea, N, V, frequency, rising HC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iling pregn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g bleeding, ?tissue, flat/ falling HC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ing/ rupturing ectopi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in (colic, peritoneal irritation, referred), mass, hemodynamic instability, fluid in be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C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99% ectopics po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olute values correlate poorly w/ 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ve rise helpful early in ges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normal rise signifies abnormal ges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20-30% of ectopics have normal r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wer normal limits HCG r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Object 3"/>
          <p:cNvGraphicFramePr/>
          <p:nvPr/>
        </p:nvGraphicFramePr>
        <p:xfrm>
          <a:off x="723960" y="1974960"/>
          <a:ext cx="7740720" cy="576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1974960"/>
                    <a:ext cx="7740720" cy="57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n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-Verify or rule out IUP-?heterotop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ectopic cardiac, complex mass, free fl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riminatory zon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ovaginal vs. transabdom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cation-low thresholds symptoms-A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nograph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stational sac (vs pseudo sa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A~5wks, singleton 1000-1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al p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A~5.5wks, by mean sac diam of 16-20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diac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A~6wks, by 7 wks “minimum EGA” or fetal pole &gt;5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D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lar pr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UP complicated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arian cyst com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broid degeneration, to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endicit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GNOSTIC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Object 3"/>
          <p:cNvGraphicFramePr/>
          <p:nvPr/>
        </p:nvGraphicFramePr>
        <p:xfrm>
          <a:off x="2365200" y="1981080"/>
          <a:ext cx="4413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5200" y="1981080"/>
                    <a:ext cx="4413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GNOSTIC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2355840" y="1981080"/>
          <a:ext cx="44323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5840" y="1981080"/>
                    <a:ext cx="44323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GNOSTIC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Object 3"/>
          <p:cNvGraphicFramePr/>
          <p:nvPr/>
        </p:nvGraphicFramePr>
        <p:xfrm>
          <a:off x="719280" y="1981080"/>
          <a:ext cx="77040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9280" y="1981080"/>
                    <a:ext cx="77040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GNOSTIC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3"/>
          <p:cNvGraphicFramePr/>
          <p:nvPr/>
        </p:nvGraphicFramePr>
        <p:xfrm>
          <a:off x="2759040" y="1981080"/>
          <a:ext cx="3625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59040" y="1981080"/>
                    <a:ext cx="3625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OMOSOMAL ABN’S- 50%-sporad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G ANOMAL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ERINE ABN’S-fibroids, synechiae, septa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MBOPHILIAS-APS, APC res, prothro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M, THYRO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ATROGENIC-amnio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TANCES-caffeine, tob, meth, coc, NSA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 o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c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trex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g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ect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cri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ymptomatic, small ectopic, low falling HC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ion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incidence tubal SAB, no therapeutic M&amp;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sk of rupture awaiting 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hotrex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sion cri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3-4cm, unruptured, no liver, renal, heme dis  ?no cardiac activity, ?HCG &lt;5000-1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ucation/ con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BC/d, AST, BUN/Cr,Type/R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&amp;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hotrexat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cons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e of treatment &amp; follow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lure rate, risk of rup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-effect pro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in, stomatitis, liver, marrow, renal t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gs to av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AID’s, ETOH, folic acid, inter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hotrex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mg/m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nt HCG 3&amp;6 days after inj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5% drop on HCG between day 3&amp;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 weekly till neg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 METHOTREX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mg/kg IM every other day to 4 do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t HCG with leucovorin rescue on alternate d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p when 15% drop in HC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higher efficacy, less lost sle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g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paroscopy vs laparot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rvative- maximize fert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lpingost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irpative- prevent future ectop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lpingiect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BLISH IUP-R/O ECTOPIC-urgent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BLISH VIABILITY-less urg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INTERVENTION-not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MBER RHOGAM-all Rh n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UCATE/ SUPPORT/ FOLLOW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TOPIC? VIABILI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SK FACTOR ASSESS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ence doesn’t r/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ERINE SIZE-decidua to 8 w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RT TONES- don’t settle for 2nd be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RVICAL-open sugges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SSUE PASSED-frozen/rush perma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TOPIC? VIABILI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C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serial- not if visualized on s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serial sono better if not defin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NOGRA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st sac/yolk sac- ?normal appe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tal pole if gest sac MSD &gt;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diac if fetal pole &gt;6-7wk=CRL &gt;5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ATENED-next sl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EVITABLE-open,SROM,heavy blee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PLETE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-easiest in retrospect-decres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SED/” BLIGHTED OVUM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atened S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ginal bleeding +/- cram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-40% pregnancies bleed; 1/2 S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symptoms, small for dates, subchorionic bleed-poorer progn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al cardiac activity- better progn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x- obse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02:58:32Z</dcterms:created>
  <dc:creator>Valued Gateway Customer</dc:creator>
  <dc:description/>
  <dc:language>en-US</dc:language>
  <cp:lastModifiedBy>HCMARTINEZ</cp:lastModifiedBy>
  <cp:lastPrinted>2002-05-14T14:23:24Z</cp:lastPrinted>
  <dcterms:modified xsi:type="dcterms:W3CDTF">2009-10-07T18:46:23Z</dcterms:modified>
  <cp:revision>13</cp:revision>
  <dc:subject/>
  <dc:title>FIRST TRIMESTER BLEEDING</dc:title>
</cp:coreProperties>
</file>