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2636-0D94-4D16-BD4F-B93D4819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04D9-A4D7-4BBF-935E-2894765C0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citis, ectropion, ect less important, less common and usu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prevalence20-30% vs 1% vs 0.1%, ectopic is most dangerous needs most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 usu handles itself, mole is cook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C0EC-FE04-472F-B3B3-2CB293669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, sex, trauma- 2 yr sib kicking abd– vs meth use and 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erm IU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some data suggest higher SAB rate if within 3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87A-8BD9-4167-99D1-C1BFE97BE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s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est for luteal phase defect, empiric antibiotic for mycoplasm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CFF5-D8E2-4F2A-81F6-A9CB2EEC2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3 =GTN (vs gtd)- or metastatic g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253-86A8-414E-95CE-EF282C75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erribly important but check GT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27D-516F-4E44-BE88-4BE550F4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alence varies- recog vs vs very early preg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E7C2-F1AF-46F8-A48A-524782B4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because it is a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1E1-B9AF-49B0-8D34-C45768390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st literature give 53% as the lowest 2 day rise in normal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CBE3-F03C-4980-8DA6-F9775CD01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 on heterotopic being rare-1:30,000  prob ~1-3000 or 4000 even w/o fert rx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 all cramp/bleed-?all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 r/o ectopic, dating- decr postdates i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E56-D3EE-4586-BA42-287A48B4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s double the discrim zone- more hormone for lesser ges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6EA-A466-4E34-8E03-F16562BF8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toneal signs, hemodynamic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’s, sono-empty ut, blood in morrison’s pouch,+/-adnex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361-5B59-40FD-8BA2-6266E54F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DDx is completed SAB- minimally symptomatic and rapidly falling HCG in the setting of cramping and bleeding usually for so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C58-9E8D-4802-B545-B83EC4ED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ic precautions- pain, incr bleeding, lightheadedness,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DFC4-65A1-4A15-ABD2-3DFBD764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nstrumentation if very likely completed SAB: crescendo-decrescendo, no rf’s, low h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ing with fire otherw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ush permanents instead of frozen or in addition to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9F43-0174-4007-806E-A9191AF25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6AFE-D1C3-4E06-AD76-6EBBE1D9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-abd/pelvic surg,pid,failed contraception-neg pred value not vali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a to 8wk, fht’s prob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st if sono not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s, tissue hard-always use path-frozen or rush 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1C9C-BE5E-49C9-99DB-B98E48618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alk about discrim zone, HCG curve with ectopics more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576-3D86-4D4A-922D-819D0F009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-2% risk of loss if fetal cardia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235-8DA7-4D3D-A973-C4E62C27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303-0FDB-4848-8021-9435758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6C7-C6D7-4C4A-BBFD-BDEA2472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993-29BF-44CF-B493-23A40D1C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598-5CA1-41AA-B9CB-FD2F053C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A2F-0C8B-4BF8-B6C8-0B04B3B1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551-9B7E-4096-B1DC-64A7DD84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7F1-E516-43B7-9B1C-D592456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A6A-1E23-4F1A-8DBE-E6BE7F6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613-75FB-45D9-9D44-E401B8F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8C4-D19C-41C0-BB7C-7DABCF3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046-B832-4870-9775-9E7D6957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BD94-47FE-4187-8653-6F33B4B0E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RIMESTER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0%, usu self-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1%, most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%,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TO INSTR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/ what instr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oon?-septic vs bleeding vs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’s? EGA by sono, blighted ov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FROZEN SEC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 permanents vs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wk, 80-90% res,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ctopic, septic, BLEEDING, missed,&gt;10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, 80-90% res,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o 600-800 PV x 1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 ISOIMMU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                       50mcg IM if  &lt; 12 WEEKS                           300mcg IM IF &gt; 1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ION &amp; SUP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R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PREGNANCY &gt; 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 consecutive for therapeutic nihi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vid base for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similar- ~70% successful pr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/u, + or – w/u , +w/u with or without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success after 6 consecutiv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eval, day 3 FSH, antiphos syn w/u &amp; misc thrombophilia w/u, TSH, ?fast glu, ?ANA, kary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 is in –progesterone supps, doxy are bot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nt fertilization, fetal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5-0.1% incid (US), chorioca 1: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20 SE Asians, 1:1200 Hispanics, prior mole, age &lt;20 &gt;35, lower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90% benign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etastatic disease c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ATIDIFORM MOLE  =GTD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/INVASIVE MOLE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IOCARCINOMA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 SITE TROPHOBLASTIC TUM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&amp; partial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perm + anuclear ovum- 46XX or 46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perm + 1 ovum - 69XXY or 69XY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INAL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&gt;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CG- &gt;100,000 (nl preg peak &lt; 2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PREECLAMPSIA &lt;20Ww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TS ( THECA LU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LOSS, PRE-V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20 WKS, &lt;500 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MESTER-”EAR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/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, Rh, TSH, LFP, BUN/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evac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, pitocin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eding, perforation, ?ARD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k till negative then q mo for 6-12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drop rapidly&amp; be negative &lt; 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reg usu takes 2-4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traception during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/recurrent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HCG rise x2 wk, stable x 3wk,+@3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new pregnan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re GTN/metastat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chorioca, 75% persist/invasive m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peat D&amp;C- up to 40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 H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, coags, liver, renal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abd, pelvis, chest, ?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ccchsd.5A42PC-1\My Documents\My Pictures\figo_s2.gif"/>
          <p:cNvPicPr/>
          <p:nvPr/>
        </p:nvPicPr>
        <p:blipFill>
          <a:blip r:embed="rId1"/>
          <a:stretch/>
        </p:blipFill>
        <p:spPr>
          <a:xfrm>
            <a:off x="1662120" y="422280"/>
            <a:ext cx="58183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is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and characteristics of antecedent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, size and number of m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of prior ch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50% after nl preg, 25% after mole, 25% after ectopic/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 bleeding or amenorrhea esp prolonged postpartum,very bloody tumor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after molar pr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rhog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mcg IM with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tion outside endometrial c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valence related to PID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-99% tubal- usu rupturing 6-10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ual, cervical, ovarian, abdominal r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index of suspi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female patients are pregnant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9-50yrs, sexual hx reliability, contraceptiv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pregnant patients are ectopic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 of preexisting diagnosis of S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ec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1:24 p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c surg- appi, cystectomy, section,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contra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UD, progesterone only methods, TL, emer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insic mass, infert, smoking at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ence of risk factors does not rule out ec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@20, 20%@35, 40%@40, 80%@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 H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SVD/NO SAB, 30-40% IF 3 S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n evolution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orrhea, N, V, frequency, ris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 bleeding, ?tissue, flat/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/ rupturing ectop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(colic, peritoneal irritation, referred), mass, hemodynamic instability, fluid in be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99% ectopic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s correlate poorly w/ 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ise helpful early in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rise signifies abnormal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20-30% of ectopics have normal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ormal limits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723960" y="1974960"/>
          <a:ext cx="7740720" cy="57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74960"/>
                    <a:ext cx="77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-Verify or rule out IUP-?hetero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ctopic cardiac, complex mass, free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ory z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vaginal vs. trans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ion-low thresholds symptoms-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tational sac (vs pseudo s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wks, singleton 1000-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.5wks, by mean sac diam of 16-2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a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6wks, by 7 wks “minimum EGA” or fetal pole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D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P complic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st com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id degeneration,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365200" y="1981080"/>
          <a:ext cx="4413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981080"/>
                    <a:ext cx="441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355840" y="1981080"/>
          <a:ext cx="4432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1981080"/>
                    <a:ext cx="44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19280" y="19810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759040" y="1981080"/>
          <a:ext cx="362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981080"/>
                    <a:ext cx="362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AL ABN’S- 50%-spora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ABN’S-fibroids, synechiae, sep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S-APS, APC res, prothr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,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-amnio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S-caffeine, tob, meth, coc, NS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, small ectopic, low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incidence tubal SAB, no therapeutic M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rupture awaitin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3-4cm, unruptured, no liver, renal, heme dis  ?no cardiac activity, ?HCG &lt;5000-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/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/d, AST, BUN/Cr,Type/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reatment &amp;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rate, risk of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-effec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stomatitis, liver, marrow, renal t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a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’s, ETOH, folic acid, inter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mg/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 HCG 3&amp;6 days after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5% drop on HCG between day 3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weekly till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 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g/kg IM every other day to 4 d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 HCG with leucovorin rescue on alternat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15% drop in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higher efficacy, less lost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aroscopy vs lapar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- maximize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os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rpative- prevent future ec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i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IUP-R/O ECTOPIC-urgent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VIABILITY-less u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TERVENTION-no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-all Rh n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/ SUPPORT/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FACT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doesn’t r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SIZE-decidua to 8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TONES- don’t settle for 2nd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VICAL-open sug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PASSED-frozen/rush perma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- not if visualized on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 sono better if not de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 sac/yolk sac- ?normal app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pole if gest sac MSD &gt;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f fetal pole &gt;6-7wk=CRL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-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VITABLE-open,SROM,heavy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-easiest in retrospect-decre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/” BLIGHTED OVU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ened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bleeding +/- cr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% pregnancies bleed; 1/2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ymptoms, small for dates, subchorionic bleed-poor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cardiac activity- bett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-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58:32Z</dcterms:created>
  <dc:creator>Valued Gateway Customer</dc:creator>
  <dc:description/>
  <dc:language>en-US</dc:language>
  <cp:lastModifiedBy>HCMARTINEZ</cp:lastModifiedBy>
  <cp:lastPrinted>2002-05-14T14:23:24Z</cp:lastPrinted>
  <dcterms:modified xsi:type="dcterms:W3CDTF">2009-10-07T18:46:23Z</dcterms:modified>
  <cp:revision>13</cp:revision>
  <dc:subject/>
  <dc:title>FIRST TRIMESTER BLEEDING</dc:title>
</cp:coreProperties>
</file>