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png" ContentType="image/png"/>
  <Override PartName="/ppt/media/image11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26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9.jpeg" ContentType="image/jpeg"/>
  <Override PartName="/ppt/media/image10.jpeg" ContentType="image/jpeg"/>
  <Override PartName="/ppt/media/image1.jpeg" ContentType="image/jpeg"/>
  <Override PartName="/ppt/media/image35.jpeg" ContentType="image/jpeg"/>
  <Override PartName="/ppt/media/image12.jpeg" ContentType="image/jpeg"/>
  <Override PartName="/ppt/media/image23.png" ContentType="image/png"/>
  <Override PartName="/ppt/media/image13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31.jpeg" ContentType="image/jpeg"/>
  <Override PartName="/ppt/media/image2.png" ContentType="image/png"/>
  <Override PartName="/ppt/media/image25.png" ContentType="image/png"/>
  <Override PartName="/ppt/media/image32.jpeg" ContentType="image/jpeg"/>
  <Override PartName="/ppt/media/image5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18.png" ContentType="image/png"/>
  <Override PartName="/ppt/media/image20.png" ContentType="image/png"/>
  <Override PartName="/ppt/media/image36.jpeg" ContentType="image/jpeg"/>
  <Override PartName="/ppt/media/image9.jpeg" ContentType="image/jpeg"/>
  <Override PartName="/ppt/media/image4.jpeg" ContentType="image/jpeg"/>
  <Override PartName="/ppt/media/image40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 type="sldNum" idx="9"/>
          </p:nvPr>
        </p:nvSpPr>
        <p:spPr>
          <a:xfrm>
            <a:off x="388584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395A7-B2F4-45C9-8246-8DB2B64419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D1ED5-70D1-4157-8B5E-BC6250A0150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 study – “I never really saw his suffering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6373E-0D56-4649-8DBE-0BF804ADA5FE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longside/competing with HCP virtues –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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emphasis on competence as scientist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croscope: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1600 microscope constructed by 3 Dutch spectacle-maker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n Leeuwenhoek – discovered RBCs, gout crystals, 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imalcu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various fluids (bacteria, protozoa, human sper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–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bunked Aristotelian-Galenic ideas of generation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ience of disease growing – anatomico-pathological basis rather than humoral balance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ssue diagnosis.  “Death the essence of medical inquiry”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oucault:  “regard” of medicine shifted to cadaver-based)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hartran, xxxx.  Laennec examining patient.  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Stethoscope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, in left han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Laennec invention (1819) – overweight, young, female patient – idea of rolled paper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tethoscope resisted by some within medical profession for 2 reason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)  Distancing from patient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)  Too much information – know when terminal – rather not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New medicine – PE must correlate with pathology; PE&gt;&gt;history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viously, clinical observation restricted to externals and dx reliant on pt hx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nal disease and examination neglect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w dx had to correlate with pathology on postmortem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 could bypass unreliable pt hx – objective observation!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came symbol of the new, scientific medicine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1E33A-66F7-4D84-A99F-CEB44187BFB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uccess of new science of Galileo and Newton + uncertainty of any universal “good”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(modern subjectivism and relativism)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gt;&gt; medicine threw out Aristotle’s concern with final causes (telo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–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just focus on material and efficient causes and reap the reward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ed ethics no longer dealt with ultimate goals or purposes to gui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–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ure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through biopathophysio mod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-&gt; by implication, “care” model unnecessary, even obstructive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odern codes of med ethics continued virtues and duties (esp etiquette and politic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ut no more “transcendent elements of moral philosophy and religion”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hilosophy now irrelevant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Vanished from med ed curriculum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homas Henry Huxley (1825-95) – popular moral philos + promoter of Darwin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t Hopkins opening (1876): Medicine = “a branch of experimental physiology”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nnaugural address at Sir Josiah Mason’s Science College of Birmingha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  –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here founders grant stated “classics may not be taught”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thic of competence” = medical science = #1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39457-3242-4C03-BD65-319F43EF57C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The Gross Clinic” – Thomas Eakins – 1875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Eakins was student in anatomy and surgical lectures of Dr. Samuel Gros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–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one of US’s most influential &amp; distinguished surgeons, anatomists, teacher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–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known for his lectures, calm judgment, surgical skills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Here portrait of Gross, age 70, in his clinic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Heroic work exalting American progress and excellenc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mphitheater clinic; Dr. Gross – light on head. – Patient drap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Gross explains procedure – removal of infected bone from thigh of pt (draped)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nesthesia over head.  4 assistants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Only mother – shielding face in horror – not absorbed in technical procedur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tudents watch.  Eakins writes/draws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Maligned at the time as too realistic, disturbing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Today celebrated as one of greatest medical history paintings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Here “heroic” = detached, distant, professorial anatomist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Cure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through medical scientist and biopathophysio model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Epistemology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– “knowing” the illness (“Womens’ Ways of Knowing” – Belenky et al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“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ure” model – scientific / disea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“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eparate” knowing – universal / objective / pt = HB / control variabl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“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are” model – suffering / illnes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“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onnected” knowledge – particular/subjective/pt = unique/value variabl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143BC-5F13-486B-AF2A-6D548AEA79C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ompare Fildes’ physician to Dr. Gross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 -  Care  &gt;&gt; Cure model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They are shallow animals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having always employed their minds about Body and Gut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they imagine that in the whole system of thing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there is nothing but Gut and Body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amuel Taylor Coleridge (on doctors, 179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Times New Roman"/>
              </a:rPr>
              <a:t>The “teacher”??? – Competent, but compassion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he Gross Clinic” – Thomas Eakins – 1875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akins was student in anatomy and surgical lectures of Dr. Samuel Gross – one of US’s most influential and distinguished surgeons, anatomists, teachers – known for his lectures, calm judgment, surgical skill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Here portrait of Gross, age 70, in his clinic.  Heroic work exalting American progress and excellence.  Amphitheater clinic; Dr. Gross – light on head. – Patient draped. Gross explains procedure – removal of infected bone from thigh of pt (draped)- only leg and buttock exposed.  Anesthesia over head.  4 assistants.  Only mother – veiled, shielding face in horror – not absorbed in technical procedure.  Students watch.  Eakins writes/draw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aligned at the time as too realistic, disturbing.  Today celebrated as one of greatest medical history painting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Here “heroic” = detached, distant, professorial anatomist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uccess of new science of Galileo and Newton + uncertainty of any universal “good” (modern subjectivism and relativism)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gt;&gt; medicine threw out Aristotle’s concern with final causes (telos) – just foc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on material and efficient causes and reap the reward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ed ethics no longer dealt with ultimate goals or purposes to guide –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ure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through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iopathophysio model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odern codes of med ethics continued virtues and duties (esp etiquette and politic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ut no more “transcendent elements of moral philosophy and religion”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hilosophy now irrelevant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Vanished from med ed curriculum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homas Henry Huxley – popular moral philosopher and promoter of Darwin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t Hopkins opening (1876): Medicine = “a branch of experimental physiology”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nnaugural address at Sir Josiah Mason’s Science College of Birmingham – whe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ounders grant stated “classics may not be taught”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thic of competence” became #1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A330A-5D26-4DD1-9176-DD1EBD51387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an see evolution of this division between care vs cure / connected vs separate knowing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Look at Vesalius anatomy drawings (16</a:t>
            </a:r>
            <a:r>
              <a:rPr b="0" lang="en-US" sz="10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c) - Fabric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***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alen  --  born 129 CE in Pergamon (now Turkey, part of Greek-speaking empire).  Father visited in dream by Asclepius – steered son to medicine.  Physician to the gladiators – learned much of anatomy and surgery.  To Rome where public anatomical displays – fame.  Party tricks severing nerves in neck of pig, til stopped squeeling (laryngeal nerve).  Became physician to senators and emperors.  Dissected animals, but not humans – knew little of internal human anatomy.  Conjectures on anatomy of internal organs to support his (Plato, Aristotle) teleological philosophy – inaccuracies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salius  --  (1514-64)  Born in Brussels.  Human dissections (executed criminals) revealed errors of Galen.  Systematic drawings of human anatomy based upon human dissections.  1539 – his masterpiece, </a:t>
            </a:r>
            <a:r>
              <a:rPr b="0" i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 humani corporis fabrica (Fabrica). 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artist (van Calcar) used graceful, lifelike poses.  Cover of </a:t>
            </a:r>
            <a:r>
              <a:rPr b="0" i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brica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ows cadaver in center, skeleton pointing into abdomen, Veslius looking out as if extending invitation to anatomy.  Importance – showing Galen might actually be wrong – direct observation, fact finding, truth testing &gt; reverence for authority; anatomy key to medicine.  (</a:t>
            </a:r>
            <a:r>
              <a:rPr b="0" i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psy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ans personal observation.)  The cadaver as the central figure of the new medicine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chael Servetus (1511-1553) story shows crossroads of the new observation-based search for truth and traditional authority.  Challenge to Galenic physiology.  Galen had said pulmonary transit of blood to mix air with blood – based upon large size of pulmonary artery from dissections and Biblical teaching that blood = seat of soul and soul was breathed into man &gt;&gt; there must be contact point between air and blood.  This theory published in </a:t>
            </a:r>
            <a:r>
              <a:rPr b="0" i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estoration of Christianity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hich challenged the Roman Church doctrine of the Trinity (based on close reading of Scripture).  His views didn’t influence as all his books burnt with him for heresy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55 incident at Padua:  Falloppia dissections, corrections to Veslius.  University authorities wanted old style teaching by reading classical works and theoretical anatomy lectures by senior professor.  Students chanted “we want Falloppia” – new observation-based anatomy took over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atomy accepted into learned medicine – foundation of medicine based upon observation.  Successes of anatomical medicine swept aside old dogma (that only </a:t>
            </a:r>
            <a:r>
              <a:rPr b="0" i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uses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philosophy, never </a:t>
            </a:r>
            <a:r>
              <a:rPr b="0" i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servation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science could be the foundation of medicine)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sections as public events at carnivals, etc – Rembrandt’s “The Anatomy Lesson of Dr. Nicholas Tulp” (1632).  Anatomy as publicly accepted window into the human condition (Porter, p. 186)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ill, pt as anatomical specimen not completely separated from pt as person (seen here)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35D67-0275-45E4-9FEA-A3CCAEC62D7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rrent anatomy tex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DF1D5-8643-4201-96FF-83C93B55383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a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nsion of: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ole vs pa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ext vs no cont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man person vs organ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icular vs univers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pistemology diverging – separate knowing &gt; connected know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(disease cure model &gt; suffering care mode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C1513-6741-43EB-B03E-9D5E2119850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g.  John Hunter (1728-1793)  -  by Sir Joshua Reynolds – in R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played every year at convention – father figure for modern surge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ension/ambivalence of the physician-scient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ottish surgeon / advocate of rigorous scientific experimentation in m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ling / transpl teeth / Inflammation / GSWs / VD (self-inno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atomist/naturalist – home c 14,000 specimens of &gt; 500 spec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-ft 2” Charles Byrne – dying – wanted skeleton – fled/pursu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argue – tension betw caring and competence:  sep vs conn know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6F933-577A-408B-B393-C77F42CD118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AOS – 4/2000 – an exhibit or ortho in 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l to artists who had ortho problems to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ell their stor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to ortho surgeons to illustrate their profession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ir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feelings about the MD-pt relationshi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ing a difference in pts lives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the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rt of healing and compassi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thopod Series II: Protusio Acetabuli” – Dumronk Thanachanant, M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“…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hat he enjoys most is ‘the need for an artist’s skill and a scientist’s vision.’”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“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his series was inspired by ‘those pieces of bone which I have been engaged with throughout my life.’”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A7D4F-E7B3-48F1-82E9-A498B8CBBEB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chard Whitehill, MD  -  “Hip Biomechanic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s interest in art began over a decade ago when he was watching the construction of a new hospital and was intrigued by the welding of steel girders…  This piece represents the hip joint during walking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B3C34-0D43-45A0-A014-541112EAD43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thics of Compassion – spend more time he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**********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Kathe Kollwitz – Woman with Dead Chil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867 – 1945 Germa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arried to MD who cared for poor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elieved art should reflect social conditions of time – war, poverty, …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on, Peter, (inspiration for much of her work) – died age 18 in 1914 WW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**********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arliest W medicine – before RX – healing through the relationshi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- virtues of the heal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- still important – esp chronic dis / extremes of life – difficult eth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- but undervalued – much needed and want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- “com – passion” – to be with suffer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BB064-ACB3-4961-BCC3-EDE7E6F21E0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pine Unit” – John Fortune, M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[The doctor] looks to represent the physician relationship through his works of art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F3C63-F7B3-47AD-A185-8896BB0857C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ati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rma Favela  -  “Silenciosos Deseo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the age of 12, she was in a tragic accident causing severe damage to her left leg.  21 operations were performed over 20 years to save her leg.  She uses her body as inspiration for her ar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9E07A-996E-4272-B675-02DDB49F559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I Am” – Danielle Hosfo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e 13 – leg amputated due to canc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a self-portrait, age 15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ortrait is how I wish many people would see me, and how I see myself.  Many people still seem to struggle to accept me as I am.  I still have a leg; it’s just made of metal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E1C6D-5B3E-4E77-A38E-5793082D1DA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neless” – Dan Keplin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tist with cerebral palsy – paints with brush in head gea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99 Oscar-winning HBO documentary “King Gimp”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ly self-portrai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trained by speech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y soul spoke through my art, and for the first time the world heard my voice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F8878-82E5-4C64-917D-178AE57C0D7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MD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P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chnical             Whole bo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dy parts            Life experience (values, emotions, passion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ganism c dis      Person c ill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parate”  vs  “Connected”  ways of knowing (epistemology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C35DF-D8B2-4464-A5F9-4456BB7FE42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oal not some mythical “caring”, but cure + ca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ience and Charity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casso 1897 (age 16; Barcelona School of Fine Arts – gold meda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egorical painting inspired by death of his sis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D, taking pulse + sci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n nurse, offering soup and holding child = char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al not to decrease science but to include compass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BD6A2-456B-4464-B341-9E45E038AF0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in &gt; get a number &gt; give medicine &gt; reduce numb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od to recognize ne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ane – post-op – “What number do I need to say to get some pain medicine?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ndency to bureaucratize/technologize compassion – pain sca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reaucratic tenesmus”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 reminded of Dead Poets’ Society – Robin Willia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. Evans Pritchard – “Understanding Poetry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ph “perfection” on x and “importance” on y 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area = “greatnes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hn Keating:  “Tear out the page – we’re not laying pipe here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C1A2D-AED7-47A5-9D97-73BC5160FF2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914400" y="4414680"/>
            <a:ext cx="5029200" cy="4183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9640" rIns="89640" tIns="44640" bIns="4464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Even if important – ? too fuzzy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Non-sentimental; discipline of compass – </a:t>
            </a: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take suffering seriously!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Beyond slogans – “the secret of care of pt is caring for pt” (Peabody–NEJM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-  “bedside manner”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Much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known and can be taught – not in med text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Edvard Munch – 1893 – “The Scream” or “The Cry”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Psychic agony – isolation (note two “friends”); anguish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Phenomenology of Suffering: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All / &gt; Pain / Fear / Loss / Isolation / Alone /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Body as alien / Individual meaning /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Transformative for som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Theories of Suffering: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S as separation, isolat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S as shattered identit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S as disrupted life narrativ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S as loss of mean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Stages of Suffering (Soelle </a:t>
            </a: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Reich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Mut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Expressive (lament / anger / questioning / re-story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Transformativ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A0730-50F7-4339-A347-ED9445FC68C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dern theories and insights – emphasize the experience of suffering to the individu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tist William Utermohlen self-portraits over time (ages 60 – 66) as his Alzheimer’s progressed. (200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solution of the “self”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F0423-67D6-4438-B9D1-58D844E8E7D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See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= Acknowledge:  “Patient” = from “suffering”.  Overcome apathy!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onsciousness of disease </a:t>
            </a:r>
            <a:r>
              <a:rPr b="0" i="1" lang="en-US" sz="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illness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Experience suffering - Chekhov (50% suffering for med students)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Attend: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“Compassion” = “to be with suffering.”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“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e with”.  Not alone!  (During mute sta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en-US" sz="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n-US" sz="800" spc="-1" strike="noStrike">
                <a:solidFill>
                  <a:srgbClr val="000000"/>
                </a:solidFill>
                <a:latin typeface="Times New Roman"/>
              </a:rPr>
              <a:t>Waiting”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poem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Voice.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Encourage voice / LISTEN  -  (During expressive sta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“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Re-story.”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“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Healing” = “to make whole again.”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Listen to understand patient’s experience.  (Dx and Prog)  Empathy (Oliver Saks)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Listen – don’t let paternalism assume -&gt; Monet’s cataracts (“Monet Refuses the Operation”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ultivate an interest in uncovering the meaning of our patients’ illnesses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WCW likened this to “uncovering metal from ore.”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Embrace: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counter otherness of exclusion/alienati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Touch (Lewis Thomas – healing power of touch).  Nurses – massag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Humor (Cousins)    Sydenham – “The arrival of a clown has a greater beneficial influen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on the health of a town than 20 asses laden with drugs.”  “Hum-ility” – down to earth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Ritual and ceremony – meaningful pattern; embrace in healing tradition/communit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(Yeshi Dhonden)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Personalism” </a:t>
            </a:r>
            <a:r>
              <a:rPr b="0" lang="en-US" sz="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pt as organism = generic H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Support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ultu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Mentor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Narrative h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urriculu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Time &amp; $$$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78999-15BE-4608-B920-F46A4155901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914400" y="4414680"/>
            <a:ext cx="5029200" cy="4183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9640" rIns="89640" tIns="44640" bIns="4464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Public has always seen compassion as part of good HCP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Reflected in art – lampooned when absen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- e.g. Moliere’s play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Here, Francisco de Goya, 1799, “De que mal morira?” (Of what illness will he die?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Contempt for physicians – depicts doctor as ass at the bedside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Goya savaged the pretensions and vices of the medical prof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Theme of inhumanity of man in a world consumed by hate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Power &gt;&gt; abuse and cruelty; battlefields; torture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604CF-A03F-4F8E-A7B7-43A7F2DDD18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net – 1923 – age 83 – right eye catara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rely able to pai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gry, frustra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4067D-09C3-4B12-970D-6AA7B06B29D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net (1840-1926)  Venice Twilight (1908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evant to modern medical ethi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net – catara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refused surgery (fear + poem – his world view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did have surgery  but  must enter patient’s world to know the “good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(Monet disgusted by his painting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ernment of patient’s good = #1 task of post-paternalism med ethi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yond ethical puzzles, = telos of physicia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78E83-EF4A-4070-A1E3-E96BA849CCA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od Samaritan”  Bassano (156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able of Good Sam (Lk 10:29-37)–selfless care for those most in ne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the alien, the enem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S Experiment (197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40 -  2 grps – GS sermon / job serm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0% offered assistance – no diffs in the two grou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rry up, you’re late” – 10% ass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hurry up – 63% ass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me matter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32AA2-922E-4A99-B0E1-DDABFD75B7B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uffering – is it the job of medicine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ts want 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etter medicine (trust &gt; better hx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pplies when can’t cure – chronic, disabled, end-of-lif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telos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(pts, profs, human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 studies – most important to my practice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eyond trite phrases – “Art of medicine”  “Treat the whole patient”  “Pt-centered care”  “Holistic medicine”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he secret of the care of the patient is in caring for the patient.” (Peabody JAMA 1927)  “I like people”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 will argue – 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it is our job / can know / can help / important to do s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8D109-26E4-41CF-89AE-BEFB0AE8ED8E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ffering is not a problem to be solved, but a human reality to be shared.” (David Smit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” + “passion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ry – child’s lost do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24C15-BA97-4703-9493-355A555AB35E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414680"/>
            <a:ext cx="5029200" cy="4183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9640" rIns="89640" tIns="44640" bIns="446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dical Dispatch or Doctor Doubledose Killing Two Birds with One Stone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mas Rowlandson – ca. 180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yle of satire and caricature in Engla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ctors as quacks, drunks, body snatchers, and money grubb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836AC-5634-49D2-986A-9A84F610A5C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14400" y="4414680"/>
            <a:ext cx="5029200" cy="4183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9640" rIns="89640" tIns="44640" bIns="446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rses also immoral or amoral at bes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ckens – Sairey Gamp – from Martin Chuzzlew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empt &amp; lampooning of traveling nurses &amp; midwi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osure of their cruelty &amp; drunkenness contributed to their demi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rence Nightengale – (1820-1910) – English nurse; Crimean W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blic health and formal training of nurs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gt;&gt; Founder of modern secular nursing.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mpeten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ter “Fifty Years” used by growing nursing prof in 19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ared Gamp (1838) to “modern” (1888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attractive, but pure; uniformed; intelligent; ca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demean the reputation of nurses without modern train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528E6-799F-41B3-B9E8-D688C421255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day: 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Too Live Nurse: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“medimusical”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rse Fanny Scratchit, RN, PhD, FAAN, FA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d of QA at Sarie Gamp’s Enema Cam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C295D-2D61-410A-97B3-2C40BFC3CB4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lso, positive image in art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he Doctor” – Samuel Luke Fildes – 1893 - His popular masterpiece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Grandmother progressive social activist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ower of art for morality and effect change in poverty, injustice, et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“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ocial realism” in art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nspired by death of Fildes’ eldest son who died Xmas morn 187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arm, dedicated care of Dr. Murray – little Rx for cure in 19</a:t>
            </a:r>
            <a:r>
              <a:rPr b="0" lang="en-US" sz="10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Very popular then and since.  Model of physician empathy and dedication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ildes: “To put on record the status of the doctor in our own time.”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“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t the cottage window the dawn begins to steal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–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he dawn that is the critical time of all deadly illnes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–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nd with it the parents again take hope into their hearts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he mother hiding her face to escape giving vent to her emotion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he father laying his hand on the shoulder of his wife in encourag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of the first glimmerings of the joy which is to follow.”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US and British postage stamp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olitical cartoons lampooned it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MA used it in a campaign against socialized medicine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nstancy; attends; compassion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A1229-9BB3-4606-BED1-2A247657B0D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914400" y="4414680"/>
            <a:ext cx="5029200" cy="4183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9640" rIns="89640" tIns="44640" bIns="446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ude Callen – 1951 – WE Smith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Lif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 ess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C midwife – set-up makeshift clinic/hosp in church; care for thousan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irred such sympathy - $18,500 donated for new clini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51699-F423-48CE-9B2C-44C4974D733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. Arrieta – ex voto ar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te in life, artist severely ill – attended by Dr.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inted as than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tist = de Goya – same who painted torture, war, MD as a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8E233-939F-471C-A7D7-90F788728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A5AEC-04F6-4B91-8D02-2C32B2F40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E1FBC-CF27-408B-B2DA-C99920714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2EE88-CE9E-4763-9A4C-0EEC7E140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BBA78-5C08-42B2-90F7-384C75961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2DCB9-A6FB-484A-BC21-60FCDFC18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4CA33-35BC-43B2-9D60-3CD80EC38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161B0-D110-4EE2-9F46-745E49BB2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B22CD-9FE4-4545-B918-BC9B173F6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5A6F4-C551-4192-9992-D1459DF82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3A88E-01F6-4482-AE92-105E80C6F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535A2-9480-47AB-AB01-967E0D2AE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3401B-2CDD-4CC7-954B-2CA6A5F42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0F125-E282-42AB-8AC1-D27DE147C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E40BA-9177-4D9A-9EC4-A6AC3DACD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FDEE4-7BE5-4B9C-9962-74C47EE87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D694A-F88A-4E86-B4B1-D4BD26D5D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70C61-47D7-4549-90DE-0A10C8D1D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14EC3-34F6-4174-AD88-3FC049A7E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9A2BA-8571-4711-81D0-495D0F658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41724-EC4D-413A-8B5D-8B3C2ADD4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7483D-4EE4-4B91-AF42-9724E628A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412C3-F72F-4FB3-AB8D-2D9A92E73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E4423-7633-4DAE-8185-41255525D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" name="Rectangle 35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" name="Rectangle 36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" name="Rectangle 37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" name="Rectangle 38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" name="Rectangle 39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" name="Rectangle 40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" name="Rectangle 41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" name="Rectangle 42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" name="Rectangle 43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" name="Rectangle 44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3" name="Rectangle 45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" name="Rectangle 46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" name="Rectangle 47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" name="Rectangle 48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Rectangle 49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Rectangle 50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9" name="Rectangle 51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" name="Rectangle 52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" name="Rectangle 53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3" name="Rectangle 55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4" name="Rectangle 56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5" name="Rectangle 57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6" name="Rectangle 58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7" name="Rectangle 59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8" name="Rectangle 60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9" name="Rectangle 61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0" name="Rectangle 62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" name="Rectangle 63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2" name="Rectangle 64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01374-B2EC-4BCF-9ABD-2897CE5180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2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Group 3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Rectangle 4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7" name="Rectangle 5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8" name="Rectangle 6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9" name="Rectangle 7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0" name="Rectangle 8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1" name="Rectangle 9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2" name="Rectangle 10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3" name="Rectangle 11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4" name="Rectangle 12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5" name="Rectangle 13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6" name="Rectangle 14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7" name="Rectangle 15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8" name="Rectangle 16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9" name="Rectangle 17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0" name="Rectangle 18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1" name="Rectangle 19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2" name="Rectangle 20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3" name="Rectangle 21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4" name="Rectangle 22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5" name="Rectangle 23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6" name="Rectangle 24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7" name="Rectangle 25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8" name="Rectangle 26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9" name="Rectangle 27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0" name="Rectangle 28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1" name="Rectangle 29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2" name="Rectangle 30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3" name="Rectangle 31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4" name="Rectangle 32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5" name="Rectangle 33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6" name="Rectangle 34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7" name="Rectangle 35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8" name="Rectangle 36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9" name="Rectangle 37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0" name="Rectangle 38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1" name="Rectangle 39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2" name="Rectangle 40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3" name="Rectangle 41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4" name="Rectangle 42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5" name="Rectangle 43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6" name="Rectangle 44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7" name="Rectangle 45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8" name="Rectangle 46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9" name="Rectangle 47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0" name="Rectangle 48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1" name="Rectangle 49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2" name="Rectangle 50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3" name="Rectangle 51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4" name="Rectangle 52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5" name="Rectangle 53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6" name="Rectangle 54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7" name="Rectangle 55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8" name="Rectangle 56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9" name="Rectangle 57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0" name="Rectangle 58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1" name="Rectangle 59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2" name="Rectangle 60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3" name="Rectangle 61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4" name="Rectangle 62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5" name="Rectangle 63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6" name="Rectangle 64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7" name="Rectangle 65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68" name="Rectangle 66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AD368-790E-4481-9020-A32304D0DD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0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21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2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3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4.png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5.png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6.png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21.png"/><Relationship Id="rId6" Type="http://schemas.openxmlformats.org/officeDocument/2006/relationships/oleObject" Target="../embeddings/oleObject2.bin"/><Relationship Id="rId7" Type="http://schemas.openxmlformats.org/officeDocument/2006/relationships/image" Target="../media/image25.png"/><Relationship Id="rId8" Type="http://schemas.openxmlformats.org/officeDocument/2006/relationships/oleObject" Target="../embeddings/oleObject3.bin"/><Relationship Id="rId9" Type="http://schemas.openxmlformats.org/officeDocument/2006/relationships/image" Target="../media/image20.png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24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image" Target="../media/image33.jpeg"/><Relationship Id="rId6" Type="http://schemas.openxmlformats.org/officeDocument/2006/relationships/image" Target="../media/image29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" Target="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62120" y="945720"/>
            <a:ext cx="8153280" cy="1249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Berlin Sans FB"/>
              </a:rPr>
              <a:t>Taking Suffering Seriously</a:t>
            </a:r>
            <a:br>
              <a:rPr sz="4400"/>
            </a:br>
            <a:r>
              <a:rPr b="0" i="1" lang="en-US" sz="3200" spc="-1" strike="noStrike">
                <a:solidFill>
                  <a:srgbClr val="003366"/>
                </a:solidFill>
                <a:latin typeface="Berlin Sans FB"/>
              </a:rPr>
              <a:t>Toward an Ethic of Compassion</a:t>
            </a:r>
            <a:endParaRPr b="0" lang="en-US" sz="32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8" name="Text Box 1027"/>
          <p:cNvSpPr/>
          <p:nvPr/>
        </p:nvSpPr>
        <p:spPr>
          <a:xfrm>
            <a:off x="990720" y="594360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Text Box 1028"/>
          <p:cNvSpPr/>
          <p:nvPr/>
        </p:nvSpPr>
        <p:spPr>
          <a:xfrm>
            <a:off x="4114800" y="3505320"/>
            <a:ext cx="4800600" cy="269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Jon Stanger, MD, MDiv, MH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thics Consultan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a Costa Regional Medical Cen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ssociate Clinical Professor, UC Davi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ssociate Faculty, Graduate Theological Union, Berkele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0" name="Picture 1030" descr="C:\Documents and Settings\jstanger\My Documents\Stanger Files\M E &amp; H\ME&amp;H Images\goya_dr_arrieta.jpg"/>
          <p:cNvPicPr/>
          <p:nvPr/>
        </p:nvPicPr>
        <p:blipFill>
          <a:blip r:embed="rId1"/>
          <a:stretch/>
        </p:blipFill>
        <p:spPr>
          <a:xfrm>
            <a:off x="1295280" y="3124080"/>
            <a:ext cx="2121120" cy="3219480"/>
          </a:xfrm>
          <a:prstGeom prst="rect">
            <a:avLst/>
          </a:prstGeom>
          <a:ln w="114480">
            <a:solidFill>
              <a:srgbClr val="3366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2" descr="Laennec without stethoscope - Chartran"/>
          <p:cNvPicPr/>
          <p:nvPr/>
        </p:nvPicPr>
        <p:blipFill>
          <a:blip r:embed="rId1"/>
          <a:stretch/>
        </p:blipFill>
        <p:spPr>
          <a:xfrm>
            <a:off x="5257800" y="2209680"/>
            <a:ext cx="2921040" cy="4118040"/>
          </a:xfrm>
          <a:prstGeom prst="rect">
            <a:avLst/>
          </a:prstGeom>
          <a:ln w="101520">
            <a:solidFill>
              <a:srgbClr val="000000"/>
            </a:solidFill>
            <a:miter/>
          </a:ln>
        </p:spPr>
      </p:pic>
      <p:pic>
        <p:nvPicPr>
          <p:cNvPr id="231" name="Picture 3" descr="LeeuwenhoekMicro1"/>
          <p:cNvPicPr/>
          <p:nvPr/>
        </p:nvPicPr>
        <p:blipFill>
          <a:blip r:embed="rId2"/>
          <a:stretch/>
        </p:blipFill>
        <p:spPr>
          <a:xfrm>
            <a:off x="1371600" y="609480"/>
            <a:ext cx="2847960" cy="426744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2" descr="TH Huxley, 1825-95"/>
          <p:cNvPicPr/>
          <p:nvPr/>
        </p:nvPicPr>
        <p:blipFill>
          <a:blip r:embed="rId1"/>
          <a:stretch/>
        </p:blipFill>
        <p:spPr>
          <a:xfrm>
            <a:off x="2378160" y="457200"/>
            <a:ext cx="4384440" cy="5943600"/>
          </a:xfrm>
          <a:prstGeom prst="rect">
            <a:avLst/>
          </a:prstGeom>
          <a:ln w="10152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2" descr="The Gross Clinic"/>
          <p:cNvPicPr/>
          <p:nvPr/>
        </p:nvPicPr>
        <p:blipFill>
          <a:blip r:embed="rId1"/>
          <a:stretch/>
        </p:blipFill>
        <p:spPr>
          <a:xfrm>
            <a:off x="2157480" y="457200"/>
            <a:ext cx="4829040" cy="5943600"/>
          </a:xfrm>
          <a:prstGeom prst="rect">
            <a:avLst/>
          </a:prstGeom>
          <a:ln w="114480">
            <a:solidFill>
              <a:srgbClr val="9a0000"/>
            </a:solidFill>
            <a:miter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Picture 2" descr="The Gross Clinic"/>
          <p:cNvPicPr/>
          <p:nvPr/>
        </p:nvPicPr>
        <p:blipFill>
          <a:blip r:embed="rId1"/>
          <a:stretch/>
        </p:blipFill>
        <p:spPr>
          <a:xfrm>
            <a:off x="4800600" y="2286000"/>
            <a:ext cx="3343320" cy="4114800"/>
          </a:xfrm>
          <a:prstGeom prst="rect">
            <a:avLst/>
          </a:prstGeom>
          <a:ln w="114480">
            <a:solidFill>
              <a:srgbClr val="000000"/>
            </a:solidFill>
            <a:miter/>
          </a:ln>
        </p:spPr>
      </p:pic>
      <p:pic>
        <p:nvPicPr>
          <p:cNvPr id="235" name="Picture 3" descr="TheDoctor-Fildes"/>
          <p:cNvPicPr/>
          <p:nvPr/>
        </p:nvPicPr>
        <p:blipFill>
          <a:blip r:embed="rId2"/>
          <a:stretch/>
        </p:blipFill>
        <p:spPr>
          <a:xfrm>
            <a:off x="1066680" y="685800"/>
            <a:ext cx="4267440" cy="2889360"/>
          </a:xfrm>
          <a:prstGeom prst="rect">
            <a:avLst/>
          </a:prstGeom>
          <a:ln w="1144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1026" descr="VesaliusFabricaMuscle"/>
          <p:cNvPicPr/>
          <p:nvPr/>
        </p:nvPicPr>
        <p:blipFill>
          <a:blip r:embed="rId1"/>
          <a:stretch/>
        </p:blipFill>
        <p:spPr>
          <a:xfrm>
            <a:off x="685800" y="380880"/>
            <a:ext cx="2050920" cy="3349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237" name="Picture 1027" descr="VesaliusMuscle3"/>
          <p:cNvPicPr/>
          <p:nvPr/>
        </p:nvPicPr>
        <p:blipFill>
          <a:blip r:embed="rId2"/>
          <a:stretch/>
        </p:blipFill>
        <p:spPr>
          <a:xfrm>
            <a:off x="3505320" y="1523880"/>
            <a:ext cx="1768320" cy="30448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238" name="Picture 1028" descr="VesaliusMuscle4"/>
          <p:cNvPicPr/>
          <p:nvPr/>
        </p:nvPicPr>
        <p:blipFill>
          <a:blip r:embed="rId3"/>
          <a:stretch/>
        </p:blipFill>
        <p:spPr>
          <a:xfrm>
            <a:off x="1676520" y="2819520"/>
            <a:ext cx="2181240" cy="36543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239" name="Picture 1029" descr="VesaliusFabricaSkeleton"/>
          <p:cNvPicPr/>
          <p:nvPr/>
        </p:nvPicPr>
        <p:blipFill>
          <a:blip r:embed="rId4"/>
          <a:stretch/>
        </p:blipFill>
        <p:spPr>
          <a:xfrm>
            <a:off x="5029200" y="380880"/>
            <a:ext cx="1857240" cy="31975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240" name="Picture 1030" descr="VesaliusMuscle2"/>
          <p:cNvPicPr/>
          <p:nvPr/>
        </p:nvPicPr>
        <p:blipFill>
          <a:blip r:embed="rId5"/>
          <a:stretch/>
        </p:blipFill>
        <p:spPr>
          <a:xfrm>
            <a:off x="6095880" y="2057400"/>
            <a:ext cx="2454480" cy="41115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1" name="Object 1024"/>
          <p:cNvGraphicFramePr/>
          <p:nvPr/>
        </p:nvGraphicFramePr>
        <p:xfrm>
          <a:off x="533520" y="4648320"/>
          <a:ext cx="2743200" cy="190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2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4648320"/>
                    <a:ext cx="2743200" cy="1904760"/>
                  </a:xfrm>
                  <a:prstGeom prst="rect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43" name="Object 1025"/>
          <p:cNvGraphicFramePr/>
          <p:nvPr/>
        </p:nvGraphicFramePr>
        <p:xfrm>
          <a:off x="3276720" y="304920"/>
          <a:ext cx="1923840" cy="1257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4" name="Object 102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76720" y="304920"/>
                    <a:ext cx="1923840" cy="1257120"/>
                  </a:xfrm>
                  <a:prstGeom prst="rect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45" name="Object 1026"/>
          <p:cNvGraphicFramePr/>
          <p:nvPr/>
        </p:nvGraphicFramePr>
        <p:xfrm>
          <a:off x="6858000" y="3124080"/>
          <a:ext cx="1390680" cy="714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46" name="Object 102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858000" y="3124080"/>
                    <a:ext cx="1390680" cy="714600"/>
                  </a:xfrm>
                  <a:prstGeom prst="rect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47" name="Object 1027"/>
          <p:cNvGraphicFramePr/>
          <p:nvPr/>
        </p:nvGraphicFramePr>
        <p:xfrm>
          <a:off x="4419720" y="1600200"/>
          <a:ext cx="1908000" cy="2523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48" name="Object 102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419720" y="1600200"/>
                    <a:ext cx="1908000" cy="2523960"/>
                  </a:xfrm>
                  <a:prstGeom prst="rect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49" name="Object 1028"/>
          <p:cNvGraphicFramePr/>
          <p:nvPr/>
        </p:nvGraphicFramePr>
        <p:xfrm>
          <a:off x="457200" y="380880"/>
          <a:ext cx="2104920" cy="29149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50" name="Object 102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57200" y="380880"/>
                    <a:ext cx="2104920" cy="2914920"/>
                  </a:xfrm>
                  <a:prstGeom prst="rect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51" name="Object 1029"/>
          <p:cNvGraphicFramePr/>
          <p:nvPr/>
        </p:nvGraphicFramePr>
        <p:xfrm>
          <a:off x="2362320" y="2209680"/>
          <a:ext cx="2381040" cy="29624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52" name="Object 102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62320" y="2209680"/>
                    <a:ext cx="2381040" cy="2962440"/>
                  </a:xfrm>
                  <a:prstGeom prst="rect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53" name="Object 1030"/>
          <p:cNvGraphicFramePr/>
          <p:nvPr/>
        </p:nvGraphicFramePr>
        <p:xfrm>
          <a:off x="6477120" y="4038480"/>
          <a:ext cx="2381040" cy="25052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54" name="Object 1030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477120" y="4038480"/>
                    <a:ext cx="2381040" cy="2505240"/>
                  </a:xfrm>
                  <a:prstGeom prst="rect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55" name="Object 1031"/>
          <p:cNvGraphicFramePr/>
          <p:nvPr/>
        </p:nvGraphicFramePr>
        <p:xfrm>
          <a:off x="6172200" y="228600"/>
          <a:ext cx="2381400" cy="25146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56" name="Object 1031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172200" y="228600"/>
                    <a:ext cx="2381400" cy="2514600"/>
                  </a:xfrm>
                  <a:prstGeom prst="rect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57" name="Object 1032"/>
          <p:cNvGraphicFramePr/>
          <p:nvPr/>
        </p:nvGraphicFramePr>
        <p:xfrm>
          <a:off x="4343400" y="4572000"/>
          <a:ext cx="1905120" cy="19717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58" name="Object 1032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4343400" y="4572000"/>
                    <a:ext cx="1905120" cy="1971720"/>
                  </a:xfrm>
                  <a:prstGeom prst="rect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Picture 2050" descr="VesaliusFabricaMuscle"/>
          <p:cNvPicPr/>
          <p:nvPr/>
        </p:nvPicPr>
        <p:blipFill>
          <a:blip r:embed="rId1"/>
          <a:stretch/>
        </p:blipFill>
        <p:spPr>
          <a:xfrm>
            <a:off x="609480" y="457200"/>
            <a:ext cx="1495440" cy="24415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260" name="Picture 2051" descr="VesaliusFabricaSkeleton"/>
          <p:cNvPicPr/>
          <p:nvPr/>
        </p:nvPicPr>
        <p:blipFill>
          <a:blip r:embed="rId2"/>
          <a:stretch/>
        </p:blipFill>
        <p:spPr>
          <a:xfrm>
            <a:off x="2187720" y="1603440"/>
            <a:ext cx="1768320" cy="30448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261" name="Picture 2052" descr="VesaliusMuscle2"/>
          <p:cNvPicPr/>
          <p:nvPr/>
        </p:nvPicPr>
        <p:blipFill>
          <a:blip r:embed="rId3"/>
          <a:stretch/>
        </p:blipFill>
        <p:spPr>
          <a:xfrm>
            <a:off x="1143000" y="3809880"/>
            <a:ext cx="1638360" cy="27464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graphicFrame>
        <p:nvGraphicFramePr>
          <p:cNvPr id="262" name="Object 2048"/>
          <p:cNvGraphicFramePr/>
          <p:nvPr/>
        </p:nvGraphicFramePr>
        <p:xfrm>
          <a:off x="4724280" y="1676520"/>
          <a:ext cx="1908360" cy="25239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63" name="Object 2048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724280" y="1676520"/>
                    <a:ext cx="1908360" cy="2523960"/>
                  </a:xfrm>
                  <a:prstGeom prst="rect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64" name="Object 2049"/>
          <p:cNvGraphicFramePr/>
          <p:nvPr/>
        </p:nvGraphicFramePr>
        <p:xfrm>
          <a:off x="6248520" y="380880"/>
          <a:ext cx="2381040" cy="2514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65" name="Object 2049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248520" y="380880"/>
                    <a:ext cx="2381040" cy="2514600"/>
                  </a:xfrm>
                  <a:prstGeom prst="rect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66" name="Object 2050"/>
          <p:cNvGraphicFramePr/>
          <p:nvPr/>
        </p:nvGraphicFramePr>
        <p:xfrm>
          <a:off x="6858000" y="3124080"/>
          <a:ext cx="1390680" cy="7146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67" name="Object 2050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6858000" y="3124080"/>
                    <a:ext cx="1390680" cy="714600"/>
                  </a:xfrm>
                  <a:prstGeom prst="rect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68" name="Object 2051"/>
          <p:cNvGraphicFramePr/>
          <p:nvPr/>
        </p:nvGraphicFramePr>
        <p:xfrm>
          <a:off x="5486400" y="3962520"/>
          <a:ext cx="2381400" cy="25048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69" name="Object 2051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5486400" y="3962520"/>
                    <a:ext cx="2381400" cy="2504880"/>
                  </a:xfrm>
                  <a:prstGeom prst="rect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1026" descr="Hunter, John (1728-1793) - 1786 Joshua Reynolds"/>
          <p:cNvPicPr/>
          <p:nvPr/>
        </p:nvPicPr>
        <p:blipFill>
          <a:blip r:embed="rId1"/>
          <a:stretch/>
        </p:blipFill>
        <p:spPr>
          <a:xfrm>
            <a:off x="2595600" y="609480"/>
            <a:ext cx="3952800" cy="5639040"/>
          </a:xfrm>
          <a:prstGeom prst="rect">
            <a:avLst/>
          </a:prstGeom>
          <a:ln w="10152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Picture 2" descr="AAOS-OrthopodSeriesII-DThanachanantMD"/>
          <p:cNvPicPr/>
          <p:nvPr/>
        </p:nvPicPr>
        <p:blipFill>
          <a:blip r:embed="rId1"/>
          <a:stretch/>
        </p:blipFill>
        <p:spPr>
          <a:xfrm>
            <a:off x="990720" y="958680"/>
            <a:ext cx="7162560" cy="49406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Picture 1026" descr="AAOS-HipBiomechanics-RWhitehillMD"/>
          <p:cNvPicPr/>
          <p:nvPr/>
        </p:nvPicPr>
        <p:blipFill>
          <a:blip r:embed="rId1"/>
          <a:stretch/>
        </p:blipFill>
        <p:spPr>
          <a:xfrm>
            <a:off x="2496960" y="533520"/>
            <a:ext cx="4150080" cy="579096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2" descr="Kathe Kollwitz - Woman with Dead Child - 1903"/>
          <p:cNvPicPr/>
          <p:nvPr/>
        </p:nvPicPr>
        <p:blipFill>
          <a:blip r:embed="rId1"/>
          <a:stretch/>
        </p:blipFill>
        <p:spPr>
          <a:xfrm>
            <a:off x="1752480" y="990720"/>
            <a:ext cx="5635800" cy="4914720"/>
          </a:xfrm>
          <a:prstGeom prst="rect">
            <a:avLst/>
          </a:prstGeom>
          <a:ln w="114480">
            <a:solidFill>
              <a:srgbClr val="9a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AAOS-JohnFortuneMD-TheSpineUnit"/>
          <p:cNvPicPr/>
          <p:nvPr/>
        </p:nvPicPr>
        <p:blipFill>
          <a:blip r:embed="rId1"/>
          <a:stretch/>
        </p:blipFill>
        <p:spPr>
          <a:xfrm>
            <a:off x="2657520" y="457200"/>
            <a:ext cx="3828960" cy="59436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Picture 2" descr="AAOS-SilenciososDeseos-NormaFavela"/>
          <p:cNvPicPr/>
          <p:nvPr/>
        </p:nvPicPr>
        <p:blipFill>
          <a:blip r:embed="rId1"/>
          <a:stretch/>
        </p:blipFill>
        <p:spPr>
          <a:xfrm>
            <a:off x="2411280" y="457200"/>
            <a:ext cx="432144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Picture 2" descr="AAOS-AsIAm-DanielleHosford"/>
          <p:cNvPicPr/>
          <p:nvPr/>
        </p:nvPicPr>
        <p:blipFill>
          <a:blip r:embed="rId1"/>
          <a:stretch/>
        </p:blipFill>
        <p:spPr>
          <a:xfrm>
            <a:off x="762120" y="519120"/>
            <a:ext cx="7619760" cy="581976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Picture 2" descr="AAOS-Boneless-DanKeplinger"/>
          <p:cNvPicPr/>
          <p:nvPr/>
        </p:nvPicPr>
        <p:blipFill>
          <a:blip r:embed="rId1"/>
          <a:stretch/>
        </p:blipFill>
        <p:spPr>
          <a:xfrm>
            <a:off x="762120" y="727200"/>
            <a:ext cx="7619760" cy="54036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1027" descr="AAOS-OrthopodSeriesII-DThanachanantMD"/>
          <p:cNvPicPr/>
          <p:nvPr/>
        </p:nvPicPr>
        <p:blipFill>
          <a:blip r:embed="rId1"/>
          <a:stretch/>
        </p:blipFill>
        <p:spPr>
          <a:xfrm>
            <a:off x="1752480" y="685800"/>
            <a:ext cx="2286000" cy="15778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278" name="Picture 1028" descr="AAOS-JohnFortuneMD-TheSpineUnit"/>
          <p:cNvPicPr/>
          <p:nvPr/>
        </p:nvPicPr>
        <p:blipFill>
          <a:blip r:embed="rId2"/>
          <a:stretch/>
        </p:blipFill>
        <p:spPr>
          <a:xfrm>
            <a:off x="2057400" y="3733920"/>
            <a:ext cx="1473120" cy="22860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279" name="Picture 1030" descr="AAOS-SilenciososDeseos-NormaFavela"/>
          <p:cNvPicPr/>
          <p:nvPr/>
        </p:nvPicPr>
        <p:blipFill>
          <a:blip r:embed="rId3"/>
          <a:stretch/>
        </p:blipFill>
        <p:spPr>
          <a:xfrm>
            <a:off x="5486400" y="380880"/>
            <a:ext cx="1771560" cy="243864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1031" descr="AAOS-AsIAm-DanielleHosford"/>
          <p:cNvPicPr/>
          <p:nvPr/>
        </p:nvPicPr>
        <p:blipFill>
          <a:blip r:embed="rId4"/>
          <a:stretch/>
        </p:blipFill>
        <p:spPr>
          <a:xfrm>
            <a:off x="6095880" y="2514600"/>
            <a:ext cx="2590920" cy="19782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281" name="Picture 1033" descr="AAOS-Boneless-DanKeplinger"/>
          <p:cNvPicPr/>
          <p:nvPr/>
        </p:nvPicPr>
        <p:blipFill>
          <a:blip r:embed="rId5"/>
          <a:stretch/>
        </p:blipFill>
        <p:spPr>
          <a:xfrm>
            <a:off x="5029200" y="4038480"/>
            <a:ext cx="2438280" cy="17305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282" name="Picture 1034" descr="AAOS-HipBiomechanics-RWhitehillMD"/>
          <p:cNvPicPr/>
          <p:nvPr/>
        </p:nvPicPr>
        <p:blipFill>
          <a:blip r:embed="rId6"/>
          <a:stretch/>
        </p:blipFill>
        <p:spPr>
          <a:xfrm>
            <a:off x="685800" y="2057400"/>
            <a:ext cx="1530360" cy="21337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2" descr="Science and charity 5"/>
          <p:cNvPicPr/>
          <p:nvPr/>
        </p:nvPicPr>
        <p:blipFill>
          <a:blip r:embed="rId1"/>
          <a:stretch/>
        </p:blipFill>
        <p:spPr>
          <a:xfrm>
            <a:off x="685800" y="385920"/>
            <a:ext cx="7772400" cy="6086160"/>
          </a:xfrm>
          <a:prstGeom prst="rect">
            <a:avLst/>
          </a:prstGeom>
          <a:ln w="10152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Picture 2" descr="Pain scale"/>
          <p:cNvPicPr/>
          <p:nvPr/>
        </p:nvPicPr>
        <p:blipFill>
          <a:blip r:embed="rId1"/>
          <a:stretch/>
        </p:blipFill>
        <p:spPr>
          <a:xfrm>
            <a:off x="2274840" y="380880"/>
            <a:ext cx="4594320" cy="60962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Picture 2050" descr="The Scream - Munch -1893"/>
          <p:cNvPicPr/>
          <p:nvPr/>
        </p:nvPicPr>
        <p:blipFill>
          <a:blip r:embed="rId1"/>
          <a:stretch/>
        </p:blipFill>
        <p:spPr>
          <a:xfrm>
            <a:off x="2219400" y="530280"/>
            <a:ext cx="4705200" cy="5794200"/>
          </a:xfrm>
          <a:prstGeom prst="rect">
            <a:avLst/>
          </a:prstGeom>
          <a:ln w="114480">
            <a:solidFill>
              <a:srgbClr val="000000"/>
            </a:solidFill>
            <a:miter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Picture 2" descr="Dementia self-portraits - W Utermohlen"/>
          <p:cNvPicPr/>
          <p:nvPr/>
        </p:nvPicPr>
        <p:blipFill>
          <a:blip r:embed="rId1"/>
          <a:stretch/>
        </p:blipFill>
        <p:spPr>
          <a:xfrm>
            <a:off x="2595600" y="304920"/>
            <a:ext cx="3949560" cy="6248160"/>
          </a:xfrm>
          <a:prstGeom prst="rect">
            <a:avLst/>
          </a:prstGeom>
          <a:ln w="1144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/>
          </p:nvPr>
        </p:nvSpPr>
        <p:spPr>
          <a:xfrm>
            <a:off x="2895480" y="1904760"/>
            <a:ext cx="41148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tten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Voi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mbra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uppor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Text Box 6"/>
          <p:cNvSpPr/>
          <p:nvPr/>
        </p:nvSpPr>
        <p:spPr>
          <a:xfrm>
            <a:off x="457200" y="914400"/>
            <a:ext cx="82296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Berlin Sans FB"/>
              </a:rPr>
              <a:t>A </a:t>
            </a:r>
            <a:r>
              <a:rPr b="0" i="1" lang="en-US" sz="3200" spc="-1" strike="noStrike" u="sng">
                <a:solidFill>
                  <a:srgbClr val="003366"/>
                </a:solidFill>
                <a:uFillTx/>
                <a:latin typeface="Berlin Sans FB"/>
              </a:rPr>
              <a:t>Discipline</a:t>
            </a:r>
            <a:r>
              <a:rPr b="0" lang="en-US" sz="3200" spc="-1" strike="noStrike" u="sng">
                <a:solidFill>
                  <a:srgbClr val="003366"/>
                </a:solidFill>
                <a:uFillTx/>
                <a:latin typeface="Berlin Sans FB"/>
              </a:rPr>
              <a:t> of Compass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Berlin Sans FB"/>
              </a:rPr>
              <a:t>“</a:t>
            </a:r>
            <a:r>
              <a:rPr b="0" lang="en-US" sz="3200" spc="-1" strike="noStrike">
                <a:solidFill>
                  <a:srgbClr val="003366"/>
                </a:solidFill>
                <a:latin typeface="Berlin Sans FB"/>
              </a:rPr>
              <a:t>S.A.V.E.S.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AutoShape 7">
            <a:hlinkClick r:id="" action="ppaction://hlinkshowjump?jump=nextslide"/>
          </p:cNvPr>
          <p:cNvSpPr/>
          <p:nvPr/>
        </p:nvSpPr>
        <p:spPr>
          <a:xfrm>
            <a:off x="7772400" y="3657600"/>
            <a:ext cx="1066680" cy="838080"/>
          </a:xfrm>
          <a:custGeom>
            <a:avLst/>
            <a:gdLst>
              <a:gd name="textAreaLeft" fmla="*/ 54000 w 1066680"/>
              <a:gd name="textAreaRight" fmla="*/ 1012680 w 10666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7489" h="21600">
                <a:moveTo>
                  <a:pt x="0" y="0"/>
                </a:moveTo>
                <a:lnTo>
                  <a:pt x="27489" y="0"/>
                </a:lnTo>
                <a:lnTo>
                  <a:pt x="27489" y="21600"/>
                </a:lnTo>
                <a:lnTo>
                  <a:pt x="0" y="21600"/>
                </a:lnTo>
                <a:close/>
              </a:path>
              <a:path fill="lightenLess" w="27489" h="21600">
                <a:moveTo>
                  <a:pt x="0" y="0"/>
                </a:moveTo>
                <a:lnTo>
                  <a:pt x="27489" y="0"/>
                </a:lnTo>
                <a:lnTo>
                  <a:pt x="26089" y="1400"/>
                </a:lnTo>
                <a:lnTo>
                  <a:pt x="1400" y="1400"/>
                </a:lnTo>
                <a:close/>
              </a:path>
              <a:path fill="darken" w="27489" h="21600">
                <a:moveTo>
                  <a:pt x="27489" y="0"/>
                </a:moveTo>
                <a:lnTo>
                  <a:pt x="27489" y="21600"/>
                </a:lnTo>
                <a:lnTo>
                  <a:pt x="26089" y="20200"/>
                </a:lnTo>
                <a:lnTo>
                  <a:pt x="26089" y="1400"/>
                </a:lnTo>
                <a:close/>
              </a:path>
              <a:path fill="darkenLess" w="27489" h="21600">
                <a:moveTo>
                  <a:pt x="274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089" y="20200"/>
                </a:lnTo>
                <a:close/>
              </a:path>
              <a:path fill="lighten" w="274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AutoShape 8">
            <a:hlinkClick r:id="rId1" action="ppaction://hlinksldjump"/>
          </p:cNvPr>
          <p:cNvSpPr/>
          <p:nvPr/>
        </p:nvSpPr>
        <p:spPr>
          <a:xfrm>
            <a:off x="7696080" y="5638680"/>
            <a:ext cx="1067040" cy="762120"/>
          </a:xfrm>
          <a:custGeom>
            <a:avLst/>
            <a:gdLst>
              <a:gd name="textAreaLeft" fmla="*/ 49320 w 1067040"/>
              <a:gd name="textAreaRight" fmla="*/ 1017720 w 10670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0238" h="21600">
                <a:moveTo>
                  <a:pt x="0" y="0"/>
                </a:moveTo>
                <a:lnTo>
                  <a:pt x="30238" y="0"/>
                </a:lnTo>
                <a:lnTo>
                  <a:pt x="30238" y="21600"/>
                </a:lnTo>
                <a:lnTo>
                  <a:pt x="0" y="21600"/>
                </a:lnTo>
                <a:close/>
              </a:path>
              <a:path fill="lightenLess" w="30238" h="21600">
                <a:moveTo>
                  <a:pt x="0" y="0"/>
                </a:moveTo>
                <a:lnTo>
                  <a:pt x="30238" y="0"/>
                </a:lnTo>
                <a:lnTo>
                  <a:pt x="28838" y="1400"/>
                </a:lnTo>
                <a:lnTo>
                  <a:pt x="1400" y="1400"/>
                </a:lnTo>
                <a:close/>
              </a:path>
              <a:path fill="darken" w="30238" h="21600">
                <a:moveTo>
                  <a:pt x="30238" y="0"/>
                </a:moveTo>
                <a:lnTo>
                  <a:pt x="30238" y="21600"/>
                </a:lnTo>
                <a:lnTo>
                  <a:pt x="28838" y="20200"/>
                </a:lnTo>
                <a:lnTo>
                  <a:pt x="28838" y="1400"/>
                </a:lnTo>
                <a:close/>
              </a:path>
              <a:path fill="darkenLess" w="30238" h="21600">
                <a:moveTo>
                  <a:pt x="302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38" y="20200"/>
                </a:lnTo>
                <a:close/>
              </a:path>
              <a:path fill="lighten" w="302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1026" descr="Goya-engraving1799-Donkey as doctor"/>
          <p:cNvPicPr/>
          <p:nvPr/>
        </p:nvPicPr>
        <p:blipFill>
          <a:blip r:embed="rId1"/>
          <a:stretch/>
        </p:blipFill>
        <p:spPr>
          <a:xfrm>
            <a:off x="2427120" y="380880"/>
            <a:ext cx="4289760" cy="6096240"/>
          </a:xfrm>
          <a:prstGeom prst="rect">
            <a:avLst/>
          </a:prstGeom>
          <a:ln w="10152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Picture 2" descr="C:\Documents and Settings\jstanger\My Documents\Stanger Files\M E &amp; H\ME&amp;H Images\Monet ca 1923.jpg"/>
          <p:cNvPicPr/>
          <p:nvPr/>
        </p:nvPicPr>
        <p:blipFill>
          <a:blip r:embed="rId1"/>
          <a:stretch/>
        </p:blipFill>
        <p:spPr>
          <a:xfrm>
            <a:off x="2567160" y="606600"/>
            <a:ext cx="4009680" cy="564192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Picture 2" descr="C:\Documents and Settings\jstanger\My Documents\Stanger Files\M E &amp; H\ME&amp;H Images\Monet-Venice.jpg"/>
          <p:cNvPicPr/>
          <p:nvPr/>
        </p:nvPicPr>
        <p:blipFill>
          <a:blip r:embed="rId1"/>
          <a:stretch/>
        </p:blipFill>
        <p:spPr>
          <a:xfrm>
            <a:off x="1447920" y="917640"/>
            <a:ext cx="6248160" cy="502272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293" name="AutoShape 3">
            <a:hlinkClick r:id="rId2" action="ppaction://hlinksldjump"/>
          </p:cNvPr>
          <p:cNvSpPr/>
          <p:nvPr/>
        </p:nvSpPr>
        <p:spPr>
          <a:xfrm>
            <a:off x="228600" y="5867280"/>
            <a:ext cx="990720" cy="762120"/>
          </a:xfrm>
          <a:custGeom>
            <a:avLst/>
            <a:gdLst>
              <a:gd name="textAreaLeft" fmla="*/ 49320 w 990720"/>
              <a:gd name="textAreaRight" fmla="*/ 941400 w 9907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8076" h="21600">
                <a:moveTo>
                  <a:pt x="0" y="0"/>
                </a:moveTo>
                <a:lnTo>
                  <a:pt x="28076" y="0"/>
                </a:lnTo>
                <a:lnTo>
                  <a:pt x="28076" y="21600"/>
                </a:lnTo>
                <a:lnTo>
                  <a:pt x="0" y="21600"/>
                </a:lnTo>
                <a:close/>
              </a:path>
              <a:path fill="lightenLess" w="28076" h="21600">
                <a:moveTo>
                  <a:pt x="0" y="0"/>
                </a:moveTo>
                <a:lnTo>
                  <a:pt x="28076" y="0"/>
                </a:lnTo>
                <a:lnTo>
                  <a:pt x="26676" y="1400"/>
                </a:lnTo>
                <a:lnTo>
                  <a:pt x="1400" y="1400"/>
                </a:lnTo>
                <a:close/>
              </a:path>
              <a:path fill="darken" w="28076" h="21600">
                <a:moveTo>
                  <a:pt x="28076" y="0"/>
                </a:moveTo>
                <a:lnTo>
                  <a:pt x="28076" y="21600"/>
                </a:lnTo>
                <a:lnTo>
                  <a:pt x="26676" y="20200"/>
                </a:lnTo>
                <a:lnTo>
                  <a:pt x="26676" y="1400"/>
                </a:lnTo>
                <a:close/>
              </a:path>
              <a:path fill="darkenLess" w="28076" h="21600">
                <a:moveTo>
                  <a:pt x="280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676" y="20200"/>
                </a:lnTo>
                <a:close/>
              </a:path>
              <a:path fill="lighten" w="280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Picture 2" descr="good_samaritan, Bassano, 1563"/>
          <p:cNvPicPr/>
          <p:nvPr/>
        </p:nvPicPr>
        <p:blipFill>
          <a:blip r:embed="rId1"/>
          <a:stretch/>
        </p:blipFill>
        <p:spPr>
          <a:xfrm>
            <a:off x="2343240" y="380880"/>
            <a:ext cx="4454280" cy="6096240"/>
          </a:xfrm>
          <a:prstGeom prst="rect">
            <a:avLst/>
          </a:prstGeom>
          <a:ln w="1144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Text Box 2"/>
          <p:cNvSpPr/>
          <p:nvPr/>
        </p:nvSpPr>
        <p:spPr>
          <a:xfrm>
            <a:off x="1143000" y="609480"/>
            <a:ext cx="693432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t is difficul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o get the news from poems,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yet men die miserably every day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or lack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f what is found there.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Text Box 3"/>
          <p:cNvSpPr/>
          <p:nvPr/>
        </p:nvSpPr>
        <p:spPr>
          <a:xfrm>
            <a:off x="2824560" y="5638680"/>
            <a:ext cx="530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--  William Carlos William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Picture 3" descr="child_dog"/>
          <p:cNvPicPr/>
          <p:nvPr/>
        </p:nvPicPr>
        <p:blipFill>
          <a:blip r:embed="rId1"/>
          <a:stretch/>
        </p:blipFill>
        <p:spPr>
          <a:xfrm>
            <a:off x="2971800" y="1143000"/>
            <a:ext cx="3149640" cy="4724280"/>
          </a:xfrm>
          <a:prstGeom prst="rect">
            <a:avLst/>
          </a:prstGeom>
          <a:ln w="114480">
            <a:solidFill>
              <a:srgbClr val="9a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2050" descr="MDcaricatureRowlandson1800"/>
          <p:cNvPicPr/>
          <p:nvPr/>
        </p:nvPicPr>
        <p:blipFill>
          <a:blip r:embed="rId1"/>
          <a:stretch/>
        </p:blipFill>
        <p:spPr>
          <a:xfrm>
            <a:off x="2428920" y="399960"/>
            <a:ext cx="4286160" cy="6058080"/>
          </a:xfrm>
          <a:prstGeom prst="rect">
            <a:avLst/>
          </a:prstGeom>
          <a:ln w="10152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1026" descr="Sariey Gamp - Dickens"/>
          <p:cNvPicPr/>
          <p:nvPr/>
        </p:nvPicPr>
        <p:blipFill>
          <a:blip r:embed="rId1"/>
          <a:stretch/>
        </p:blipFill>
        <p:spPr>
          <a:xfrm>
            <a:off x="2695680" y="457200"/>
            <a:ext cx="3749400" cy="5943600"/>
          </a:xfrm>
          <a:prstGeom prst="rect">
            <a:avLst/>
          </a:prstGeom>
          <a:ln w="10152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3" descr="C:\Documents and Settings\jstanger\My Documents\Stanger Files\M E &amp; H\ME&amp;H Images\Fanny+Scratchit_jpg_files\Fanny Scratchit.jpg"/>
          <p:cNvPicPr/>
          <p:nvPr/>
        </p:nvPicPr>
        <p:blipFill>
          <a:blip r:embed="rId1"/>
          <a:stretch/>
        </p:blipFill>
        <p:spPr>
          <a:xfrm>
            <a:off x="2057400" y="533520"/>
            <a:ext cx="5029200" cy="5029200"/>
          </a:xfrm>
          <a:prstGeom prst="rect">
            <a:avLst/>
          </a:prstGeom>
          <a:ln w="114480">
            <a:solidFill>
              <a:srgbClr val="000000"/>
            </a:solidFill>
            <a:miter/>
          </a:ln>
        </p:spPr>
      </p:pic>
      <p:sp>
        <p:nvSpPr>
          <p:cNvPr id="226" name="Text Box 4"/>
          <p:cNvSpPr/>
          <p:nvPr/>
        </p:nvSpPr>
        <p:spPr>
          <a:xfrm>
            <a:off x="1584360" y="5791320"/>
            <a:ext cx="6244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anny Scratchit, RN, PhD, FAAN, FAAR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rector of QI – Sairey Gamp Enema Camp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2050" descr="TheDoctor-Fildes"/>
          <p:cNvPicPr/>
          <p:nvPr/>
        </p:nvPicPr>
        <p:blipFill>
          <a:blip r:embed="rId1"/>
          <a:stretch/>
        </p:blipFill>
        <p:spPr>
          <a:xfrm>
            <a:off x="533520" y="693720"/>
            <a:ext cx="8076960" cy="5470560"/>
          </a:xfrm>
          <a:prstGeom prst="rect">
            <a:avLst/>
          </a:prstGeom>
          <a:ln w="1144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2050" descr="Mause Callen -12-3-1951 - WE Smith - Life"/>
          <p:cNvPicPr/>
          <p:nvPr/>
        </p:nvPicPr>
        <p:blipFill>
          <a:blip r:embed="rId1"/>
          <a:stretch/>
        </p:blipFill>
        <p:spPr>
          <a:xfrm>
            <a:off x="2174760" y="457200"/>
            <a:ext cx="4794480" cy="5943600"/>
          </a:xfrm>
          <a:prstGeom prst="rect">
            <a:avLst/>
          </a:prstGeom>
          <a:ln w="10152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2" descr="goya_dr_arrieta"/>
          <p:cNvPicPr/>
          <p:nvPr/>
        </p:nvPicPr>
        <p:blipFill>
          <a:blip r:embed="rId1"/>
          <a:stretch/>
        </p:blipFill>
        <p:spPr>
          <a:xfrm>
            <a:off x="2743200" y="609480"/>
            <a:ext cx="3727440" cy="5658120"/>
          </a:xfrm>
          <a:prstGeom prst="rect">
            <a:avLst/>
          </a:prstGeom>
          <a:ln w="114480">
            <a:solidFill>
              <a:srgbClr val="9a0000"/>
            </a:solidFill>
            <a:miter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4T15:50:55Z</dcterms:created>
  <dc:creator>HCMARTINEZ</dc:creator>
  <dc:description/>
  <dc:language>en-US</dc:language>
  <cp:lastModifiedBy>HCMARTINEZ</cp:lastModifiedBy>
  <dcterms:modified xsi:type="dcterms:W3CDTF">2009-11-05T19:52:18Z</dcterms:modified>
  <cp:revision>103</cp:revision>
  <dc:subject/>
  <dc:title>Crisis in Health Care!!! -- Ethical Considerations --</dc:title>
</cp:coreProperties>
</file>