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4.jpeg" ContentType="image/jpeg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210-CB29-4324-994B-E536B89E3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B4AE-A86B-42A6-86AD-628A954F77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 study – “I never really saw his suffe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91E-364A-4317-A312-8EE7F2CB91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ongside/competing with HCP virtues –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emphasis on competence as scient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cop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600 microscope constructed by 3 Dutch spectacle-mak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 Leeuwenhoek – discovered RBCs, gout crystals,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c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arious fluids (bacteria, protozoa, human s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nked Aristotelian-Galenic ideas of gener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of disease growing – anatomico-pathological basis rather than humoral balan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diagnosis.  “Death the essence of medical inquiry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cault:  “regard” of medicine shifted to cadaver-based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artran, xxxx.  Laennec examining patient.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tethoscop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in left ha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ennec invention (1819) – overweight, young, female patient – idea of rolled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thoscope resisted by some within medical profession for 2 reas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)  Distancing from pati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)  Too much information – know when terminal – rather n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medicine – PE must correlate with pathology; PE&gt;&gt;histor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ly, clinical observation restricted to externals and dx reliant on pt hx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disease and examination neglec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dx had to correlate with pathology on postmor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could bypass unreliable pt hx – objective observa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me symbol of the new, scientific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0A7-0DC0-4F67-86D0-91072F57C4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st focus 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biopathophysio 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&gt; by implication, “care” model unnecessary, even obstru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(1825-95) – popular moral philos +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ere 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= medical science =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AF68-8AEE-49E2-9560-6F00296326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e of US’s most influential &amp; distinguished surgeons, anatomists, teac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own for his lectures, calm judgment, surgical skill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portrait of Gross, age 70, in his clini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oic work exalting American progress and excell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phitheater clinic; Dr. Gross – light on head. – Patient drap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s explains procedure – removal of infected bone from thigh of pt (draped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esthesia over head.  4 assistan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ly mother – shielding face in horror – not absorbed in technical procedu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udents watch.  Eakins writes/draw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day celebrated as one of greatest medical history painting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through medical scientist and biopathophysio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pistemology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– “knowing” the illness (“Womens’ Ways of Knowing” – Belenky et 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e” model – scientific / dis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parate” knowing – universal / objective / pt = HB / control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e” model – suffering / ill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nected” knowledge – particular/subjective/pt = unique/value vari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8C35-8014-4C42-A20A-AADE73CCC0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re Fildes’ physician to Dr. Gros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-  Care  &gt;&gt; Cure mod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are shallow animal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ving always employed their minds about Body and G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y imagine that in the whole system of th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ere is nothing but Gut and Bod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muel Taylor Coleridge (on doctors, 179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The “teacher”??? – Competent, but compass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Gross Clinic” – Thomas Eakins – 1875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kins was student in anatomy and surgical lectures of Dr. Samuel Gross – one of US’s most influential and distinguished surgeons, anatomists, teachers – known for his lectures, calm judgment, surgical skil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portrait of Gross, age 70, in his clinic.  Heroic work exalting American progress and excellence.  Amphitheater clinic; Dr. Gross – light on head. – Patient draped. Gross explains procedure – removal of infected bone from thigh of pt (draped)- only leg and buttock exposed.  Anesthesia over head.  4 assistants.  Only mother – veiled, shielding face in horror – not absorbed in technical procedure.  Students watch.  Eakins writes/dra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igned at the time as too realistic, disturbing.  Today celebrated as one of greatest medical history painting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re “heroic” = detached, distant, professorial anatom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 of new science of Galileo and Newton + uncertainty of any universal “good” (modern subjectivism and relativism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&gt; medicine threw out Aristotle’s concern with final causes (telos) – just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 material and efficient causes and reap the rewa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 ethics no longer dealt with ultimate goals or purposes to guide –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opathophysio mod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rn codes of med ethics continued virtues and duties (esp etiquette and polit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t no more “transcendent elements of moral philosophy and religio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ilosophy now irreleva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nished from med ed curriculu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mas Henry Huxley – popular moral philosopher and promoter of Darwi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Hopkins opening (1876): Medicine = “a branch of experimental physiology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naugural address at Sir Josiah Mason’s Science College of Birmingham – w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nders grant stated “classics may not be taught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 of competence” became #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FC8-33FF-4BEC-84DF-3099EB12B6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n see evolution of this division between care vs cure / connected vs separate know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ok at Vesalius anatomy drawings (1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) - Fab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n  --  born 129 CE in Pergamon (now Turkey, part of Greek-speaking empire).  Father visited in dream by Asclepius – steered son to medicine.  Physician to the gladiators – learned much of anatomy and surgery.  To Rome where public anatomical displays – fame.  Party tricks severing nerves in neck of pig, til stopped squeeling (laryngeal nerve).  Became physician to senators and emperors.  Dissected animals, but not humans – knew little of internal human anatomy.  Conjectures on anatomy of internal organs to support his (Plato, Aristotle) teleological philosophy – inaccuraci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alius  --  (1514-64)  Born in Brussels.  Human dissections (executed criminals) revealed errors of Galen.  Systematic drawings of human anatomy based upon human dissections.  1539 – his masterpiece,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umani corporis fabrica (Fabrica).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st (van Calcar) used graceful, lifelike poses.  Cover of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ca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daver in center, skeleton pointing into abdomen, Veslius looking out as if extending invitation to anatomy.  Importance – showing Galen might actually be wrong – direct observation, fact finding, truth testing &gt; reverence for authority; anatomy key to medicine.  (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ps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personal observation.)  The cadaver as the central figure of the new medicin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Servetus (1511-1553) story shows crossroads of the new observation-based search for truth and traditional authority.  Challenge to Galenic physiology.  Galen had said pulmonary transit of blood to mix air with blood – based upon large size of pulmonary artery from dissections and Biblical teaching that blood = seat of soul and soul was breathed into man &gt;&gt; there must be contact point between air and blood.  This theory published in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toration of 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challenged the Roman Church doctrine of the Trinity (based on close reading of Scripture).  His views didn’t influence as all his books burnt with him for heres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5 incident at Padua:  Falloppia dissections, corrections to Veslius.  University authorities wanted old style teaching by reading classical works and theoretical anatomy lectures by senior professor.  Students chanted “we want Falloppia” – new observation-based anatomy took ove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ccepted into learned medicine – foundation of medicine based upon observation.  Successes of anatomical medicine swept aside old dogma (that only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ilosophy, never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cience could be the foundation of medici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s as public events at carnivals, etc – Rembrandt’s “The Anatomy Lesson of Dr. Nicholas Tulp” (1632).  Anatomy as publicly accepted window into the human condition (Porter, p. 186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, pt as anatomical specimen not completely separated from pt as person (seen her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AF7-6EBC-4B5D-B5D7-1488B55ABD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natomy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FC58-A340-41DF-AD45-C8721AB363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ion of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vs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vs no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erson vs org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vs univ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stemology diverging – separate knowing &gt; connected kn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disease cure model &gt; suffering care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98D-72AF-4BD1-807A-4D6720AFC0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 John Hunter (1728-1793)  -  by Sir Joshua Reynolds – in R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yed every year at convention – father figure for modern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nsion/ambivalence of the physician-scient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surgeon / advocate of rigorous scientific experimentation in 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ing / transpl teeth / Inflammation / GSWs / VD (self-inn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ist/naturalist – home c 14,000 specimens of &gt; 500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ft 2” Charles Byrne – dying – wanted skeleton – fled/purs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rgue – tension betw caring and competence:  sep vs conn kn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5598-8E40-484B-ABAC-BDB5EDEB28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OS – 4/2000 – an exhibit or ortho i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to artists who had ortho problems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l their sto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o ortho surgeons to illustrate their profess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elings about the MD-pt 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a difference in pts li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 of healing and compa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pod Series II: Protusio Acetabuli” – Dumronk Thanachanant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…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at he enjoys most is ‘the need for an artist’s skill and a scientist’s vision.’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s series was inspired by ‘those pieces of bone which I have been engaged with throughout my life.’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DD62-0351-4B00-814A-C4F4523830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Whitehill, MD  -  “Hip Biomechanic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nterest in art began over a decade ago when he was watching the construction of a new hospital and was intrigued by the welding of steel girders…  This piece represents the hip joint during walk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AF7-162B-482F-9F1E-E7AA8ADA21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ics of Compassion – spend more tim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the Kollwitz – Woman with Dead Chi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67 – 1945 Germ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ried to MD who cared for po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lieved art should reflect social conditions of time – war, poverty,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n, Peter, (inspiration for much of her work) – died age 18 in 1914 W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**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arliest W medicine – before RX – healing through the relation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virtues of the he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till important – esp chronic dis / extremes of life – difficult eth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but undervalued – much needed and w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“com – passion” – to be with suff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233-04D2-4751-A4F7-7B7A80C90D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e Unit” – John Fortune,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octor] looks to represent the physician relationship through his works of ar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3486-3638-4BAB-AA86-709AB0D242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i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 Favela  -  “Silenciosos Dese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age of 12, she was in a tragic accident causing severe damage to her left leg.  21 operations were performed over 20 years to save her leg.  She uses her body as inspiration for her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D81D-629C-42F6-94E0-EDB4BD0EED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I Am” – Danielle Hos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13 – leg amputated due to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elf-portrait, age 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rait is how I wish many people would see me, and how I see myself.  Many people still seem to struggle to accept me as I am.  I still have a leg; it’s just made of meta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01EA-5C4D-4AB1-A3DC-50C30EDA81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less” – Dan Kepl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th cerebral palsy – paints with brush in head g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Oscar-winning HBO documentary “King Gimp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self-por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spee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oul spoke through my art, and for the first time the world heard my v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2E63-D394-41F0-93F2-1361BE8D3B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            Whol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arts            Life experience (values, emotions, pa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 c dis      Person c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”  vs  “Connected”  ways of knowing (epistemolo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009-8849-47D4-ADD9-31A427FBA3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 not some mythical “caring”, but cure + 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h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asso 1897 (age 16; Barcelona School of Fine Arts – gold med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gorical painting inspired by death of his s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D, taking pulse +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n nurse, offering soup and holding child = ch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not to decrease science but to include compa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D54-1482-42B4-8642-C976D2A8E5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 &gt; get a number &gt; give medicine &gt; reduc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to recognize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ne – post-op – “What number do I need to say to get some pain medicine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bureaucratize/technologize compassion – pain 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eaucratic tenesmu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reminded of Dead Poets’ Society – Robin Willi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Evans Pritchard – “Understanding Poetr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“perfection” on x and “importance” on y 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area = “great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eating:  “Tear out the page – we’re not laying pipe her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F4C-5786-4F44-9F4D-68AECBF34D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ven if important – ? too fuzz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n-sentimental; discipline of compass –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take suffering seriously!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eyond slogans – “the secret of care of pt is caring for pt” (Peabody–NEJ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 “bedside manner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known and can be taught – not in med tex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dvard Munch – 1893 – “The Scream” or “The Cry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sychic agony – isolation (note two “friends”); anguis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enomenology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 / &gt; Pain / Fear / Loss / Isolation / Alone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dy as alien / Individual meaning 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 for s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ories of Suffering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eparation, iso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shattered ident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disrupted life narr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 as loss of mean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ges of Suffering (Soelle </a:t>
            </a: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Reich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u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pressive (lament / anger / questioning / re-stor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form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6ECD-3EF6-47EF-A416-A37C41561D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theories and insights – emphasize the experience of suffering to the individ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William Utermohlen self-portraits over time (ages 60 – 66) as his Alzheimer’s progressed.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ution of the “sel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69B-3F07-4668-AE35-B68D3B5687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= Acknowledge:  “Patient” = from “suffering”.  Overcome apath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sciousness of disease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l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erience suffering - Chekhov (50% suffering for med studen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ttend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“Compassion” = “to be with suffering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 with”.  Not alone!  (During mut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Waiting”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Voice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courage voice / LISTEN  -  (During expressive s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-story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aling” = “to make whole again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to understand patient’s experience.  (Dx and Prog)  Empathy (Oliver Sak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sten – don’t let paternalism assume -&gt; Monet’s cataracts (“Monet Refuses the Operation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ivate an interest in uncovering the meaning of our patients’ illnes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CW likened this to “uncovering metal from ore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mbra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counter otherness of exclusion/alien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uch (Lewis Thomas – healing power of touch).  Nurses – ma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mor (Cousins)    Sydenham – “The arrival of a clown has a greater beneficial influ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n the health of a town than 20 asses laden with drugs.”  “Hum-ility” – down to eart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tual and ceremony – meaningful pattern; embrace in healing tradition/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Yeshi Dhonde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sonalism” </a:t>
            </a: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pt as organism = generic H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n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arrative h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rricu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ime &amp; $$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25D-291C-4699-84CD-BC722BE748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c has always seen compassion as part of good HCP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flected in art – lampooned when abs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e.g. Moliere’s pl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ere, Francisco de Goya, 1799, “De que mal morira?” (Of what illness will he die?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empt for physicians – depicts doctor as ass at the bedsid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oya savaged the pretensions and vices of the medical pro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heme of inhumanity of man in a world consumed by ha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 &gt;&gt; abuse and cruelty; battlefields; tortu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5BA9-DC39-4612-96AC-5DF588AFE1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1923 – age 83 – right eye cata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ly able to pa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ry, frust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3CB-6DFD-42F7-A1CE-E41BDCA486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(1840-1926)  Venice Twilight (19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modern medical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t – cata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fused surgery (fear + poem – his world 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id have surgery  but  must enter patient’s world to know the “goo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(Monet disgusted by his paint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ernment of patient’s good = #1 task of post-paternalism med et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ethical puzzles, = telos of physic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750-207A-483D-9D5C-9A54F35870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Samaritan”  Bassano (156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le of Good Sam (Lk 10:29-37)–selfless care for those most in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alien, the enem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 Experiment (19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0 -  2 grps – GS sermon / job ser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fered assistance – no diffs in the two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y up, you’re late” – 10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urry up – 63% 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mat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F0CB-355F-4CB2-846F-6418080A64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ffering – is it the job of medicin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ts want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tter medicine (trust &gt; better h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plies when can’t cure – chronic, disabled, end-of-lif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(pts, profs, huma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 studies – most important to my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yond trite phrases – “Art of medicine”  “Treat the whole patient”  “Pt-centered care”  “Holistic medicin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cret of the care of the patient is in caring for the patient.” (Peabody JAMA 1927)  “I like peopl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 will argue –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is our job / can know / can help / important to do 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2F8-EFEC-41E8-838A-42EFB57AF2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ering is not a problem to be solved, but a human reality to be shared.” (David Sm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” + “pass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y – child’s lost d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1937-B2BA-4C2F-91C9-5403BF6D83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Dispatch or Doctor Doubledose Killing Two Birds with One Sto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Rowlandson – ca. 18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of satire and caricature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as quacks, drunks, body snatchers, and money grub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AB15-D4A7-42B4-A48D-26E4CD8E30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s also immoral or amoral at b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ens – Sairey Gamp – from Martin Chuzzlew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t &amp; lampooning of traveling nurses &amp; midw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sure of their cruelty &amp; drunkenness contributed to their dem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rence Nightengale – (1820-1910) – English nurse; Crimean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health and formal training of nur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 Founder of modern secular nursing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 “Fifty Years” used by growing nursing prof in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Gamp (1838) to “modern” (188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tractive, but pure; uniformed; intelligent; c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mean the reputation of nurses without modern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85E-9235-4D9B-BF9E-2A222EF1E8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oo Live Nurse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medimusica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se Fanny Scratchit, RN, PhD, FAAN, FA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of QA at Sarie Gamp’s Enema C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2BFC-A0BF-4BA9-B7BF-7DD96D3CB7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so, positive image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octor” – Samuel Luke Fildes – 1893 - His popular masterpie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andmother progressive social activi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 of art for morality and effect change in poverty, injustic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cial realism” in 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ired by death of Fildes’ eldest son who died Xmas morn 18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m, dedicated care of Dr. Murray – little Rx for cure in 1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ery popular then and since.  Model of physician empathy and dedic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des: “To put on record the status of the doctor in our own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 the cottage window the dawn begins to steal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dawn that is the critical time of all deadly ill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with it the parents again take hope into their heart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mother hiding her face to escape giving vent to her emo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father laying his hand on the shoulder of his wife in encour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the first glimmerings of the joy which is to follow.”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 and British postage stam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 cartoons lampooned 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A used it in a campaign against socialized medic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ancy; attends; compas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D13-D25B-4CA8-B201-F7C3E3AD83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de Callen – 1951 – WE Smit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midwife – set-up makeshift clinic/hosp in church; care for thous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rred such sympathy - $18,500 donated for new cli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8F04-9553-4095-B55A-E50A1DC725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Arrieta – ex voto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in life, artist severely ill – attended by Dr.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ed as th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 = de Goya – same who painted torture, war, MD as 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56E-AB67-43FB-B189-CB262DD6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2D2-C59A-4BE4-8421-A2F87DFB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6DF-BD45-42E0-AAE3-3636EFEE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B0A-6055-41D6-9114-E3F90985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CF5-4CBD-4405-9423-189D3635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FA04-ABF2-4B87-BFB1-BD3F93CA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8239-FE01-4BE5-80AB-680E11E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FE6-A07A-4906-9EAE-24817CBE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DF7E-72A3-4BBA-B65A-9677170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BD9-3F66-4C90-8E2F-E08C491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992A-1136-430D-8E33-C8D4CA75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496-8379-43CA-B959-C3F677F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52B0-28AC-4333-B5D1-D10C6306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7EC2-24A6-4E22-BA67-7AEA9F19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A27B-BD2B-4056-8725-AE46DB36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9EB-340D-4A64-821D-B5B630B8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ED9A-8C7C-4744-8E24-B8A8C7D0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CC2-C6C3-4436-B414-5A04E12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6D4-7E73-43A3-933B-7CE2811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250-6A67-490F-A762-EB8AE78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478-AD89-4967-B313-D1DAC91D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D49-28ED-48CA-A459-90E61C7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681B-DDE1-4E74-B656-701B9A8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BE6-4561-4D8C-B5C8-B3E23B10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8BC-CC3F-4863-ACF8-13886DD2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2F1E-B0FA-48C7-9461-8240B53E4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945720"/>
            <a:ext cx="81532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Berlin Sans FB"/>
              </a:rPr>
              <a:t>Taking Suffering Seriously</a:t>
            </a:r>
            <a:br>
              <a:rPr sz="4400"/>
            </a:br>
            <a:r>
              <a:rPr b="0" i="1" lang="en-US" sz="3200" spc="-1" strike="noStrike">
                <a:solidFill>
                  <a:srgbClr val="003366"/>
                </a:solidFill>
                <a:latin typeface="Berlin Sans FB"/>
              </a:rPr>
              <a:t>Toward an Ethic of Compassio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1027"/>
          <p:cNvSpPr/>
          <p:nvPr/>
        </p:nvSpPr>
        <p:spPr>
          <a:xfrm>
            <a:off x="990720" y="59436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028"/>
          <p:cNvSpPr/>
          <p:nvPr/>
        </p:nvSpPr>
        <p:spPr>
          <a:xfrm>
            <a:off x="4114800" y="3505320"/>
            <a:ext cx="480060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on Stanger, MD, MDiv, MH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hics Consul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 Costa Regional Medical Ce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Clinical Professor, UC Dav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ociate Faculty, Graduate Theological Union, Berkele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1030" descr="C:\Documents and Settings\jstanger\My Documents\Stanger Files\M E &amp; H\ME&amp;H Images\goya_dr_arrieta.jpg"/>
          <p:cNvPicPr/>
          <p:nvPr/>
        </p:nvPicPr>
        <p:blipFill>
          <a:blip r:embed="rId1"/>
          <a:stretch/>
        </p:blipFill>
        <p:spPr>
          <a:xfrm>
            <a:off x="1295280" y="3124080"/>
            <a:ext cx="2121120" cy="3219480"/>
          </a:xfrm>
          <a:prstGeom prst="rect">
            <a:avLst/>
          </a:prstGeom>
          <a:ln w="114480">
            <a:solidFill>
              <a:srgbClr val="33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Laennec without stethoscope - Chartran"/>
          <p:cNvPicPr/>
          <p:nvPr/>
        </p:nvPicPr>
        <p:blipFill>
          <a:blip r:embed="rId1"/>
          <a:stretch/>
        </p:blipFill>
        <p:spPr>
          <a:xfrm>
            <a:off x="5257800" y="2209680"/>
            <a:ext cx="2921040" cy="4118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  <p:pic>
        <p:nvPicPr>
          <p:cNvPr id="231" name="Picture 3" descr="LeeuwenhoekMicro1"/>
          <p:cNvPicPr/>
          <p:nvPr/>
        </p:nvPicPr>
        <p:blipFill>
          <a:blip r:embed="rId2"/>
          <a:stretch/>
        </p:blipFill>
        <p:spPr>
          <a:xfrm>
            <a:off x="1371600" y="609480"/>
            <a:ext cx="2847960" cy="4267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TH Huxley, 1825-95"/>
          <p:cNvPicPr/>
          <p:nvPr/>
        </p:nvPicPr>
        <p:blipFill>
          <a:blip r:embed="rId1"/>
          <a:stretch/>
        </p:blipFill>
        <p:spPr>
          <a:xfrm>
            <a:off x="2378160" y="457200"/>
            <a:ext cx="438444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The Gross Clinic"/>
          <p:cNvPicPr/>
          <p:nvPr/>
        </p:nvPicPr>
        <p:blipFill>
          <a:blip r:embed="rId1"/>
          <a:stretch/>
        </p:blipFill>
        <p:spPr>
          <a:xfrm>
            <a:off x="2157480" y="457200"/>
            <a:ext cx="4829040" cy="594360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The Gross Clinic"/>
          <p:cNvPicPr/>
          <p:nvPr/>
        </p:nvPicPr>
        <p:blipFill>
          <a:blip r:embed="rId1"/>
          <a:stretch/>
        </p:blipFill>
        <p:spPr>
          <a:xfrm>
            <a:off x="4800600" y="2286000"/>
            <a:ext cx="3343320" cy="41148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pic>
        <p:nvPicPr>
          <p:cNvPr id="235" name="Picture 3" descr="TheDoctor-Fildes"/>
          <p:cNvPicPr/>
          <p:nvPr/>
        </p:nvPicPr>
        <p:blipFill>
          <a:blip r:embed="rId2"/>
          <a:stretch/>
        </p:blipFill>
        <p:spPr>
          <a:xfrm>
            <a:off x="1066680" y="685800"/>
            <a:ext cx="4267440" cy="28893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26" descr="VesaliusFabricaMuscle"/>
          <p:cNvPicPr/>
          <p:nvPr/>
        </p:nvPicPr>
        <p:blipFill>
          <a:blip r:embed="rId1"/>
          <a:stretch/>
        </p:blipFill>
        <p:spPr>
          <a:xfrm>
            <a:off x="685800" y="380880"/>
            <a:ext cx="205092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Picture 1027" descr="VesaliusMuscle3"/>
          <p:cNvPicPr/>
          <p:nvPr/>
        </p:nvPicPr>
        <p:blipFill>
          <a:blip r:embed="rId2"/>
          <a:stretch/>
        </p:blipFill>
        <p:spPr>
          <a:xfrm>
            <a:off x="3505320" y="152388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1028" descr="VesaliusMuscle4"/>
          <p:cNvPicPr/>
          <p:nvPr/>
        </p:nvPicPr>
        <p:blipFill>
          <a:blip r:embed="rId3"/>
          <a:stretch/>
        </p:blipFill>
        <p:spPr>
          <a:xfrm>
            <a:off x="1676520" y="2819520"/>
            <a:ext cx="218124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1029" descr="VesaliusFabricaSkeleton"/>
          <p:cNvPicPr/>
          <p:nvPr/>
        </p:nvPicPr>
        <p:blipFill>
          <a:blip r:embed="rId4"/>
          <a:stretch/>
        </p:blipFill>
        <p:spPr>
          <a:xfrm>
            <a:off x="5029200" y="380880"/>
            <a:ext cx="185724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0" name="Picture 1030" descr="VesaliusMuscle2"/>
          <p:cNvPicPr/>
          <p:nvPr/>
        </p:nvPicPr>
        <p:blipFill>
          <a:blip r:embed="rId5"/>
          <a:stretch/>
        </p:blipFill>
        <p:spPr>
          <a:xfrm>
            <a:off x="6095880" y="2057400"/>
            <a:ext cx="2454480" cy="41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1024"/>
          <p:cNvGraphicFramePr/>
          <p:nvPr/>
        </p:nvGraphicFramePr>
        <p:xfrm>
          <a:off x="533520" y="4648320"/>
          <a:ext cx="27432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2743200" cy="19047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Object 1025"/>
          <p:cNvGraphicFramePr/>
          <p:nvPr/>
        </p:nvGraphicFramePr>
        <p:xfrm>
          <a:off x="3276720" y="304920"/>
          <a:ext cx="192384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920"/>
                    <a:ext cx="1923840" cy="125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5" name="Object 1026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7" name="Object 1027"/>
          <p:cNvGraphicFramePr/>
          <p:nvPr/>
        </p:nvGraphicFramePr>
        <p:xfrm>
          <a:off x="4419720" y="1600200"/>
          <a:ext cx="1908000" cy="25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600200"/>
                    <a:ext cx="190800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9" name="Object 1028"/>
          <p:cNvGraphicFramePr/>
          <p:nvPr/>
        </p:nvGraphicFramePr>
        <p:xfrm>
          <a:off x="457200" y="380880"/>
          <a:ext cx="2104920" cy="291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80880"/>
                    <a:ext cx="2104920" cy="29149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1" name="Object 1029"/>
          <p:cNvGraphicFramePr/>
          <p:nvPr/>
        </p:nvGraphicFramePr>
        <p:xfrm>
          <a:off x="2362320" y="2209680"/>
          <a:ext cx="2381040" cy="296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2209680"/>
                    <a:ext cx="2381040" cy="29624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1030"/>
          <p:cNvGraphicFramePr/>
          <p:nvPr/>
        </p:nvGraphicFramePr>
        <p:xfrm>
          <a:off x="6477120" y="4038480"/>
          <a:ext cx="2381040" cy="250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038480"/>
                    <a:ext cx="2381040" cy="25052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1031"/>
          <p:cNvGraphicFramePr/>
          <p:nvPr/>
        </p:nvGraphicFramePr>
        <p:xfrm>
          <a:off x="6172200" y="228600"/>
          <a:ext cx="2381400" cy="251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6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28600"/>
                    <a:ext cx="238140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1032"/>
          <p:cNvGraphicFramePr/>
          <p:nvPr/>
        </p:nvGraphicFramePr>
        <p:xfrm>
          <a:off x="4343400" y="4572000"/>
          <a:ext cx="1905120" cy="197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572000"/>
                    <a:ext cx="1905120" cy="1971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50" descr="VesaliusFabricaMuscle"/>
          <p:cNvPicPr/>
          <p:nvPr/>
        </p:nvPicPr>
        <p:blipFill>
          <a:blip r:embed="rId1"/>
          <a:stretch/>
        </p:blipFill>
        <p:spPr>
          <a:xfrm>
            <a:off x="609480" y="457200"/>
            <a:ext cx="1495440" cy="244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0" name="Picture 2051" descr="VesaliusFabricaSkeleton"/>
          <p:cNvPicPr/>
          <p:nvPr/>
        </p:nvPicPr>
        <p:blipFill>
          <a:blip r:embed="rId2"/>
          <a:stretch/>
        </p:blipFill>
        <p:spPr>
          <a:xfrm>
            <a:off x="2187720" y="1603440"/>
            <a:ext cx="176832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61" name="Picture 2052" descr="VesaliusMuscle2"/>
          <p:cNvPicPr/>
          <p:nvPr/>
        </p:nvPicPr>
        <p:blipFill>
          <a:blip r:embed="rId3"/>
          <a:stretch/>
        </p:blipFill>
        <p:spPr>
          <a:xfrm>
            <a:off x="1143000" y="3809880"/>
            <a:ext cx="1638360" cy="2746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62" name="Object 2048"/>
          <p:cNvGraphicFramePr/>
          <p:nvPr/>
        </p:nvGraphicFramePr>
        <p:xfrm>
          <a:off x="4724280" y="1676520"/>
          <a:ext cx="1908360" cy="25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20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676520"/>
                    <a:ext cx="1908360" cy="2523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4" name="Object 2049"/>
          <p:cNvGraphicFramePr/>
          <p:nvPr/>
        </p:nvGraphicFramePr>
        <p:xfrm>
          <a:off x="6248520" y="380880"/>
          <a:ext cx="2381040" cy="25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Object 204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80880"/>
                    <a:ext cx="2381040" cy="25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6" name="Object 2050"/>
          <p:cNvGraphicFramePr/>
          <p:nvPr/>
        </p:nvGraphicFramePr>
        <p:xfrm>
          <a:off x="6858000" y="3124080"/>
          <a:ext cx="1390680" cy="714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Object 20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0" y="3124080"/>
                    <a:ext cx="1390680" cy="7146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8" name="Object 2051"/>
          <p:cNvGraphicFramePr/>
          <p:nvPr/>
        </p:nvGraphicFramePr>
        <p:xfrm>
          <a:off x="5486400" y="3962520"/>
          <a:ext cx="2381400" cy="2504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Object 205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86400" y="3962520"/>
                    <a:ext cx="2381400" cy="25048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unter, John (1728-1793) - 1786 Joshua Reynolds"/>
          <p:cNvPicPr/>
          <p:nvPr/>
        </p:nvPicPr>
        <p:blipFill>
          <a:blip r:embed="rId1"/>
          <a:stretch/>
        </p:blipFill>
        <p:spPr>
          <a:xfrm>
            <a:off x="2595600" y="609480"/>
            <a:ext cx="3952800" cy="56390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AOS-OrthopodSeriesII-DThanachanantMD"/>
          <p:cNvPicPr/>
          <p:nvPr/>
        </p:nvPicPr>
        <p:blipFill>
          <a:blip r:embed="rId1"/>
          <a:stretch/>
        </p:blipFill>
        <p:spPr>
          <a:xfrm>
            <a:off x="990720" y="958680"/>
            <a:ext cx="7162560" cy="494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026" descr="AAOS-HipBiomechanics-RWhitehillMD"/>
          <p:cNvPicPr/>
          <p:nvPr/>
        </p:nvPicPr>
        <p:blipFill>
          <a:blip r:embed="rId1"/>
          <a:stretch/>
        </p:blipFill>
        <p:spPr>
          <a:xfrm>
            <a:off x="2496960" y="533520"/>
            <a:ext cx="4150080" cy="5790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Kathe Kollwitz - Woman with Dead Child - 1903"/>
          <p:cNvPicPr/>
          <p:nvPr/>
        </p:nvPicPr>
        <p:blipFill>
          <a:blip r:embed="rId1"/>
          <a:stretch/>
        </p:blipFill>
        <p:spPr>
          <a:xfrm>
            <a:off x="1752480" y="990720"/>
            <a:ext cx="5635800" cy="49147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AAOS-JohnFortuneMD-TheSpineUnit"/>
          <p:cNvPicPr/>
          <p:nvPr/>
        </p:nvPicPr>
        <p:blipFill>
          <a:blip r:embed="rId1"/>
          <a:stretch/>
        </p:blipFill>
        <p:spPr>
          <a:xfrm>
            <a:off x="2657520" y="457200"/>
            <a:ext cx="3828960" cy="594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AAOS-SilenciososDeseos-NormaFavela"/>
          <p:cNvPicPr/>
          <p:nvPr/>
        </p:nvPicPr>
        <p:blipFill>
          <a:blip r:embed="rId1"/>
          <a:stretch/>
        </p:blipFill>
        <p:spPr>
          <a:xfrm>
            <a:off x="2411280" y="457200"/>
            <a:ext cx="43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AAOS-AsIAm-DanielleHosford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AOS-Boneless-DanKeplinger"/>
          <p:cNvPicPr/>
          <p:nvPr/>
        </p:nvPicPr>
        <p:blipFill>
          <a:blip r:embed="rId1"/>
          <a:stretch/>
        </p:blipFill>
        <p:spPr>
          <a:xfrm>
            <a:off x="762120" y="727200"/>
            <a:ext cx="7619760" cy="54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27" descr="AAOS-OrthopodSeriesII-DThanachanantMD"/>
          <p:cNvPicPr/>
          <p:nvPr/>
        </p:nvPicPr>
        <p:blipFill>
          <a:blip r:embed="rId1"/>
          <a:stretch/>
        </p:blipFill>
        <p:spPr>
          <a:xfrm>
            <a:off x="1752480" y="685800"/>
            <a:ext cx="2286000" cy="1577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8" name="Picture 1028" descr="AAOS-JohnFortuneMD-TheSpineUnit"/>
          <p:cNvPicPr/>
          <p:nvPr/>
        </p:nvPicPr>
        <p:blipFill>
          <a:blip r:embed="rId2"/>
          <a:stretch/>
        </p:blipFill>
        <p:spPr>
          <a:xfrm>
            <a:off x="2057400" y="3733920"/>
            <a:ext cx="1473120" cy="228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9" name="Picture 1030" descr="AAOS-SilenciososDeseos-NormaFavela"/>
          <p:cNvPicPr/>
          <p:nvPr/>
        </p:nvPicPr>
        <p:blipFill>
          <a:blip r:embed="rId3"/>
          <a:stretch/>
        </p:blipFill>
        <p:spPr>
          <a:xfrm>
            <a:off x="5486400" y="380880"/>
            <a:ext cx="1771560" cy="2438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1" descr="AAOS-AsIAm-DanielleHosford"/>
          <p:cNvPicPr/>
          <p:nvPr/>
        </p:nvPicPr>
        <p:blipFill>
          <a:blip r:embed="rId4"/>
          <a:stretch/>
        </p:blipFill>
        <p:spPr>
          <a:xfrm>
            <a:off x="6095880" y="2514600"/>
            <a:ext cx="259092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1" name="Picture 1033" descr="AAOS-Boneless-DanKeplinger"/>
          <p:cNvPicPr/>
          <p:nvPr/>
        </p:nvPicPr>
        <p:blipFill>
          <a:blip r:embed="rId5"/>
          <a:stretch/>
        </p:blipFill>
        <p:spPr>
          <a:xfrm>
            <a:off x="5029200" y="4038480"/>
            <a:ext cx="2438280" cy="1730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Picture 1034" descr="AAOS-HipBiomechanics-RWhitehillMD"/>
          <p:cNvPicPr/>
          <p:nvPr/>
        </p:nvPicPr>
        <p:blipFill>
          <a:blip r:embed="rId6"/>
          <a:stretch/>
        </p:blipFill>
        <p:spPr>
          <a:xfrm>
            <a:off x="685800" y="2057400"/>
            <a:ext cx="1530360" cy="2133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cience and charity 5"/>
          <p:cNvPicPr/>
          <p:nvPr/>
        </p:nvPicPr>
        <p:blipFill>
          <a:blip r:embed="rId1"/>
          <a:stretch/>
        </p:blipFill>
        <p:spPr>
          <a:xfrm>
            <a:off x="685800" y="385920"/>
            <a:ext cx="7772400" cy="608616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Pain scale"/>
          <p:cNvPicPr/>
          <p:nvPr/>
        </p:nvPicPr>
        <p:blipFill>
          <a:blip r:embed="rId1"/>
          <a:stretch/>
        </p:blipFill>
        <p:spPr>
          <a:xfrm>
            <a:off x="2274840" y="380880"/>
            <a:ext cx="4594320" cy="609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050" descr="The Scream - Munch -1893"/>
          <p:cNvPicPr/>
          <p:nvPr/>
        </p:nvPicPr>
        <p:blipFill>
          <a:blip r:embed="rId1"/>
          <a:stretch/>
        </p:blipFill>
        <p:spPr>
          <a:xfrm>
            <a:off x="2219400" y="530280"/>
            <a:ext cx="4705200" cy="5794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ementia self-portraits - W Utermohlen"/>
          <p:cNvPicPr/>
          <p:nvPr/>
        </p:nvPicPr>
        <p:blipFill>
          <a:blip r:embed="rId1"/>
          <a:stretch/>
        </p:blipFill>
        <p:spPr>
          <a:xfrm>
            <a:off x="2595600" y="304920"/>
            <a:ext cx="3949560" cy="62481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895480" y="19047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br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57200" y="9144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A </a:t>
            </a:r>
            <a:r>
              <a:rPr b="0" i="1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Discipline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Berlin Sans FB"/>
              </a:rPr>
              <a:t> of Compa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Berlin Sans FB"/>
              </a:rPr>
              <a:t>S.A.V.E.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7">
            <a:hlinkClick r:id="" action="ppaction://hlinkshowjump?jump=nextslide"/>
          </p:cNvPr>
          <p:cNvSpPr/>
          <p:nvPr/>
        </p:nvSpPr>
        <p:spPr>
          <a:xfrm>
            <a:off x="7772400" y="36576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8">
            <a:hlinkClick r:id="rId1" action="ppaction://hlinksldjump"/>
          </p:cNvPr>
          <p:cNvSpPr/>
          <p:nvPr/>
        </p:nvSpPr>
        <p:spPr>
          <a:xfrm>
            <a:off x="7696080" y="56386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026" descr="Goya-engraving1799-Donkey as doctor"/>
          <p:cNvPicPr/>
          <p:nvPr/>
        </p:nvPicPr>
        <p:blipFill>
          <a:blip r:embed="rId1"/>
          <a:stretch/>
        </p:blipFill>
        <p:spPr>
          <a:xfrm>
            <a:off x="2427120" y="380880"/>
            <a:ext cx="4289760" cy="609624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jstanger\My Documents\Stanger Files\M E &amp; H\ME&amp;H Images\Monet ca 1923.jpg"/>
          <p:cNvPicPr/>
          <p:nvPr/>
        </p:nvPicPr>
        <p:blipFill>
          <a:blip r:embed="rId1"/>
          <a:stretch/>
        </p:blipFill>
        <p:spPr>
          <a:xfrm>
            <a:off x="2567160" y="606600"/>
            <a:ext cx="4009680" cy="564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jstanger\My Documents\Stanger Files\M E &amp; H\ME&amp;H Images\Monet-Venice.jpg"/>
          <p:cNvPicPr/>
          <p:nvPr/>
        </p:nvPicPr>
        <p:blipFill>
          <a:blip r:embed="rId1"/>
          <a:stretch/>
        </p:blipFill>
        <p:spPr>
          <a:xfrm>
            <a:off x="1447920" y="917640"/>
            <a:ext cx="6248160" cy="5022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3" name="AutoShape 3">
            <a:hlinkClick r:id="rId2" action="ppaction://hlinksldjump"/>
          </p:cNvPr>
          <p:cNvSpPr/>
          <p:nvPr/>
        </p:nvSpPr>
        <p:spPr>
          <a:xfrm>
            <a:off x="22860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good_samaritan, Bassano, 1563"/>
          <p:cNvPicPr/>
          <p:nvPr/>
        </p:nvPicPr>
        <p:blipFill>
          <a:blip r:embed="rId1"/>
          <a:stretch/>
        </p:blipFill>
        <p:spPr>
          <a:xfrm>
            <a:off x="2343240" y="380880"/>
            <a:ext cx="4454280" cy="60962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43000" y="609480"/>
            <a:ext cx="6934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get the news from poems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t men die miserably every d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what is found t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824560" y="56386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  William Carlos Willi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ild_dog"/>
          <p:cNvPicPr/>
          <p:nvPr/>
        </p:nvPicPr>
        <p:blipFill>
          <a:blip r:embed="rId1"/>
          <a:stretch/>
        </p:blipFill>
        <p:spPr>
          <a:xfrm>
            <a:off x="2971800" y="1143000"/>
            <a:ext cx="3149640" cy="472428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50" descr="MDcaricatureRowlandson1800"/>
          <p:cNvPicPr/>
          <p:nvPr/>
        </p:nvPicPr>
        <p:blipFill>
          <a:blip r:embed="rId1"/>
          <a:stretch/>
        </p:blipFill>
        <p:spPr>
          <a:xfrm>
            <a:off x="2428920" y="399960"/>
            <a:ext cx="4286160" cy="605808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026" descr="Sariey Gamp - Dickens"/>
          <p:cNvPicPr/>
          <p:nvPr/>
        </p:nvPicPr>
        <p:blipFill>
          <a:blip r:embed="rId1"/>
          <a:stretch/>
        </p:blipFill>
        <p:spPr>
          <a:xfrm>
            <a:off x="2695680" y="457200"/>
            <a:ext cx="374940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C:\Documents and Settings\jstanger\My Documents\Stanger Files\M E &amp; H\ME&amp;H Images\Fanny+Scratchit_jpg_files\Fanny Scratchit.jpg"/>
          <p:cNvPicPr/>
          <p:nvPr/>
        </p:nvPicPr>
        <p:blipFill>
          <a:blip r:embed="rId1"/>
          <a:stretch/>
        </p:blipFill>
        <p:spPr>
          <a:xfrm>
            <a:off x="2057400" y="533520"/>
            <a:ext cx="5029200" cy="50292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226" name="Text Box 4"/>
          <p:cNvSpPr/>
          <p:nvPr/>
        </p:nvSpPr>
        <p:spPr>
          <a:xfrm>
            <a:off x="1584360" y="5791320"/>
            <a:ext cx="62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nny Scratchit, RN, PhD, FAAN, FA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 of QI – Sairey Gamp Enema C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050" descr="TheDoctor-Fildes"/>
          <p:cNvPicPr/>
          <p:nvPr/>
        </p:nvPicPr>
        <p:blipFill>
          <a:blip r:embed="rId1"/>
          <a:stretch/>
        </p:blipFill>
        <p:spPr>
          <a:xfrm>
            <a:off x="533520" y="693720"/>
            <a:ext cx="8076960" cy="54705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50" descr="Mause Callen -12-3-1951 - WE Smith - Life"/>
          <p:cNvPicPr/>
          <p:nvPr/>
        </p:nvPicPr>
        <p:blipFill>
          <a:blip r:embed="rId1"/>
          <a:stretch/>
        </p:blipFill>
        <p:spPr>
          <a:xfrm>
            <a:off x="2174760" y="457200"/>
            <a:ext cx="4794480" cy="5943600"/>
          </a:xfrm>
          <a:prstGeom prst="rect">
            <a:avLst/>
          </a:prstGeom>
          <a:ln w="101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goya_dr_arrieta"/>
          <p:cNvPicPr/>
          <p:nvPr/>
        </p:nvPicPr>
        <p:blipFill>
          <a:blip r:embed="rId1"/>
          <a:stretch/>
        </p:blipFill>
        <p:spPr>
          <a:xfrm>
            <a:off x="2743200" y="609480"/>
            <a:ext cx="3727440" cy="5658120"/>
          </a:xfrm>
          <a:prstGeom prst="rect">
            <a:avLst/>
          </a:prstGeom>
          <a:ln w="114480">
            <a:solidFill>
              <a:srgbClr val="9a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5:50:55Z</dcterms:created>
  <dc:creator>HCMARTINEZ</dc:creator>
  <dc:description/>
  <dc:language>en-US</dc:language>
  <cp:lastModifiedBy>HCMARTINEZ</cp:lastModifiedBy>
  <dcterms:modified xsi:type="dcterms:W3CDTF">2009-11-05T19:52:18Z</dcterms:modified>
  <cp:revision>103</cp:revision>
  <dc:subject/>
  <dc:title>Crisis in Health Care!!! -- Ethical Considerations --</dc:title>
</cp:coreProperties>
</file>