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4.jpeg" ContentType="image/jpe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AF78-805B-48C2-B612-3533A8DD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DA64-EA4A-4DF3-B2B8-1A607D88D9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study – “I never really saw his suffer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DFFD-48BA-4D98-A01E-2A692D72F4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ongside/competing with HCP virtues –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mphasis on competence as scient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600 microscope constructed by 3 Dutch spectacle-mak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Leeuwenhoek – discovered RBCs, gout crystals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c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arious fluids (bacteria, protozoa, human s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nked Aristotelian-Galenic ideas of gen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of disease growing – anatomico-pathological basis rather than humoral bal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diagnosis.  “Death the essence of medical inqui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cault:  “regard” of medicine shifted to cadaver-bas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rtran, xxxx.  Laennec examining patient.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tethosco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in left ha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ennec invention (1819) – overweight, young, female patient – idea of rolled pa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ethoscope resisted by some within medical profession for 2 reas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)  Distancing from pat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)  Too much information – know when terminal – rather n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 medicine – PE must correlate with pathology; PE&gt;&gt;histo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, clinical observation restricted to externals and dx reliant on pt h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isease and examination negle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x had to correlate with pathology on postmor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could bypass unreliable pt hx – objective observa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me symbol of the new, scientific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1CDD-2421-4048-AE60-AF9BB4E0FA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st focus 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biopathophysio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&gt; by implication, “care” model unnecessary, even obstruc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(1825-95) – popular moral philos +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= medical science =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624-D782-4CAC-849A-CEB56D3AF3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of US’s most influential &amp; distinguished surgeons, anatomists, teac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own for his lectures, calm judgment, surgical skill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portrait of Gross, age 70, in his clini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oic work exalting American progress and excell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phitheater clinic; Dr. Gross – light on head. – Patient drap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s explains procedure – removal of infected bone from thigh of pt (draped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esthesia over head.  4 assista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ly mother – shielding face in horror – not absorbed in technical proced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watch.  Eakins writes/draw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day celebrated as one of greatest medical history painting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through medical scientist and biopathophysio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– “knowing” the illness (“Womens’ Ways of Knowing” – Belenky et 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e” model – scientific / dis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parate” knowing – universal / objective / pt = HB / control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e” model – suffering / ill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nected” knowledge – particular/subjective/pt = unique/value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8BDE-332B-4EA7-B2A1-17F50394A9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re Fildes’ physician to Dr. Gros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-  Care  &gt;&gt; Cure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are shallow animal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ving always employed their minds about Body and G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imagine that in the whole system of th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re is nothing but Gut and Bod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uel Taylor Coleridge (on doctors, 179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he “teacher”??? – Competent, but compass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 – one of US’s most influential and distinguished surgeons, anatomists, teachers – known for his lectures, calm judgment, surgical ski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portrait of Gross, age 70, in his clinic.  Heroic work exalting American progress and excellence.  Amphitheater clinic; Dr. Gross – light on head. – Patient draped. Gross explains procedure – removal of infected bone from thigh of pt (draped)- only leg and buttock exposed.  Anesthesia over head.  4 assistants.  Only mother – veiled, shielding face in horror – not absorbed in technical procedure.  Students watch.  Eakins writes/dra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  Today celebrated as one of greatest medical history painting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 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 – just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opathophysio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– popular moral philosopher and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 – w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became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5067-3CB5-4675-A165-31856BA48B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see evolution of this division between care vs cure / connected vs separate know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ok at Vesalius anatomy drawings (1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) - Fabr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n  --  born 129 CE in Pergamon (now Turkey, part of Greek-speaking empire).  Father visited in dream by Asclepius – steered son to medicine.  Physician to the gladiators – learned much of anatomy and surgery.  To Rome where public anatomical displays – fame.  Party tricks severing nerves in neck of pig, til stopped squeeling (laryngeal nerve).  Became physician to senators and emperors.  Dissected animals, but not humans – knew little of internal human anatomy.  Conjectures on anatomy of internal organs to support his (Plato, Aristotle) teleological philosophy – inaccurac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alius  --  (1514-64)  Born in Brussels.  Human dissections (executed criminals) revealed errors of Galen.  Systematic drawings of human anatomy based upon human dissections.  1539 – his masterpiec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umani corporis fabrica (Fabrica).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st (van Calcar) used graceful, lifelike poses.  Cover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daver in center, skeleton pointing into abdomen, Veslius looking out as if extending invitation to anatomy.  Importance – showing Galen might actually be wrong – direct observation, fact finding, truth testing &gt; reverence for authority; anatomy key to medicine.  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ps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personal observation.)  The cadaver as the central figure of the new medic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Servetus (1511-1553) story shows crossroads of the new observation-based search for truth and traditional authority.  Challenge to Galenic physiology.  Galen had said pulmonary transit of blood to mix air with blood – based upon large size of pulmonary artery from dissections and Biblical teaching that blood = seat of soul and soul was breathed into man &gt;&gt; there must be contact point between air and blood.  This theory published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toration of Christia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hallenged the Roman Church doctrine of the Trinity (based on close reading of Scripture).  His views didn’t influence as all his books burnt with him for heres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 incident at Padua:  Falloppia dissections, corrections to Veslius.  University authorities wanted old style teaching by reading classical works and theoretical anatomy lectures by senior professor.  Students chanted “we want Falloppia” – new observation-based anatomy took ov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ccepted into learned medicine – foundation of medicine based upon observation.  Successes of anatomical medicine swept aside old dogma (that onl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ilosophy, nev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cience could be the foundation of medicin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s as public events at carnivals, etc – Rembrandt’s “The Anatomy Lesson of Dr. Nicholas Tulp” (1632).  Anatomy as publicly accepted window into the human condition (Porter, p. 186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 pt as anatomical specimen not completely separated from pt as person (seen her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F07A-F6BA-4CE9-89A0-74DB524E82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anatomy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5A75-BCA5-4FDE-9712-F76CE587EC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on of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vs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vs no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erson vs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vs uni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stemology diverging – separate knowing &gt; connected kn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disease cure model &gt; suffering care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EA73-2C7C-44C5-A576-6E690B6786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 John Hunter (1728-1793)  -  by Sir Joshua Reynolds – in 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ed every year at convention – father figure for modern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nsion/ambivalence of the physician-scient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surgeon / advocate of rigorous scientific experimentation in 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ing / transpl teeth / Inflammation / GSWs / VD (self-inn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ist/naturalist – home c 14,000 specimens of &gt; 500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ft 2” Charles Byrne – dying – wanted skeleton – fled/purs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rgue – tension betw caring and competence:  sep vs conn kn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3D0D-39D4-45C3-BAF2-6E4301890E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OS – 4/2000 – an exhibit or ortho i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to artists who had ortho problems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l their sto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o ortho surgeons to illustrate their prof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lings about the MD-pt 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difference in pts li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 of healing and compa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pod Series II: Protusio Acetabuli” – Dumronk Thanachanant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he enjoys most is ‘the need for an artist’s skill and a scientist’s vision.’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eries was inspired by ‘those pieces of bone which I have been engaged with throughout my life.’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3EC4-608D-45CE-A7CE-A051ED9445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Whitehill, MD  -  “Hip Biomechanic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nterest in art began over a decade ago when he was watching the construction of a new hospital and was intrigued by the welding of steel girders…  This piece represents the hip joint during walk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1B2-27D6-479F-A469-8B673DA674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s of Compassion – spend more tim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athe Kollwitz – Woman with Dead Ch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67 – 1945 Germ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ried to MD who cared for po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ieved art should reflect social conditions of time – war, poverty,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n, Peter, (inspiration for much of her work) – died age 18 in 1914 W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rliest W medicine – before RX – healing through the relatio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virtues of the he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till important – esp chronic dis / extremes of life – difficult eth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but undervalued – much needed and w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“com – passion” – to be with suff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E0E-B7E8-4E99-A282-532BA6B538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e Unit” – John Fortune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octor] looks to represent the physician relationship through his works of ar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EEA1-4E8D-47EF-AA15-19568068EB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i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 Favela  -  “Silenciosos Dese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age of 12, she was in a tragic accident causing severe damage to her left leg.  21 operations were performed over 20 years to save her leg.  She uses her body as inspiration for her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6BFF-EB25-4763-8DE2-00A72D5097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I Am” – Danielle Hos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13 – leg amputated due to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lf-portrait, age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rait is how I wish many people would see me, and how I see myself.  Many people still seem to struggle to accept me as I am.  I still have a leg; it’s just made of meta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A66-5F83-4732-94CE-0373877B60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less” – Dan Kepl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th cerebral palsy – paints with brush in head g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Oscar-winning HBO documentary “King Gimp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elf-por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spee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oul spoke through my art, and for the first time the world heard my v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B61B-F941-4F6E-847D-271E85F025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            Whol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arts            Life experience (values, emotions, pa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 c dis      Person c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”  vs  “Connected”  ways of knowing (epistemolo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2C7C-9B7D-4387-B98C-B025FE4365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 not some mythical “caring”, but cure + 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h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asso 1897 (age 16; Barcelona School of Fine Arts – gold med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gorical painting inspired by death of his s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, taking pulse +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n nurse, offering soup and holding child = ch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not to decrease science but to include compa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23BF-1051-49B3-8565-69A90780EB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&gt; get a number &gt; give medicine &gt; reduc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recognize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ne – post-op – “What number do I need to say to get some pain medicin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bureaucratize/technologize compassion – pain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eaucratic tenesmu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inded of Dead Poets’ Society – Robin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Evans Pritchard – “Understanding Poet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“perfection” on x and “importance” on y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area = “great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eating:  “Tear out the page – we’re not laying pipe her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0B52-78F1-45AC-A222-EA293A1644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en if important – ? too fuzz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n-sentimental; discipline of compass –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ake suffering seriously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yond slogans – “the secret of care of pt is caring for pt” (Peabody–NEJ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 “bedside manner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known and can be taught – not in med tex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vard Munch – 1893 – “The Scream” or “The Cr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sychic agony – isolation (note two “friends”); angu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enomenology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 / &gt; Pain / Fear / Loss / Isolation / Alone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dy as alien / Individual meaning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 for s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ories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eparation, iso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hattered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disrupted life narr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loss of m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ges of Suffering (Soel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ic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ressive (lament / anger / questioning / re-sto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AE53-D978-4FC0-AE76-CBAF251DEE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theories and insights – emphasize the experience of suffering to the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lliam Utermohlen self-portraits over time (ages 60 – 66) as his Alzheimer’s progressed.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ution of the “sel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512A-711B-471A-AF77-8C6F79215F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Acknowledge:  “Patient” = from “suffering”.  Overcome apath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ciousness of disease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l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rience suffering - Chekhov (50% suffering for med studen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tend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“Compassion” = “to be with suffering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 with”.  Not alone!  (During mut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Waiting”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Voice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ourage voice / LISTEN  -  (During expressiv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-story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ling” = “to make whole again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to understand patient’s experience.  (Dx and Prog)  Empathy (Oliver Sak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– don’t let paternalism assume -&gt; Monet’s cataracts (“Monet Refuses the Operation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ivate an interest in uncovering the meaning of our patients’ illnes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CW likened this to “uncovering metal from ore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bra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counter otherness of exclusion/alien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uch (Lewis Thomas – healing power of touch).  Nurses – ma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mor (Cousins)    Sydenham – “The arrival of a clown has a greater beneficial infl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health of a town than 20 asses laden with drugs.”  “Hum-ility” – down to eart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tual and ceremony – meaningful pattern; embrace in healing tradition/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Yeshi Dhonde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sonalism”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pt as organism = generic H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n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arrative h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e &amp; $$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EF5-FA8B-46BE-ACF0-4A01C300E6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 has always seen compassion as part of good HC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flected in art – lampooned when ab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e.g. Moliere’s pl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, Francisco de Goya, 1799, “De que mal morira?” (Of what illness will he die?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empt for physicians – depicts doctor as ass at the beds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oya savaged the pretensions and vices of the medical pr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me of inhumanity of man in a world consumed by h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 &gt;&gt; abuse and cruelty; battlefields; tortu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194E-5DF5-4356-9E87-C4138209C8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1923 – age 83 – right eye cata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ly able to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ry, frust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D61A-6531-41F7-95F1-74614E3712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(1840-1926)  Venice Twilight (19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modern medical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cata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fused surgery (fear + poem – his world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d have surgery  but  must enter patient’s world to know the “goo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Monet disgusted by his paint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ernment of patient’s good = #1 task of post-paternalism med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ethical puzzles, = telos of physic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5001-65EF-4CEE-AB48-C2F1D46888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Samaritan”  Bassano (156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le of Good Sam (Lk 10:29-37)–selfless care for those most in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alien, the ene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 Experiment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0 -  2 grps – GS sermon / job ser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fered assistance – no diffs in the two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y up, you’re late” – 10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urry up – 63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mat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078D-FF73-41B0-957E-3CD45BC6B3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ering – is it the job of medicin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ts want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er medicine (trust &gt; better h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es when can’t cure – chronic, disabled, end-of-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el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pts, profs, huma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 studies – most important to my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yond trite phrases – “Art of medicine”  “Treat the whole patient”  “Pt-centered care”  “Holistic medicin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cret of the care of the patient is in caring for the patient.” (Peabody JAMA 1927)  “I like peopl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will argue –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is our job / can know / can help / important to do 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796-6FA1-435B-A50E-C971C4A85C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ering is not a problem to be solved, but a human reality to be shared.” (David Sm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” + “pass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– child’s lost d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0D8D-E780-47F0-8B9B-1FB84DD114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Dispatch or Doctor Doubledose Killing Two Birds with One St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Rowlandson – ca. 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of satire and caricature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as quacks, drunks, body snatchers, and money grub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FA10-5584-46EE-8A60-0D3455BB45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s also immoral or amoral at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ens – Sairey Gamp – from Martin Chuzzlew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t &amp; lampooning of traveling nurses &amp; midw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sure of their cruelty &amp; drunkenness contributed to their dem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rence Nightengale – (1820-1910) – English nurse; Crimean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health and formal training of nur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Founder of modern secular nursing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 “Fifty Years” used by growing nursing prof in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Gamp (1838) to “modern” (18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ttractive, but pure; uniformed; intelligent; c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mean the reputation of nurses without moder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0A0-87FB-4C2E-8490-968F3C98D7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o Live Nurse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medimusic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Fanny Scratchit, RN, PhD, FAAN, FA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of QA at Sarie Gamp’s Enema C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517-A5EF-40F4-B736-31D49F15AD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so, positive image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octor” – Samuel Luke Fildes – 1893 - His popular masterpie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andmother progressive social activ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of art for morality and effect change in poverty, injustic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ial realism”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ired by death of Fildes’ eldest son who died Xmas morn 18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m, dedicated care of Dr. Murray – little Rx for cure in 1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y popular then and since.  Model of physician empathy and ded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des: “To put on record the status of the doctor in our own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cottage window the dawn begins to steal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wn that is the critical time of all deadly ill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with it the parents again take hope into their heart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mother hiding her face to escape giving vent to her emo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ather laying his hand on the shoulder of his wife in encou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the first glimmerings of the joy which is to follow.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 and British postage stam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litical cartoons lampoone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A used it in a campaign against socialized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ancy; attends; compa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C0C-5DFC-42AB-B447-C5EB5E84CB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de Callen – 1951 – WE Sm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midwife – set-up makeshift clinic/hosp in church; care for thous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rred such sympathy - $18,500 donated for new cli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DCCC-AA09-45B0-92C8-14B961684D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Arrieta – ex voto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in life, artist severely ill – attended by Dr.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ed as th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= de Goya – same who painted torture, war, MD as 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315-572D-4A88-B6D7-54A0AFAA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3F8-5595-4DBB-AC38-B71D35C8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036-F7E1-409F-BB90-4C6AAB82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AAA-0BBE-4D7B-8C88-706EA0C6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7CE0-270F-423D-9935-DD622E94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82CE-228F-4FFD-A893-56CA11C0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3507-BD95-410E-AA36-954FDD84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031-7722-4456-8E1E-DEE29BA5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E20C-2973-4975-8111-20E70F81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9D8F-FB09-482A-B621-866ECFFF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1CD8-4745-44FA-81AF-E4E397FA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AEF-40EC-407A-8AAF-C13A337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F58C-3790-427C-83F2-C2DCAC5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1BFD-1197-42FB-B063-A98F4F7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6B1C-80C8-41DB-80B2-24BB5CF1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09EA-8E79-4459-A3E4-F268A7B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5372-A6A4-48AD-81FA-7F6C94BB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02D-24F0-431A-8B29-736A7F8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41F-D0E6-46F5-8000-57C6E0A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CF1-2899-4417-ACFB-5FA1B60F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B46-4139-41E4-80D5-00D8CCB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D1D-1B9D-492E-9888-BDF17BB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C99-462D-4F15-9C24-3029C5F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1C6-D34D-4779-83C5-CFA932CA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39E4-D3E2-4F93-B895-B9F78DBF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777A-9CF2-4A38-B221-5D2B06A01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945720"/>
            <a:ext cx="81532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erlin Sans FB"/>
              </a:rPr>
              <a:t>Taking Suffering Seriously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Berlin Sans FB"/>
              </a:rPr>
              <a:t>Toward an Ethic of Compass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990720" y="5943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4114800" y="3505320"/>
            <a:ext cx="48006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on Stanger, MD, MDiv, M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hics Consul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 Costa Regional Medical Ce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Clinical Professor, UC Dav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Faculty, Graduate Theological Union, Berke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030" descr="C:\Documents and Settings\jstanger\My Documents\Stanger Files\M E &amp; H\ME&amp;H Images\goya_dr_arrieta.jpg"/>
          <p:cNvPicPr/>
          <p:nvPr/>
        </p:nvPicPr>
        <p:blipFill>
          <a:blip r:embed="rId1"/>
          <a:stretch/>
        </p:blipFill>
        <p:spPr>
          <a:xfrm>
            <a:off x="1295280" y="3124080"/>
            <a:ext cx="2121120" cy="3219480"/>
          </a:xfrm>
          <a:prstGeom prst="rect">
            <a:avLst/>
          </a:prstGeom>
          <a:ln w="11448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aennec without stethoscope - Chartran"/>
          <p:cNvPicPr/>
          <p:nvPr/>
        </p:nvPicPr>
        <p:blipFill>
          <a:blip r:embed="rId1"/>
          <a:stretch/>
        </p:blipFill>
        <p:spPr>
          <a:xfrm>
            <a:off x="5257800" y="2209680"/>
            <a:ext cx="2921040" cy="4118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  <p:pic>
        <p:nvPicPr>
          <p:cNvPr id="231" name="Picture 3" descr="LeeuwenhoekMicro1"/>
          <p:cNvPicPr/>
          <p:nvPr/>
        </p:nvPicPr>
        <p:blipFill>
          <a:blip r:embed="rId2"/>
          <a:stretch/>
        </p:blipFill>
        <p:spPr>
          <a:xfrm>
            <a:off x="1371600" y="609480"/>
            <a:ext cx="2847960" cy="4267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TH Huxley, 1825-95"/>
          <p:cNvPicPr/>
          <p:nvPr/>
        </p:nvPicPr>
        <p:blipFill>
          <a:blip r:embed="rId1"/>
          <a:stretch/>
        </p:blipFill>
        <p:spPr>
          <a:xfrm>
            <a:off x="2378160" y="457200"/>
            <a:ext cx="438444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The Gross Clinic"/>
          <p:cNvPicPr/>
          <p:nvPr/>
        </p:nvPicPr>
        <p:blipFill>
          <a:blip r:embed="rId1"/>
          <a:stretch/>
        </p:blipFill>
        <p:spPr>
          <a:xfrm>
            <a:off x="2157480" y="457200"/>
            <a:ext cx="4829040" cy="594360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The Gross Clinic"/>
          <p:cNvPicPr/>
          <p:nvPr/>
        </p:nvPicPr>
        <p:blipFill>
          <a:blip r:embed="rId1"/>
          <a:stretch/>
        </p:blipFill>
        <p:spPr>
          <a:xfrm>
            <a:off x="4800600" y="2286000"/>
            <a:ext cx="3343320" cy="41148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pic>
        <p:nvPicPr>
          <p:cNvPr id="235" name="Picture 3" descr="TheDoctor-Fildes"/>
          <p:cNvPicPr/>
          <p:nvPr/>
        </p:nvPicPr>
        <p:blipFill>
          <a:blip r:embed="rId2"/>
          <a:stretch/>
        </p:blipFill>
        <p:spPr>
          <a:xfrm>
            <a:off x="1066680" y="685800"/>
            <a:ext cx="4267440" cy="28893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26" descr="VesaliusFabricaMuscle"/>
          <p:cNvPicPr/>
          <p:nvPr/>
        </p:nvPicPr>
        <p:blipFill>
          <a:blip r:embed="rId1"/>
          <a:stretch/>
        </p:blipFill>
        <p:spPr>
          <a:xfrm>
            <a:off x="685800" y="380880"/>
            <a:ext cx="205092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Picture 1027" descr="VesaliusMuscle3"/>
          <p:cNvPicPr/>
          <p:nvPr/>
        </p:nvPicPr>
        <p:blipFill>
          <a:blip r:embed="rId2"/>
          <a:stretch/>
        </p:blipFill>
        <p:spPr>
          <a:xfrm>
            <a:off x="3505320" y="152388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1028" descr="VesaliusMuscle4"/>
          <p:cNvPicPr/>
          <p:nvPr/>
        </p:nvPicPr>
        <p:blipFill>
          <a:blip r:embed="rId3"/>
          <a:stretch/>
        </p:blipFill>
        <p:spPr>
          <a:xfrm>
            <a:off x="1676520" y="2819520"/>
            <a:ext cx="218124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1029" descr="VesaliusFabricaSkeleton"/>
          <p:cNvPicPr/>
          <p:nvPr/>
        </p:nvPicPr>
        <p:blipFill>
          <a:blip r:embed="rId4"/>
          <a:stretch/>
        </p:blipFill>
        <p:spPr>
          <a:xfrm>
            <a:off x="5029200" y="380880"/>
            <a:ext cx="185724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0" name="Picture 1030" descr="VesaliusMuscle2"/>
          <p:cNvPicPr/>
          <p:nvPr/>
        </p:nvPicPr>
        <p:blipFill>
          <a:blip r:embed="rId5"/>
          <a:stretch/>
        </p:blipFill>
        <p:spPr>
          <a:xfrm>
            <a:off x="6095880" y="2057400"/>
            <a:ext cx="2454480" cy="41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1024"/>
          <p:cNvGraphicFramePr/>
          <p:nvPr/>
        </p:nvGraphicFramePr>
        <p:xfrm>
          <a:off x="533520" y="4648320"/>
          <a:ext cx="2743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2743200" cy="1904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Object 1025"/>
          <p:cNvGraphicFramePr/>
          <p:nvPr/>
        </p:nvGraphicFramePr>
        <p:xfrm>
          <a:off x="3276720" y="304920"/>
          <a:ext cx="19238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920"/>
                    <a:ext cx="1923840" cy="1257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1026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1027"/>
          <p:cNvGraphicFramePr/>
          <p:nvPr/>
        </p:nvGraphicFramePr>
        <p:xfrm>
          <a:off x="4419720" y="1600200"/>
          <a:ext cx="190800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00200"/>
                    <a:ext cx="190800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9" name="Object 1028"/>
          <p:cNvGraphicFramePr/>
          <p:nvPr/>
        </p:nvGraphicFramePr>
        <p:xfrm>
          <a:off x="457200" y="380880"/>
          <a:ext cx="2104920" cy="291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880"/>
                    <a:ext cx="2104920" cy="2914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Object 1029"/>
          <p:cNvGraphicFramePr/>
          <p:nvPr/>
        </p:nvGraphicFramePr>
        <p:xfrm>
          <a:off x="2362320" y="2209680"/>
          <a:ext cx="2381040" cy="296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2209680"/>
                    <a:ext cx="2381040" cy="2962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1030"/>
          <p:cNvGraphicFramePr/>
          <p:nvPr/>
        </p:nvGraphicFramePr>
        <p:xfrm>
          <a:off x="6477120" y="4038480"/>
          <a:ext cx="2381040" cy="250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038480"/>
                    <a:ext cx="2381040" cy="2505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1031"/>
          <p:cNvGraphicFramePr/>
          <p:nvPr/>
        </p:nvGraphicFramePr>
        <p:xfrm>
          <a:off x="6172200" y="228600"/>
          <a:ext cx="2381400" cy="251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28600"/>
                    <a:ext cx="238140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1032"/>
          <p:cNvGraphicFramePr/>
          <p:nvPr/>
        </p:nvGraphicFramePr>
        <p:xfrm>
          <a:off x="4343400" y="4572000"/>
          <a:ext cx="1905120" cy="197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572000"/>
                    <a:ext cx="1905120" cy="1971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50" descr="VesaliusFabricaMuscle"/>
          <p:cNvPicPr/>
          <p:nvPr/>
        </p:nvPicPr>
        <p:blipFill>
          <a:blip r:embed="rId1"/>
          <a:stretch/>
        </p:blipFill>
        <p:spPr>
          <a:xfrm>
            <a:off x="609480" y="457200"/>
            <a:ext cx="1495440" cy="244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2051" descr="VesaliusFabricaSkeleton"/>
          <p:cNvPicPr/>
          <p:nvPr/>
        </p:nvPicPr>
        <p:blipFill>
          <a:blip r:embed="rId2"/>
          <a:stretch/>
        </p:blipFill>
        <p:spPr>
          <a:xfrm>
            <a:off x="2187720" y="160344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1" name="Picture 2052" descr="VesaliusMuscle2"/>
          <p:cNvPicPr/>
          <p:nvPr/>
        </p:nvPicPr>
        <p:blipFill>
          <a:blip r:embed="rId3"/>
          <a:stretch/>
        </p:blipFill>
        <p:spPr>
          <a:xfrm>
            <a:off x="1143000" y="3809880"/>
            <a:ext cx="1638360" cy="274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62" name="Object 2048"/>
          <p:cNvGraphicFramePr/>
          <p:nvPr/>
        </p:nvGraphicFramePr>
        <p:xfrm>
          <a:off x="4724280" y="1676520"/>
          <a:ext cx="1908360" cy="25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20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676520"/>
                    <a:ext cx="190836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4" name="Object 2049"/>
          <p:cNvGraphicFramePr/>
          <p:nvPr/>
        </p:nvGraphicFramePr>
        <p:xfrm>
          <a:off x="6248520" y="380880"/>
          <a:ext cx="238104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04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80880"/>
                    <a:ext cx="238104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6" name="Object 2050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20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Object 2051"/>
          <p:cNvGraphicFramePr/>
          <p:nvPr/>
        </p:nvGraphicFramePr>
        <p:xfrm>
          <a:off x="5486400" y="3962520"/>
          <a:ext cx="2381400" cy="25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205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86400" y="3962520"/>
                    <a:ext cx="2381400" cy="2504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unter, John (1728-1793) - 1786 Joshua Reynolds"/>
          <p:cNvPicPr/>
          <p:nvPr/>
        </p:nvPicPr>
        <p:blipFill>
          <a:blip r:embed="rId1"/>
          <a:stretch/>
        </p:blipFill>
        <p:spPr>
          <a:xfrm>
            <a:off x="2595600" y="609480"/>
            <a:ext cx="3952800" cy="5639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AOS-OrthopodSeriesII-DThanachanantMD"/>
          <p:cNvPicPr/>
          <p:nvPr/>
        </p:nvPicPr>
        <p:blipFill>
          <a:blip r:embed="rId1"/>
          <a:stretch/>
        </p:blipFill>
        <p:spPr>
          <a:xfrm>
            <a:off x="990720" y="958680"/>
            <a:ext cx="7162560" cy="494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26" descr="AAOS-HipBiomechanics-RWhitehillMD"/>
          <p:cNvPicPr/>
          <p:nvPr/>
        </p:nvPicPr>
        <p:blipFill>
          <a:blip r:embed="rId1"/>
          <a:stretch/>
        </p:blipFill>
        <p:spPr>
          <a:xfrm>
            <a:off x="2496960" y="533520"/>
            <a:ext cx="4150080" cy="57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Kathe Kollwitz - Woman with Dead Child - 1903"/>
          <p:cNvPicPr/>
          <p:nvPr/>
        </p:nvPicPr>
        <p:blipFill>
          <a:blip r:embed="rId1"/>
          <a:stretch/>
        </p:blipFill>
        <p:spPr>
          <a:xfrm>
            <a:off x="1752480" y="990720"/>
            <a:ext cx="5635800" cy="49147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AAOS-JohnFortuneMD-TheSpineUnit"/>
          <p:cNvPicPr/>
          <p:nvPr/>
        </p:nvPicPr>
        <p:blipFill>
          <a:blip r:embed="rId1"/>
          <a:stretch/>
        </p:blipFill>
        <p:spPr>
          <a:xfrm>
            <a:off x="2657520" y="457200"/>
            <a:ext cx="3828960" cy="594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AAOS-SilenciososDeseos-NormaFavela"/>
          <p:cNvPicPr/>
          <p:nvPr/>
        </p:nvPicPr>
        <p:blipFill>
          <a:blip r:embed="rId1"/>
          <a:stretch/>
        </p:blipFill>
        <p:spPr>
          <a:xfrm>
            <a:off x="2411280" y="457200"/>
            <a:ext cx="43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AAOS-AsIAm-DanielleHosford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AOS-Boneless-DanKeplinger"/>
          <p:cNvPicPr/>
          <p:nvPr/>
        </p:nvPicPr>
        <p:blipFill>
          <a:blip r:embed="rId1"/>
          <a:stretch/>
        </p:blipFill>
        <p:spPr>
          <a:xfrm>
            <a:off x="762120" y="727200"/>
            <a:ext cx="7619760" cy="54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27" descr="AAOS-OrthopodSeriesII-DThanachanantMD"/>
          <p:cNvPicPr/>
          <p:nvPr/>
        </p:nvPicPr>
        <p:blipFill>
          <a:blip r:embed="rId1"/>
          <a:stretch/>
        </p:blipFill>
        <p:spPr>
          <a:xfrm>
            <a:off x="1752480" y="685800"/>
            <a:ext cx="2286000" cy="157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8" name="Picture 1028" descr="AAOS-JohnFortuneMD-TheSpineUnit"/>
          <p:cNvPicPr/>
          <p:nvPr/>
        </p:nvPicPr>
        <p:blipFill>
          <a:blip r:embed="rId2"/>
          <a:stretch/>
        </p:blipFill>
        <p:spPr>
          <a:xfrm>
            <a:off x="2057400" y="3733920"/>
            <a:ext cx="14731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9" name="Picture 1030" descr="AAOS-SilenciososDeseos-NormaFavela"/>
          <p:cNvPicPr/>
          <p:nvPr/>
        </p:nvPicPr>
        <p:blipFill>
          <a:blip r:embed="rId3"/>
          <a:stretch/>
        </p:blipFill>
        <p:spPr>
          <a:xfrm>
            <a:off x="5486400" y="380880"/>
            <a:ext cx="1771560" cy="2438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1" descr="AAOS-AsIAm-DanielleHosford"/>
          <p:cNvPicPr/>
          <p:nvPr/>
        </p:nvPicPr>
        <p:blipFill>
          <a:blip r:embed="rId4"/>
          <a:stretch/>
        </p:blipFill>
        <p:spPr>
          <a:xfrm>
            <a:off x="6095880" y="2514600"/>
            <a:ext cx="259092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1" name="Picture 1033" descr="AAOS-Boneless-DanKeplinger"/>
          <p:cNvPicPr/>
          <p:nvPr/>
        </p:nvPicPr>
        <p:blipFill>
          <a:blip r:embed="rId5"/>
          <a:stretch/>
        </p:blipFill>
        <p:spPr>
          <a:xfrm>
            <a:off x="5029200" y="4038480"/>
            <a:ext cx="2438280" cy="17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Picture 1034" descr="AAOS-HipBiomechanics-RWhitehillMD"/>
          <p:cNvPicPr/>
          <p:nvPr/>
        </p:nvPicPr>
        <p:blipFill>
          <a:blip r:embed="rId6"/>
          <a:stretch/>
        </p:blipFill>
        <p:spPr>
          <a:xfrm>
            <a:off x="685800" y="2057400"/>
            <a:ext cx="1530360" cy="2133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cience and charity 5"/>
          <p:cNvPicPr/>
          <p:nvPr/>
        </p:nvPicPr>
        <p:blipFill>
          <a:blip r:embed="rId1"/>
          <a:stretch/>
        </p:blipFill>
        <p:spPr>
          <a:xfrm>
            <a:off x="685800" y="385920"/>
            <a:ext cx="7772400" cy="608616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ain scale"/>
          <p:cNvPicPr/>
          <p:nvPr/>
        </p:nvPicPr>
        <p:blipFill>
          <a:blip r:embed="rId1"/>
          <a:stretch/>
        </p:blipFill>
        <p:spPr>
          <a:xfrm>
            <a:off x="2274840" y="380880"/>
            <a:ext cx="4594320" cy="609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50" descr="The Scream - Munch -1893"/>
          <p:cNvPicPr/>
          <p:nvPr/>
        </p:nvPicPr>
        <p:blipFill>
          <a:blip r:embed="rId1"/>
          <a:stretch/>
        </p:blipFill>
        <p:spPr>
          <a:xfrm>
            <a:off x="2219400" y="530280"/>
            <a:ext cx="4705200" cy="5794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ementia self-portraits - W Utermohlen"/>
          <p:cNvPicPr/>
          <p:nvPr/>
        </p:nvPicPr>
        <p:blipFill>
          <a:blip r:embed="rId1"/>
          <a:stretch/>
        </p:blipFill>
        <p:spPr>
          <a:xfrm>
            <a:off x="2595600" y="304920"/>
            <a:ext cx="3949560" cy="62481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89548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b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57200" y="9144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A 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Discipline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 of Compa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S.A.V.E.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7772400" y="36576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8">
            <a:hlinkClick r:id="rId1" action="ppaction://hlinksldjump"/>
          </p:cNvPr>
          <p:cNvSpPr/>
          <p:nvPr/>
        </p:nvSpPr>
        <p:spPr>
          <a:xfrm>
            <a:off x="7696080" y="56386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26" descr="Goya-engraving1799-Donkey as doctor"/>
          <p:cNvPicPr/>
          <p:nvPr/>
        </p:nvPicPr>
        <p:blipFill>
          <a:blip r:embed="rId1"/>
          <a:stretch/>
        </p:blipFill>
        <p:spPr>
          <a:xfrm>
            <a:off x="2427120" y="380880"/>
            <a:ext cx="4289760" cy="60962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jstanger\My Documents\Stanger Files\M E &amp; H\ME&amp;H Images\Monet ca 1923.jpg"/>
          <p:cNvPicPr/>
          <p:nvPr/>
        </p:nvPicPr>
        <p:blipFill>
          <a:blip r:embed="rId1"/>
          <a:stretch/>
        </p:blipFill>
        <p:spPr>
          <a:xfrm>
            <a:off x="2567160" y="606600"/>
            <a:ext cx="4009680" cy="564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jstanger\My Documents\Stanger Files\M E &amp; H\ME&amp;H Images\Monet-Venice.jpg"/>
          <p:cNvPicPr/>
          <p:nvPr/>
        </p:nvPicPr>
        <p:blipFill>
          <a:blip r:embed="rId1"/>
          <a:stretch/>
        </p:blipFill>
        <p:spPr>
          <a:xfrm>
            <a:off x="1447920" y="917640"/>
            <a:ext cx="6248160" cy="502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3" name="AutoShape 3">
            <a:hlinkClick r:id="rId2" action="ppaction://hlinksldjump"/>
          </p:cNvPr>
          <p:cNvSpPr/>
          <p:nvPr/>
        </p:nvSpPr>
        <p:spPr>
          <a:xfrm>
            <a:off x="22860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good_samaritan, Bassano, 1563"/>
          <p:cNvPicPr/>
          <p:nvPr/>
        </p:nvPicPr>
        <p:blipFill>
          <a:blip r:embed="rId1"/>
          <a:stretch/>
        </p:blipFill>
        <p:spPr>
          <a:xfrm>
            <a:off x="2343240" y="380880"/>
            <a:ext cx="4454280" cy="60962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6094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the news from poems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t men die miserably every d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what is found t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82456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  William Carlos Willi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ild_dog"/>
          <p:cNvPicPr/>
          <p:nvPr/>
        </p:nvPicPr>
        <p:blipFill>
          <a:blip r:embed="rId1"/>
          <a:stretch/>
        </p:blipFill>
        <p:spPr>
          <a:xfrm>
            <a:off x="2971800" y="1143000"/>
            <a:ext cx="3149640" cy="472428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50" descr="MDcaricatureRowlandson1800"/>
          <p:cNvPicPr/>
          <p:nvPr/>
        </p:nvPicPr>
        <p:blipFill>
          <a:blip r:embed="rId1"/>
          <a:stretch/>
        </p:blipFill>
        <p:spPr>
          <a:xfrm>
            <a:off x="2428920" y="399960"/>
            <a:ext cx="4286160" cy="605808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26" descr="Sariey Gamp - Dickens"/>
          <p:cNvPicPr/>
          <p:nvPr/>
        </p:nvPicPr>
        <p:blipFill>
          <a:blip r:embed="rId1"/>
          <a:stretch/>
        </p:blipFill>
        <p:spPr>
          <a:xfrm>
            <a:off x="2695680" y="457200"/>
            <a:ext cx="374940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Documents and Settings\jstanger\My Documents\Stanger Files\M E &amp; H\ME&amp;H Images\Fanny+Scratchit_jpg_files\Fanny Scratchit.jpg"/>
          <p:cNvPicPr/>
          <p:nvPr/>
        </p:nvPicPr>
        <p:blipFill>
          <a:blip r:embed="rId1"/>
          <a:stretch/>
        </p:blipFill>
        <p:spPr>
          <a:xfrm>
            <a:off x="2057400" y="533520"/>
            <a:ext cx="5029200" cy="5029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226" name="Text Box 4"/>
          <p:cNvSpPr/>
          <p:nvPr/>
        </p:nvSpPr>
        <p:spPr>
          <a:xfrm>
            <a:off x="1584360" y="5791320"/>
            <a:ext cx="62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nny Scratchit, RN, PhD, FAAN, FA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 of QI – Sairey Gamp Enema C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050" descr="TheDoctor-Fildes"/>
          <p:cNvPicPr/>
          <p:nvPr/>
        </p:nvPicPr>
        <p:blipFill>
          <a:blip r:embed="rId1"/>
          <a:stretch/>
        </p:blipFill>
        <p:spPr>
          <a:xfrm>
            <a:off x="533520" y="693720"/>
            <a:ext cx="8076960" cy="54705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50" descr="Mause Callen -12-3-1951 - WE Smith - Life"/>
          <p:cNvPicPr/>
          <p:nvPr/>
        </p:nvPicPr>
        <p:blipFill>
          <a:blip r:embed="rId1"/>
          <a:stretch/>
        </p:blipFill>
        <p:spPr>
          <a:xfrm>
            <a:off x="2174760" y="457200"/>
            <a:ext cx="479448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oya_dr_arrieta"/>
          <p:cNvPicPr/>
          <p:nvPr/>
        </p:nvPicPr>
        <p:blipFill>
          <a:blip r:embed="rId1"/>
          <a:stretch/>
        </p:blipFill>
        <p:spPr>
          <a:xfrm>
            <a:off x="2743200" y="609480"/>
            <a:ext cx="3727440" cy="56581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5:50:55Z</dcterms:created>
  <dc:creator>HCMARTINEZ</dc:creator>
  <dc:description/>
  <dc:language>en-US</dc:language>
  <cp:lastModifiedBy>HCMARTINEZ</cp:lastModifiedBy>
  <dcterms:modified xsi:type="dcterms:W3CDTF">2009-11-05T19:52:18Z</dcterms:modified>
  <cp:revision>103</cp:revision>
  <dc:subject/>
  <dc:title>Crisis in Health Care!!! -- Ethical Considerations --</dc:title>
</cp:coreProperties>
</file>