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22.jpeg" ContentType="image/jpeg"/>
  <Override PartName="/ppt/media/image17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6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8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B8898-E5D5-4085-8C70-63A20E7E88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B2A24-E217-4372-9B55-5640FD8A879D}" type="slidenum">
              <a:rPr b="0" lang="en-US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 seizures – don’t mistake ridigity for seiz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4B5DB-E3FD-455D-B42E-F59E204528CA}" type="slidenum">
              <a:rPr b="0" lang="en-US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d they tak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did they take it, important for treatment and dis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, was it a toxic in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, was it a suicide attem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y have allergies, comorbidities – check old ch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3DFB7-0230-4504-9299-76EEDE5F58A4}" type="slidenum">
              <a:rPr b="0" lang="en-US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 – caustic ingestions, Lye is sometimes used to make G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 – warm, dry, red, sweaty, bruises, track marks, ras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logic – are they moving their extremities, look for any focal paralysis, look glob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uscle rigidity, check their reflexes including their response to pain if alt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74622-D177-4057-800B-6140644CB29F}" type="slidenum">
              <a:rPr b="0" lang="en-US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lye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yponatremia – lithium intox from DI, amitripty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kalemia – theophylline, B2 agonist, acid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s you clues to the ingested substance and helps you prevent dangerous com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for an anion ga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-  BB, caffeine, theophylline -- can cause hyoglyce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ranol, insulin, salcylates – can cause hyperglyce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N/creatinine to evaluate renal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lenol, ethylene glycol, heavy metals (PCP, amphet, cocaine through rhabd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FTs – tylenol, arsenic, ethanol, iron, valpro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K – rhabdo, rigidity, arrhythmias -  PCP, cocaine, amphetam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inalysis – hemoglobinuria, myoglobinuria, crystallu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ine drug screen – beware of cross reactivity, ie.  Diphenhydramine, methadone, dextromethorphan can make PCP screen 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molality to calculate osmolar gap.  Increased by ethanol, isopropyl alcohol, methanol, mannitol, magne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0A2AE-E9E4-4CDB-A044-C9218260B57C}" type="slidenum">
              <a:rPr b="0" lang="en-US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based depending on type of ingestion, amount, time,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CU admission for any symptomatic patient or asymptomatic with significant ingestion who may later become symptom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B5895-849F-418E-A62A-DF0704AE3473}" type="slidenum">
              <a:rPr b="0" lang="en-US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p – paralysis, fasiculations, hyporeflex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21FD4-1A06-4706-B20F-C1F61FA404AD}" type="slidenum">
              <a:rPr b="0" lang="en-US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eversibly bind cholinesterases – acetylcholine supply increases and you exhaust the postsynaptic neuronal transmission in the CNS and P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carinic – parasympathetic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cotinic – gives you muscular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 – physostigmine, neostigm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 – antihelmintic, insectic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D235F-EBC1-4365-898F-7070B1786067}" type="slidenum">
              <a:rPr b="0" lang="en-US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nita muscaria mushro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39A04-0438-453A-A1C8-1F8CEEC73679}" type="slidenum">
              <a:rPr b="0" lang="en-US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ostigmine – for CNS effects.  Side effects:  seizures, vomiting, diarrhea, abdominal cram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ions:  tachydysrhythmias with hemodynamic compromise, intractable seizures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re agitation or psychos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indications:  conduction disturbances, prolonged QRS, P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64958-1C8E-46E9-A47A-4108270C8619}" type="slidenum">
              <a:rPr b="0" lang="en-US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rnal – skin, eyes, inha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– GI decontamination meth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6B7D5-852E-441D-9F42-6268C0E9863B}" type="slidenum">
              <a:rPr b="0" lang="en-US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ic effects – formaldehyde can can acidosis and formate poisoning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fluoric acid can cause hypocalcemia and hyperkale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AAF9D-4422-4067-8A4F-BAB27A4BC9B7}" type="slidenum">
              <a:rPr b="0" lang="en-US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ophthomalogy invovled early, especially if this is a site threatening expo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37D71-2C73-40D9-84C2-FBC302CB042E}" type="slidenum">
              <a:rPr b="0" lang="en-US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R/EC ingestions – whole bowel irrigation is preferred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5D759-EB2E-4CA2-B010-8E8912E4FC7E}" type="slidenum">
              <a:rPr b="0" lang="en-US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ated charchoal – again, no real good evidence to use it, but we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 number of reasons:  relatively harml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tical benef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l like we’re doing some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, it is the standard of c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606F4-E7B2-4E03-B07B-61A3234C331A}" type="slidenum">
              <a:rPr b="0" lang="en-US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hartic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ten passage …..  But no evidence that they decrease morbidity or mortality and they can ca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ificant fluid loss and lyte imbalance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ingestions, especially if not adsorbed to charco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49F0B-04E3-4593-9A9A-BB986AE3B17B}" type="slidenum">
              <a:rPr b="0" lang="en-US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d diuresis can cause fluid overlo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nization as in salicylate pois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moperfusion – similar equipment and access, blood pumped through a column containing an adsorbant material like charco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dependent on molecular size, solubility, and protein binding, achieves greater clearance rates for most dru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toneal dialysis and hemofiltration – less invasive than above, used for a continuous removal over time in a non-critical patien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e in acute poisonings is uncl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169F0-883B-477A-A7BF-0C2A93340A9C}" type="slidenum">
              <a:rPr b="0" lang="en-US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he patient stable, will supportive care alone enable recovery, is there an antido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ions include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 route – lithium overdose in a patient with renal fail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D6A6A-1C6E-4F78-B32F-231FE11A21F5}" type="slidenum">
              <a:rPr b="0" lang="en-US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 awake – A’s done, don’t need to do any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g – use a tongue bl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opharynx – for F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way devices – oral airway, but if you are considering this, the patient should probably be intub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ubation – if the depressed respiratory status is due to opioids or benzodiazepines, these may eliminate the need for intub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4C98E-A343-4FE3-80F4-FA688806E34F}" type="slidenum">
              <a:rPr b="0" lang="en-US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irations – are they breathing 14 times a minutes or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g/mask – to support inadequate respirations, as you prepare for intub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idor – Gama hydroxybutyric acid is sometimes made with lye, can cause airway burns and ed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2BB67-C810-4C5D-8991-DC9DDDD9C97F}" type="slidenum">
              <a:rPr b="0" lang="en-US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ids – decrease challenge with h/o heart failure/renal failure/hepatic fail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achycardia:  do not give BB alone, you can worsen HTN if it is caused by alpha adrenergic stimulation as with coca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V access:  2 large bore IV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BB9CD-FF39-4929-BEA4-2E8CAAC20816}" type="slidenum">
              <a:rPr b="0" lang="en-US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ey catheter – monitor UOP, obtain urine drug sc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tal temperature – oral temp can be inaccurate, especially in mouth brea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m or cool as indicated.  Remember you can use paralysis for hyperther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glycemia – get a bedside finger stick or treat empiric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amine – if they look malnourished, alcoholic.  It’s not routinely given to children.  Give before sugar to prevent wernicke korsakoff synd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26A3-D1DB-4C67-A450-5E490D2A7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DD69-449F-4CB3-8C53-1AD421956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E2D9-2CEF-4463-B83B-4839854F4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796E-9476-42E2-AE19-25A2468D0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4C190-6097-4A05-8EA2-16DA12A93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EF2C5-8FA4-4889-B287-6E2A6DCCC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A47F2-731F-4EAB-A3DE-27A603264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0CA59-F532-4063-BE46-394DDCCFB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D27BC-05E2-4F13-9F21-48436CBD0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44D04-A255-4E3D-9C89-867A433E4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9D6BB-9A49-4682-9B95-0EBC165A3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556C-8908-4691-8FDB-FBC5FF952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E43BD-F40C-4912-BCCC-90E02187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10247-C5C4-4F14-BC5B-987BBBC4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B8E2C-B0E8-43F5-8400-5074AB5DE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07BE9-22D9-45D3-90F7-F5233D08F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1A964-96F1-483C-9C2A-013711CC3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236B-2FFD-4264-9C0B-824CC9FB5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E1A0-D1A7-4C54-BE31-9B0A84485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5026-A16E-4CA7-BE7D-5B4DD2809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682C-9360-496D-B08F-AC85218B1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1FB0-1824-42F7-BF9C-02D6960F3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6D15-4DA8-4925-B36B-4BEEB14F9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D6FC-BA28-4B40-9125-3F1C89864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1" name="Picture 3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803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4"/>
            <p:cNvSpPr/>
            <p:nvPr/>
          </p:nvSpPr>
          <p:spPr>
            <a:xfrm>
              <a:off x="914400" y="1828800"/>
              <a:ext cx="8001000" cy="4343400"/>
            </a:xfrm>
            <a:prstGeom prst="rect">
              <a:avLst/>
            </a:prstGeom>
            <a:solidFill>
              <a:srgbClr val="00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ccec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E37B7-01CD-4360-8919-0038A55BB1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80324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1828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9621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AAE50-D56F-4BE1-BE42-A27BDAEE50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image" Target="../media/image10.png"/><Relationship Id="rId10" Type="http://schemas.openxmlformats.org/officeDocument/2006/relationships/image" Target="../media/image11.jpe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28440" y="1523880"/>
            <a:ext cx="71629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Toxicology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UNC Emergency Medicin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Medical Student Lecture Seri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Supportive Care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05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Treat Seizures 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Lorazepam 2 mg IV, may repeat as needed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Dilantin 10 mg/kg IV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Control agit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Haldol 5-10 mg IM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tivan 2-4 mg IM or IV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Geodon 20 mg IM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Think about trauma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ff9933"/>
                </a:solidFill>
                <a:latin typeface="Times New Roman"/>
              </a:rPr>
              <a:t>REASSESS</a:t>
            </a:r>
            <a:br>
              <a:rPr sz="4000"/>
            </a:br>
            <a:r>
              <a:rPr b="0" lang="en-US" sz="40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Times New Roman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. . . frequently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History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828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What, when, how much, why?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Rx, OTC, herbals, supplements, vitamin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alk to family, friends, EMS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Pill bottles, needles, beer cans, suicide note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all pharmacy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Allergies, medical problems 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Physical examinatio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981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Vital signs: BP, HR, RR, T, O2 sat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Mouth: odors, mucous membranes 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Pupil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Breath sound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Bowel sound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Ski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Urination/defec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Neurologic exam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Essential Laboratory Tests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905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Electrolyte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Glucos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BUN and creatinin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LFT’s, CK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Urinalysis, urine drug scree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Etoh, alcohol scree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Serum osmolality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cetaminophen, salicylate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Specific drug level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Pregnancy test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Anion Gap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905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Na – (HCO3 + Cl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Normal:  8-12 mEq/L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Causes: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ethanol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remia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KA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araldehyde, phenformi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ron, isoniazid, ibuprofe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ithium, lactic acidosi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thylene glycol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trychnine, starvation, salicylate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Osmolar Gap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904760" y="1905120"/>
            <a:ext cx="6933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Calculated osmolality – measured osmolality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2(Na) + glucose/18 + BUN/2.8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Normal = 285-290 mOsm/L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Gap &gt; 10 mOsm/L suggests the presence of extra solutes: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Ethanol, methanol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Ethylene glycol, isopropyl alcohol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Mannitol, glycerol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Clinical Pearl:  Anion gap acidosis with an osmolar gap should suggest methanol or ethylene glycol poisoni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Electrocardiogram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80720" y="190512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Times New Roman"/>
              </a:rPr>
              <a:t>Prolonged QRS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TCAs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Phenothiazines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Calcium channel blockers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Times New Roman"/>
              </a:rPr>
              <a:t>Sinus bradycardia/AV block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Beta-blockers, calcium channel blockers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TCAs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Digoxin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organophosphates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Times New Roman"/>
              </a:rPr>
              <a:t>Ventricular tachycardia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Cocaine, amphetamines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Chloral hydrate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Theophylline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Digoxin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TCAs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37" name="Picture 4" descr="tcaekg"/>
          <p:cNvPicPr/>
          <p:nvPr/>
        </p:nvPicPr>
        <p:blipFill>
          <a:blip r:embed="rId1"/>
          <a:stretch/>
        </p:blipFill>
        <p:spPr>
          <a:xfrm>
            <a:off x="4724280" y="4448160"/>
            <a:ext cx="441972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Diagnosis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981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May not identify ingested substance(s)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Provide ABCs and supportive care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Give antidote when appropriate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all regional poison control center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Carolinas Poison Center, Charlott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800-848-6946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Dispositio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904760" y="190512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Case-based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ICU admiss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Period of observ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Psychiatric evalu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foxglove"/>
          <p:cNvPicPr/>
          <p:nvPr/>
        </p:nvPicPr>
        <p:blipFill>
          <a:blip r:embed="rId1"/>
          <a:stretch/>
        </p:blipFill>
        <p:spPr>
          <a:xfrm>
            <a:off x="6491160" y="0"/>
            <a:ext cx="2652840" cy="2106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westerndiamondback"/>
          <p:cNvPicPr/>
          <p:nvPr/>
        </p:nvPicPr>
        <p:blipFill>
          <a:blip r:embed="rId2"/>
          <a:stretch/>
        </p:blipFill>
        <p:spPr>
          <a:xfrm>
            <a:off x="152280" y="0"/>
            <a:ext cx="2667240" cy="25401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amitriptyline"/>
          <p:cNvPicPr/>
          <p:nvPr/>
        </p:nvPicPr>
        <p:blipFill>
          <a:blip r:embed="rId3"/>
          <a:stretch/>
        </p:blipFill>
        <p:spPr>
          <a:xfrm>
            <a:off x="3276720" y="5105520"/>
            <a:ext cx="1885680" cy="1419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jellyfish"/>
          <p:cNvPicPr/>
          <p:nvPr/>
        </p:nvPicPr>
        <p:blipFill>
          <a:blip r:embed="rId4"/>
          <a:stretch/>
        </p:blipFill>
        <p:spPr>
          <a:xfrm>
            <a:off x="5257800" y="4114800"/>
            <a:ext cx="3657600" cy="2546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oleander"/>
          <p:cNvPicPr/>
          <p:nvPr/>
        </p:nvPicPr>
        <p:blipFill>
          <a:blip r:embed="rId5"/>
          <a:stretch/>
        </p:blipFill>
        <p:spPr>
          <a:xfrm>
            <a:off x="6781680" y="2438280"/>
            <a:ext cx="2210040" cy="1473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opiates2"/>
          <p:cNvPicPr/>
          <p:nvPr/>
        </p:nvPicPr>
        <p:blipFill>
          <a:blip r:embed="rId6"/>
          <a:stretch/>
        </p:blipFill>
        <p:spPr>
          <a:xfrm>
            <a:off x="3124080" y="152280"/>
            <a:ext cx="1427400" cy="20574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sarinnervegas"/>
          <p:cNvPicPr/>
          <p:nvPr/>
        </p:nvPicPr>
        <p:blipFill>
          <a:blip r:embed="rId7"/>
          <a:stretch/>
        </p:blipFill>
        <p:spPr>
          <a:xfrm>
            <a:off x="4800600" y="0"/>
            <a:ext cx="1428840" cy="1905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2" descr="clitocybe_dealbata"/>
          <p:cNvPicPr/>
          <p:nvPr/>
        </p:nvPicPr>
        <p:blipFill>
          <a:blip r:embed="rId8"/>
          <a:stretch/>
        </p:blipFill>
        <p:spPr>
          <a:xfrm>
            <a:off x="2209680" y="2895480"/>
            <a:ext cx="1600200" cy="1308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3" descr="ethyleneglycol"/>
          <p:cNvPicPr/>
          <p:nvPr/>
        </p:nvPicPr>
        <p:blipFill>
          <a:blip r:embed="rId9"/>
          <a:stretch/>
        </p:blipFill>
        <p:spPr>
          <a:xfrm>
            <a:off x="3886200" y="2209680"/>
            <a:ext cx="2419200" cy="24195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4" descr="scorpion"/>
          <p:cNvPicPr/>
          <p:nvPr/>
        </p:nvPicPr>
        <p:blipFill>
          <a:blip r:embed="rId10"/>
          <a:stretch/>
        </p:blipFill>
        <p:spPr>
          <a:xfrm>
            <a:off x="228600" y="4572000"/>
            <a:ext cx="2895480" cy="2058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5" descr="tylenol"/>
          <p:cNvPicPr/>
          <p:nvPr/>
        </p:nvPicPr>
        <p:blipFill>
          <a:blip r:embed="rId11"/>
          <a:stretch/>
        </p:blipFill>
        <p:spPr>
          <a:xfrm>
            <a:off x="152280" y="259092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828440" y="1523880"/>
            <a:ext cx="71629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Toxidromes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holinergic Toxidrome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90512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iarrhea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         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alivation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rination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acrimation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iosis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U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rination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radycardia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efecation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ronchospasm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I upset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mesis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mesis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acrimation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imp  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alivation, sweating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holinergic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828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Organophosphate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Irreversibly bind cholinesterases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Carbamat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Reversibly bind cholinesterases, poor CNS penetration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Muscarinic and nicotinic effect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Pesticides, nerve agent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Military personnel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Field workers, crop dusters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Truckers 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Pest control, custodial workers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Antidot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Atropine for muscarinic effect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Pralidoxime reverses phosphorylation of cholinesteras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Anticholinergics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904760" y="190512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Atropin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Scopolamin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Glycopyrrolat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Benztropin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Antispasmotic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Dicyclomine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Hyoscyamine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Oxybutynin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clidinium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TCA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Mydriatic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335200" y="190512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Antihistamine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Chlorpheniramine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Cyproheptadine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Hydroxyzine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Diphenhydramine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Meclizine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promethazine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Antipsychotics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Clozapine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Olanzapine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Thioridazine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Jimson weed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92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Anticholinergic 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Toxidrome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905120" y="1980720"/>
            <a:ext cx="68580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Dry mucus membranes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ry as a bone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Mental status change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d as a hatter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Flushed sk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d as a beet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Mydrias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lind as a bat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Fev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ot as a hare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Tachycardi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Hypertens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Decreased bowel sound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Urinary reten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Seizures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taxi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53" name="Picture 4" descr="amanitamuscaria"/>
          <p:cNvPicPr/>
          <p:nvPr/>
        </p:nvPicPr>
        <p:blipFill>
          <a:blip r:embed="rId1"/>
          <a:stretch/>
        </p:blipFill>
        <p:spPr>
          <a:xfrm>
            <a:off x="6477120" y="3581280"/>
            <a:ext cx="2238120" cy="22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Toxidrome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981080" y="190512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Opioid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Respiratory depression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Miosis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Hypoactive bowel sounds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Sympathomimetic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Hypertension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Tachycardia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Hyperpyrexia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Mydriasis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Anxiety, delirium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 u="sng">
                <a:solidFill>
                  <a:srgbClr val="ffff00"/>
                </a:solidFill>
                <a:uFillTx/>
                <a:latin typeface="Times New Roman"/>
              </a:rPr>
              <a:t>Clinical Pearl</a:t>
            </a:r>
            <a:r>
              <a:rPr b="0" i="1" lang="en-US" sz="2200" spc="-1" strike="noStrike">
                <a:solidFill>
                  <a:srgbClr val="ffff00"/>
                </a:solidFill>
                <a:latin typeface="Times New Roman"/>
              </a:rPr>
              <a:t>:  Sweating differentiates sympathomimetic   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00"/>
                </a:solidFill>
                <a:latin typeface="Times New Roman"/>
              </a:rPr>
              <a:t>                          </a:t>
            </a:r>
            <a:r>
              <a:rPr b="0" i="1" lang="en-US" sz="2200" spc="-1" strike="noStrike">
                <a:solidFill>
                  <a:srgbClr val="ffff00"/>
                </a:solidFill>
                <a:latin typeface="Times New Roman"/>
              </a:rPr>
              <a:t>and anticholinergic toxidromes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Antidotes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981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cetaminophen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N-acetylcystein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Organophosphates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            Atropine, pralidoxime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nticholinergic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physostigmin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rsenic, mercury, gold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dimercaprol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Benzodiazepines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flumazenil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Beta blockers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glucag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Calcium channel block       calcium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Carboxyhemoglobin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100% O2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Cyanide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nitrite, Na thiosulfat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Digoxin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digoxin antibodies                           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Antidote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981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Ethylene glycol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fomepizole, HD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Heparin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protamin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Iron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deferoxamin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Isoniazid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pyridoxi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Methanol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fomepizole, HD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Methemoglobin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methylene blu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Opioids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naloxon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Salicylate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lkalinization, HD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TCA’s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sodium bicarbonat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Warfarin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FFP, vitamin K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828440" y="1523880"/>
            <a:ext cx="71629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Decontamination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Principles of Decontamination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905120" y="1905120"/>
            <a:ext cx="494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External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Protect yourself and other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Remove exposur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Irrigate copiously with water or normal salin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Don’t forget your ABC’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Internal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Patient must be fully awake or intubated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Most common complication is aspiratio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Very little evidence for their us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905120" y="190512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General approach to the poisoned patien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oxidrome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pecific antidote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Decontamination and enhanced elimination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Decontaminatio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904760" y="1905120"/>
            <a:ext cx="4632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Ski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Protect yourself and other HC worker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Remove clothing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Flush with water or normal salin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Use soap and water if oily substanc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Chemical neutralization can potentiate injury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Corrosive agents injure skin and can have systemic effect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66" name="Picture 4" descr="decontamination2"/>
          <p:cNvPicPr/>
          <p:nvPr/>
        </p:nvPicPr>
        <p:blipFill>
          <a:blip r:embed="rId1"/>
          <a:stretch/>
        </p:blipFill>
        <p:spPr>
          <a:xfrm>
            <a:off x="6553080" y="1676520"/>
            <a:ext cx="229392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Decontaminatio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981080" y="19051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Eye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remove contact len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Flush copiously with water or normal salin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Use local anesthetic drop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Continue irrigation until pH is normal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Slit lamp and fluorescein exam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Decontamination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905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Inhalation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Give supplemental humidified oxyge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Observe for airway obstruc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Intubate as necessary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GI Decontamination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981080" y="19051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Syrup of ipecac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Within minutes of ingestion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Aspiration, gastritis, Mallory-Weiss tear, drowsiness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Rarely, if ever, given in ED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Gastric lavag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Does not reliably remove pills and pill fragments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Used 30-60 minutes after ingestion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Useful after caustic liquid ingestion prior to endoscopy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Not used for sustained release/enteric coated ingestions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Perforation, nosebleed, vomiting, aspiration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Recent studies suggest that activated charcoal alone is just as effective as gut emptying followed by charcoal.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GI Decontamination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905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Activated charcoa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Limits drug absorption in the GI tract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Within 60 minutes of inges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Patient must be awake or intubated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Vomiting, aspiration, bezoar form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Contraindication: bowel obstruction or ileus with disten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1 gram/kg PO or GT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Activated Charcoal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980720" y="190512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 good for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Lithium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Ir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lcohol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Lead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Hydrocarbon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Caustics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030280" y="190512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GI Decontaminatio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980720" y="19051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Cathartic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ecff"/>
                </a:solidFill>
                <a:latin typeface="Times New Roman"/>
              </a:rPr>
              <a:t>Hasten passage of ingestions or AC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ecff"/>
                </a:solidFill>
                <a:latin typeface="Times New Roman"/>
              </a:rPr>
              <a:t>Contraindications: obstruction or ileus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ecff"/>
                </a:solidFill>
                <a:latin typeface="Times New Roman"/>
              </a:rPr>
              <a:t>Severe fluid loss, hypernatremia, hyperosmolarity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ecff"/>
                </a:solidFill>
                <a:latin typeface="Times New Roman"/>
              </a:rPr>
              <a:t>10% magnesium citrate 3ml/kg or 70% sorbitol 1-2 …./kg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Whole bowel irrig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ecff"/>
                </a:solidFill>
                <a:latin typeface="Times New Roman"/>
              </a:rPr>
              <a:t>Large ingestions, SR or EC tablets, packers (ex. cocaine)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ecff"/>
                </a:solidFill>
                <a:latin typeface="Times New Roman"/>
              </a:rPr>
              <a:t>Contraindications:  obstruction or ileus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ecff"/>
                </a:solidFill>
                <a:latin typeface="Times New Roman"/>
              </a:rPr>
              <a:t>Aspiration, nausea, may decrease effectiveness of charcoal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Enhanced Eliminatio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905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Urinary manipul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Forced diuresi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lkalinization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Repeat-dose activated charcoal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Very large ingestions of toxic substanc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Sustained release and enteric coated preparation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Carbamazepine, phenobarbital, phenytoi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Salicylate, theophylline, digitoxi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Hemodialysis, Hemoperfus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Peritoneal dialysis, Hemofiltr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Enhanced Eliminatio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905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Does the patient need it?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Severe intoxication with a deteriorating condition despite maximal supportive car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Usual route of elimination is impaired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A known lethal dose or lethal blood level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Underlying medical conditions that can increase complication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Specific Toxin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981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Acetominophen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alicylate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ricyclic Antidepressants (TCA)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General Approach   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ABC’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History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Physical examination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Labs, imaging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Diagnosis, antidotes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Disposition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Acetominophen (apap)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904760" y="198072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Max dose: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4g/day adults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90 mg/kg day kid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Peak serum levels: 4 hours after overdos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What are the three methods of APAP metabolism?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Glucuronidation (90% normal thru pathway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Sulfonation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P450 mixed oxidase enzymes (5% nl thru pathway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88" name="Picture 5" descr="tylenol-now"/>
          <p:cNvPicPr/>
          <p:nvPr/>
        </p:nvPicPr>
        <p:blipFill>
          <a:blip r:embed="rId1"/>
          <a:stretch/>
        </p:blipFill>
        <p:spPr>
          <a:xfrm>
            <a:off x="7924680" y="304920"/>
            <a:ext cx="898560" cy="175248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6"/>
          <p:cNvSpPr/>
          <p:nvPr/>
        </p:nvSpPr>
        <p:spPr>
          <a:xfrm>
            <a:off x="2514600" y="1600200"/>
            <a:ext cx="443268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75"/>
                </a:solidFill>
                <a:latin typeface="Tahoma"/>
              </a:rPr>
              <a:t>Magic number to remember is 140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Acetominophen (apap)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904760" y="190512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oxicity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140mg/kg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 acute ingestion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Direct hepatocellular toxicity with centrolobular distribution (hepatic vein)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an also have renal damage and pancreatitis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Stages of Tylenol Toxicity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980720" y="1828440"/>
            <a:ext cx="71629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I (0-24hrs): n/v, but most asymptomatic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II latent stage (24-48hrs): subclinical increase in ast/alt/bili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III hepatic stage (3-4dys): liver failure, ruq pain, vomiting, jaundice, coagulopathy, hypoglycemia, renal failure, metabolic acidosi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IV recovery stage (4dys-2wks): resolution of hepatic dysfunc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Need 4 hour level and</a:t>
            </a:r>
            <a:br>
              <a:rPr sz="4400"/>
            </a:b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N-acetylcysteine (NAC)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05120" y="190512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Dx: 4 hour level compared to the Rumack and Matthews nomogram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150ug/ml at 4 hour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Rx: NAC </a:t>
            </a: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140mg/kg</a:t>
            </a: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 then 70mg/kg every 4 hours for 17 dose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We Have PO and IV dosing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Only useful for one time ingestion (not chronic ingestions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030280" y="190512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97" name="Picture 7" descr="acetadote2"/>
          <p:cNvPicPr/>
          <p:nvPr/>
        </p:nvPicPr>
        <p:blipFill>
          <a:blip r:embed="rId1"/>
          <a:stretch/>
        </p:blipFill>
        <p:spPr>
          <a:xfrm>
            <a:off x="6095880" y="2743200"/>
            <a:ext cx="25876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Acetominophen (apap)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905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If time of ingestion unknown, draw level immediately and again at 2-4 hours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Labs: LFTs, coags, lytes, aspirin, ETOH,  tox screen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NAC indication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904760" y="182880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Ingestions with potential toxicity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Late presentations with potential or ongoing toxicity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hronic overdose with evidence of hepatic damage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Tylenol Overdose Dispositio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828800" y="190512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Admit if….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Known toxicity / potential toxic level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Lab evidence of hepatic damag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Unknown time of ingestion and sx consistent with toxicity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Unknown ingestion time with measurable acetaminophen levels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Salicylates (asa)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904760" y="1828800"/>
            <a:ext cx="7467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Weak acid, rapidly absorbed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Enteric coated has delayed absorp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Toxic dose: 160 mg/k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Lethal dose 480 mg/k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Mixed respiratory alkalosis-metabolic acidosi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Stimulates respiratory drive causing hyperventilation, but limits ATP production</a:t>
            </a:r>
            <a:r>
              <a:rPr b="0" lang="en-US" sz="2400" spc="-1" strike="noStrike">
                <a:solidFill>
                  <a:srgbClr val="ccec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 metabolic acidosi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Oil of wintergreen, 1ml = 1400m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06" name="Picture 5" descr="aspirin"/>
          <p:cNvPicPr/>
          <p:nvPr/>
        </p:nvPicPr>
        <p:blipFill>
          <a:blip r:embed="rId1"/>
          <a:stretch/>
        </p:blipFill>
        <p:spPr>
          <a:xfrm>
            <a:off x="6934320" y="380880"/>
            <a:ext cx="170496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Salicylates Symptom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828440" y="190512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Tachypnea, tachycardia, hyperthermi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Resp alkalosis-metabolic acidosi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ltered serum glucos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G metabolic acidosis (MUDPILES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Dehydration (vomiting, tachypnea, sweating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564160" y="190512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bd pain/n/v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Tinnitus, hearing los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lethargy, seizures, altered mental statu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Noncardiogenic pulmonary edem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2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Evaluation of ASA Overdose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828440" y="1828440"/>
            <a:ext cx="44197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Lytes, ABG, LFTs, CBC, preg.test, urine PH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Serum salicylate levels (toxicity at 25mg/dl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Toxicity correlates POORLY with level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Evaluation with DONE nomegram based on single ingestion of regular ASA at levels drawn 6 hrs after inges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Underestimates toxicity in cases of severe acidemia or chronic inges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12" name="Picture 5" descr="poisoning-image13"/>
          <p:cNvPicPr/>
          <p:nvPr/>
        </p:nvPicPr>
        <p:blipFill>
          <a:blip r:embed="rId1"/>
          <a:stretch/>
        </p:blipFill>
        <p:spPr>
          <a:xfrm>
            <a:off x="6324480" y="1066680"/>
            <a:ext cx="262440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828440" y="1523880"/>
            <a:ext cx="71629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00"/>
                </a:solidFill>
                <a:latin typeface="Times New Roman"/>
              </a:rPr>
              <a:t>ABC</a:t>
            </a:r>
            <a:r>
              <a:rPr b="0" lang="en-US" sz="12000" spc="-1" strike="noStrike">
                <a:solidFill>
                  <a:srgbClr val="ccecff"/>
                </a:solidFill>
                <a:latin typeface="Times New Roman"/>
              </a:rPr>
              <a:t>’s</a:t>
            </a:r>
            <a:endParaRPr b="0" lang="en-US" sz="1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Therapy for ASA Overdose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981080" y="190512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BC’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ctivated charcoal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Urinary alkalinization (start if serum level is greater than 35mg/dl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3 amps bicarbinate in 1 L D5W at 150 ml/hr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By increasing urinary pH to greater than 8, ASA gets trapped in tubes and cannot be reabsorbed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Dialysis for severe acidemia, volume overload, pulmonary edema, cardiac or renal failure, seizures, coma, levels &gt; 100mg/dl in acute ingestion, or &gt; 60-80 mg/dl in chronic inges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Disposion for ASA Overdose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828800" y="190512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Pt gets charcoal and remain asymptomatic after 6-8 hours = Possible D/C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Sustained release requires longer observation period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Pts with toxic levels, symptomatic, or develop symptoms = Admiss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61048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TCA (Tricyclic Antidepressants)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82880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Leading cause of death by intentional overdos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Blocks sodium channel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Death by cardiovascular dysrhythymias and cardiovascular collaps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Most TCA’s have anticholinergic effects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Dry skin, blurry vision, hot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Severe OD: hypotension, seizures, respiratory depress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In severe cases: ARDS, rhabdomyolisis, DIC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GET AN EKG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904760" y="49525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What do you see?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21" name="Picture 9" descr="http://www.jacobi-em.com/photogallery/photo00000645/TCA%20ekg2.JPG"/>
          <p:cNvPicPr/>
          <p:nvPr/>
        </p:nvPicPr>
        <p:blipFill>
          <a:blip r:embed="rId1"/>
          <a:stretch/>
        </p:blipFill>
        <p:spPr>
          <a:xfrm>
            <a:off x="2209680" y="1676520"/>
            <a:ext cx="6243840" cy="322884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10"/>
          <p:cNvSpPr/>
          <p:nvPr/>
        </p:nvSpPr>
        <p:spPr>
          <a:xfrm>
            <a:off x="1981080" y="5562720"/>
            <a:ext cx="1243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Prolonged QRS, sinus tachycardia, “tall R in R” – tall R wave in lead aVR 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Treatment of TCA Overdose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828440" y="18284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odium Bicarbinate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Initial bolus of 2 amp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Drip 3 amps in 1 L D5W at 150 ml/hr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itrate for serum pH of 7.45-7.5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IV fluid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Lidocaine for perisistent arrhythymia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AVOID Class Ia drugs (procainimide quinidine)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828440" y="1523880"/>
            <a:ext cx="71629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Thank You!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Any Questions?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References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752480" y="19051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isoning &amp; Drug Overdose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, California Poison Control System.  KR Olson, 3</a:t>
            </a:r>
            <a:r>
              <a:rPr b="0" lang="en-US" sz="2800" spc="-1" strike="noStrike" baseline="30000">
                <a:solidFill>
                  <a:srgbClr val="ccecff"/>
                </a:solidFill>
                <a:latin typeface="Times New Roman"/>
              </a:rPr>
              <a:t>rd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 edition, Appleton &amp; Lange, 1999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Emergency Medicine Board Review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Series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.  L Stead, Lippincott Williams &amp; Wilkins, 2000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Emergency Medicine, A comprehensive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study guide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.  Tintinalli, 6</a:t>
            </a:r>
            <a:r>
              <a:rPr b="0" lang="en-US" sz="2800" spc="-1" strike="noStrike" baseline="30000">
                <a:solidFill>
                  <a:srgbClr val="ccecff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 edition, McGraw Hill, 2004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irway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843200" y="1752480"/>
            <a:ext cx="730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Airway obstruction can cause death after poisoni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Flaccid tongu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Aspiratio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Respiratory arrest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Evaluate mental status and gag/cough reflex</a:t>
            </a: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irway interventions</a:t>
            </a: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Sniffing positio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Jaw thrust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Head-down, left-sided positio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Examine the oropharynx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Clear secretion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Airway devices:  nasal trumpet, oral airway</a:t>
            </a: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Intubation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Consider naloxone first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4" name="Picture 1029" descr="vocalcords"/>
          <p:cNvPicPr/>
          <p:nvPr/>
        </p:nvPicPr>
        <p:blipFill>
          <a:blip r:embed="rId1"/>
          <a:stretch/>
        </p:blipFill>
        <p:spPr>
          <a:xfrm>
            <a:off x="6324480" y="304920"/>
            <a:ext cx="1295640" cy="12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reathing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824120" y="1905120"/>
            <a:ext cx="6176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Determine if respirations are adequat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Give supplemental oxyge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ssist with bag-valve-mask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Check oxygen saturation, AB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uscultate lung field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Bronchospasm: Albuterol nebulizer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Bronchorrhea/rales: Atropin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Stridor: Determine need for immediate intubatio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irculatio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828800" y="1905120"/>
            <a:ext cx="67816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IV access 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Obtain blood work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Measure blood pressure, puls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Hypotension treatment: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Normal saline fluid challenge, 20 mL/kg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Vasopressors if still hypotensiv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PRBC’s if bleeding or anemic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Hypertension treatment: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Nitroprusside, beta blocker, or nitroglyceri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Continuous ECG monitori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Assess for arrhythmias, treat accordingly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9" name="Picture 4" descr="circulation"/>
          <p:cNvPicPr/>
          <p:nvPr/>
        </p:nvPicPr>
        <p:blipFill>
          <a:blip r:embed="rId1"/>
          <a:stretch/>
        </p:blipFill>
        <p:spPr>
          <a:xfrm>
            <a:off x="7315200" y="304920"/>
            <a:ext cx="13906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upportive Care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905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ley catheter 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Rectal temperature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Accucheck, treat hypoglyemia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oma cocktai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Thiamine: 100 mg IV, </a:t>
            </a:r>
            <a:r>
              <a:rPr b="0" i="1" lang="en-US" sz="2800" spc="-1" strike="noStrike">
                <a:solidFill>
                  <a:srgbClr val="ccecff"/>
                </a:solidFill>
                <a:latin typeface="Times New Roman"/>
              </a:rPr>
              <a:t>before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 dextros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Dextrose: 50 grams IV push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Naloxone: 0.01 mg/kg IV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6T22:15:56Z</dcterms:created>
  <dc:creator> </dc:creator>
  <dc:description/>
  <dc:language>en-US</dc:language>
  <cp:lastModifiedBy>Steinhart Rachel</cp:lastModifiedBy>
  <dcterms:modified xsi:type="dcterms:W3CDTF">2008-12-23T04:09:09Z</dcterms:modified>
  <cp:revision>67</cp:revision>
  <dc:subject/>
  <dc:title>Poisoning: An Overview</dc:title>
</cp:coreProperties>
</file>