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22.jpeg" ContentType="image/jpeg"/>
  <Override PartName="/ppt/media/image17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9E6B-1DDD-4B73-944E-651F16CE2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5DDF-1FB6-4394-A0AB-106A305D6DD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seizures – don’t mistake ridigity for seiz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FE43-407D-4EB6-B2F9-EF97010CE60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ta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they take it, important for treatment and dis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, was it a toxic i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was it a suicide 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y have allergies, comorbidities – check old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9348-B739-4BE8-9098-B19F8EEB3BB9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– caustic ingestions, Lye is sometimes used to make GB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– warm, dry, red, sweaty, bruises, track marks, r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logic – are they moving their extremities, look for any focal paralysis, look glob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uscle rigidity, check their reflexes including their response to pain if al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2879-A044-4596-8F2A-6423A38A59C1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yponatremia – lithium intox from DI, amitript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kalemia – theophylline, B2 agonist, acid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you clues to the ingested substance and helps you prevent dangerous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an anion g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-  BB, caffeine, theophylline -- can cause hyo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anol, insulin, salcylates – can cause hyperglyc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N/creatinine to evaluate ren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lenol, ethylene glycol, heavy metals (PCP, amphet, cocaine through rhab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FTs – tylenol, arsenic, ethanol, iron, valpr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K – rhabdo, rigidity, arrhythmias -  PCP, cocaine, amphet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alysis – hemoglobinuria, myoglobinuria, crystallu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drug screen – beware of cross reactivity, ie.  Diphenhydramine, methadone, dextromethorphan can make PCP screen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lality to calculate osmolar gap.  Increased by ethanol, isopropyl alcohol, methanol, mannitol,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86A1-8929-41E3-80D3-E3E5142DE36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based depending on type of ingestion, amount, time,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U admission for any symptomatic patient or asymptomatic with significant ingestion who may later become symp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EDFE-9871-4414-B46A-38781C7395DB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 – paralysis, fasiculations, hyporefle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036-5984-41C7-BB01-79453D7F4DA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versibly bind cholinesterases – acetylcholine supply increases and you exhaust the postsynaptic neuronal transmission in the CNS and P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arinic – parasympathetic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ic – gives you muscula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 – physostigmine, neostig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 – antihelmintic, insec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1CAD-E6D6-4A5E-ACA7-7F6A9CD4794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ita muscaria 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D76C-B459-4A5A-A204-8B5DC2A9FF6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ostigmine – for CNS effects.  Side effects:  seizures, vomiting, diarrhea, abdominal cr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:  tachydysrhythmias with hemodynamic compromise, intractable seizur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agitation or psychos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indications:  conduction disturbances, prolonged QRS,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FC3-78A2-4F03-A27C-5E8C3991F2E1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– skin, eyes, 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– GI decontamination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3248-8612-4B74-9F0E-8C6C01D7C75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ic effects – formaldehyde can can acidosis and formate poison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fluoric acid can cause hypocalcemia and hyperka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2A6-2D51-4C98-B809-EFC54154429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ophthomalogy invovled early, especially if this is a site threatening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B747-1ABF-4830-8552-C7BE485F137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/EC ingestions – whole bowel irrigation is preferred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64A-D3F2-4A02-8185-A27DF0722BF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ed charchoal – again, no real good evidence to use it, but 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number of reasons:  relatively harm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bene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like we’re do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, it is the standard of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3BD-891B-4AD9-8A4E-1B36D00F66E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artic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en passage …..  But no evidence that they decrease morbidity or mortality and they can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t fluid loss and lyte imbala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gestions, especially if not adsorbed to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8766-247C-43C3-B2F2-08A015587396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diuresis can cause fluid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ization as in salicylate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erfusion – similar equipment and access, blood pumped through a column containing an adsorbant material like charc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dependent on molecular size, solubility, and protein binding, achieves greater clearance rates for most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toneal dialysis and hemofiltration – less invasive than above, used for a continuous removal over time in a non-critical pati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in acute poisonings is uncl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73F7-EC79-490D-9FB0-45894578C58C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 patient stable, will supportive care alone enable recovery, is there an antido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ions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 route – lithium overdose in a patient with renal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3AF-958B-4AED-978D-D5C8D5DAE827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wake – A’s done, don’t need to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g – use a tongue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opharynx – for F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devices – oral airway, but if you are considering this, the patient should probably be intub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ubation – if the depressed respiratory status is due to opioids or benzodiazepines, these may eliminate the need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59BB-F14C-49FF-ADA7-E83BF1CE5258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s – are they breathing 14 times a minutes o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/mask – to support inadequate respirations, as you prepare for intub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dor – Gama hydroxybutyric acid is sometimes made with lye, can cause airway burns and ed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6EAC-18C0-4C67-8D16-A1121E7BC3B2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s – decrease challenge with h/o heart failure/renal failure/hepatic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achycardia:  do not give BB alone, you can worsen HTN if it is caused by alpha adrenergic stimulation as with coc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ccess:  2 large bore I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7787-0650-4176-AB88-A2A7BFE2767D}" type="slidenum">
              <a:rPr b="0" lang="en-US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ey catheter – monitor UOP, obtain urine drug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l temperature – oral temp can be inaccurate, especially in mouth br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or cool as indicated.  Remember you can use paralysis for hyperther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a – get a bedside finger stick or treat empir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amine – if they look malnourished, alcoholic.  It’s not routinely given to children.  Give before sugar to prevent wernicke korsakoff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934-CBE3-46A0-83C4-10C8C53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F50-829D-4648-A209-3A25040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A2F-C724-414C-BFB3-72CB2374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CC7-BFD5-40FA-9BED-98D5C853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7E5D-F23D-4B7E-B903-BCED4208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5C59-B435-40C0-AC06-A6A5A009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4774-1BDC-4E44-A0AF-4BFACC4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95F5-1D0C-49C9-8E86-76CAB2E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8FFE-D3E4-48D8-8D18-2921A95E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0122-5E47-4810-86DC-591EFDDE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3B6-3DDE-40E6-AE08-BBFFABE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BED-DC96-43EE-8380-2F46DBD8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6168-E047-43A7-A814-AA2A76B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0D53-8F08-4FA4-BB5B-E8117521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7AB0-B0A2-417F-8E81-7666FA3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C213-8209-4681-9B1E-DC835639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496D-433E-4871-A565-9B6DFB4B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D62-5B02-4EBA-AEDB-54566015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F39-63D3-4BAC-A5D4-CC823DA7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711-F6D6-4533-B6AB-D0A1AA10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04A-2C9D-4AF9-BC7E-E9308377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531-F7F8-44E9-B488-566E34A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123-80FF-4B38-895D-404DF12F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029-0076-491F-ADDF-E5A5055F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ccec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E7B2-BAA7-4818-8699-67AC4D64E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8977-57ED-462C-9048-FE02510EB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colog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C Emergency Medic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edical Student Lecture Ser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reat Seizur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orazepam 2 mg IV, may repeat as nee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lantin 10 mg/kg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 agit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aldol 5-10 mg I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ivan 2-4 mg IM or I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eodon 20 mg IM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nk about traum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REASSESS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. . . frequentl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, when, how much, why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x, OTC, herbals, supplements, vitami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lk to family, friends, EM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ll bottles, needles, beer cans, suicide no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pharmac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llergies, medical problems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hysical ex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tal signs: BP, HR, RR, T, O2 sa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uth: odors, mucous membranes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pi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reath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owel sou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tion/defec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eurologic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ssential Laboratory Test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lectroly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UN and creatin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FT’s, C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lysis, urine drug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oh, alcohol scr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, salicyla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pecific drug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egnancy te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ion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 – (HCO3 + C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:  8-12 mEq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K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raldehyde, phenform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on, isoniazid, ibuprof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thium, lactic acidosi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ylene glyc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rychnine, starvation, salicyl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smolar Ga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ulated osmolality – measured osmolalit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(Na) + glucose/18 + BUN/2.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rmal = 285-290 mOsm/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ap &gt; 10 mOsm/L suggests the presence of extra solutes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anol, methan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thylene glycol, isopropyl alcoh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nnitol, glycero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nical Pearl:  Anion gap acidosis with an osmolar gap should suggest methanol or ethylene glycol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ectrocardiogram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Prolonged QR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Phenothiaz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Sinus bradycardia/AV bloc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Beta-blockers, calcium channel blocker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Ventricular tachycard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caine, amphetami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hloral hydrat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heophyllin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Picture 4" descr="tcaekg"/>
          <p:cNvPicPr/>
          <p:nvPr/>
        </p:nvPicPr>
        <p:blipFill>
          <a:blip r:embed="rId1"/>
          <a:stretch/>
        </p:blipFill>
        <p:spPr>
          <a:xfrm>
            <a:off x="4724280" y="4448160"/>
            <a:ext cx="4419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agnos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ay not identify ingested substance(s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vide ABCs and supportive ca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ive antidote when appropria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ll regional poison control cen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rolinas Poison Center, Charlot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0-848-69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se-based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CU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od of obser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sychiatric evalu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foxglove"/>
          <p:cNvPicPr/>
          <p:nvPr/>
        </p:nvPicPr>
        <p:blipFill>
          <a:blip r:embed="rId1"/>
          <a:stretch/>
        </p:blipFill>
        <p:spPr>
          <a:xfrm>
            <a:off x="6491160" y="0"/>
            <a:ext cx="2652840" cy="210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esterndiamondback"/>
          <p:cNvPicPr/>
          <p:nvPr/>
        </p:nvPicPr>
        <p:blipFill>
          <a:blip r:embed="rId2"/>
          <a:stretch/>
        </p:blipFill>
        <p:spPr>
          <a:xfrm>
            <a:off x="152280" y="0"/>
            <a:ext cx="2667240" cy="254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mitriptyline"/>
          <p:cNvPicPr/>
          <p:nvPr/>
        </p:nvPicPr>
        <p:blipFill>
          <a:blip r:embed="rId3"/>
          <a:stretch/>
        </p:blipFill>
        <p:spPr>
          <a:xfrm>
            <a:off x="3276720" y="5105520"/>
            <a:ext cx="188568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ellyfish"/>
          <p:cNvPicPr/>
          <p:nvPr/>
        </p:nvPicPr>
        <p:blipFill>
          <a:blip r:embed="rId4"/>
          <a:stretch/>
        </p:blipFill>
        <p:spPr>
          <a:xfrm>
            <a:off x="5257800" y="411480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oleander"/>
          <p:cNvPicPr/>
          <p:nvPr/>
        </p:nvPicPr>
        <p:blipFill>
          <a:blip r:embed="rId5"/>
          <a:stretch/>
        </p:blipFill>
        <p:spPr>
          <a:xfrm>
            <a:off x="6781680" y="243828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opiates2"/>
          <p:cNvPicPr/>
          <p:nvPr/>
        </p:nvPicPr>
        <p:blipFill>
          <a:blip r:embed="rId6"/>
          <a:stretch/>
        </p:blipFill>
        <p:spPr>
          <a:xfrm>
            <a:off x="3124080" y="152280"/>
            <a:ext cx="142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sarinnervegas"/>
          <p:cNvPicPr/>
          <p:nvPr/>
        </p:nvPicPr>
        <p:blipFill>
          <a:blip r:embed="rId7"/>
          <a:stretch/>
        </p:blipFill>
        <p:spPr>
          <a:xfrm>
            <a:off x="4800600" y="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litocybe_dealbata"/>
          <p:cNvPicPr/>
          <p:nvPr/>
        </p:nvPicPr>
        <p:blipFill>
          <a:blip r:embed="rId8"/>
          <a:stretch/>
        </p:blipFill>
        <p:spPr>
          <a:xfrm>
            <a:off x="2209680" y="289548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ethyleneglycol"/>
          <p:cNvPicPr/>
          <p:nvPr/>
        </p:nvPicPr>
        <p:blipFill>
          <a:blip r:embed="rId9"/>
          <a:stretch/>
        </p:blipFill>
        <p:spPr>
          <a:xfrm>
            <a:off x="3886200" y="2209680"/>
            <a:ext cx="241920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scorpion"/>
          <p:cNvPicPr/>
          <p:nvPr/>
        </p:nvPicPr>
        <p:blipFill>
          <a:blip r:embed="rId10"/>
          <a:stretch/>
        </p:blipFill>
        <p:spPr>
          <a:xfrm>
            <a:off x="228600" y="4572000"/>
            <a:ext cx="289548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tylenol"/>
          <p:cNvPicPr/>
          <p:nvPr/>
        </p:nvPicPr>
        <p:blipFill>
          <a:blip r:embed="rId11"/>
          <a:stretch/>
        </p:blipFill>
        <p:spPr>
          <a:xfrm>
            <a:off x="152280" y="2590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 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arrhe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o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in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adycardia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efec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ronchospasm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 upset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mesi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crimatio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imp 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alivation, sweating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holinergic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Irreversibly bind cholinesteras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versibly bind cholinesterases, poor CNS penet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uscarinic and nicot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esticides, nerve agen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litary personne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Field workers, crop dust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ruckers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st control, custodial worker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do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 for muscarin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alidoxime reverses phosphorylation of cholinestera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cholinergic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copolam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lycopyrrola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enz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spasmo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cyclo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oscy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xybutyni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idin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CA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ydria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3520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histamin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hlorpheni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yproheptad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droxy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iphenhydram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ecli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meth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ntipsychotic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Clo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Olanzap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hioridazin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imson we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nticholinergic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0512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mucus membran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ry as a bo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ntal status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d as a hatt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shed sk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d as a bee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ydri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ind as a bat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e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t as a har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creased bowel soun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reten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izure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ax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3" name="Picture 4" descr="amanitamuscaria"/>
          <p:cNvPicPr/>
          <p:nvPr/>
        </p:nvPicPr>
        <p:blipFill>
          <a:blip r:embed="rId1"/>
          <a:stretch/>
        </p:blipFill>
        <p:spPr>
          <a:xfrm>
            <a:off x="6477120" y="3581280"/>
            <a:ext cx="22381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oxidrom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spiratory depres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o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oactive bowel sound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mpathomimetic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tens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Tachycard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Hyperpyrexi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ydria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nxiety, deliriu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00"/>
                </a:solidFill>
                <a:uFillTx/>
                <a:latin typeface="Times New Roman"/>
              </a:rPr>
              <a:t>Clinical Pearl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:  Sweating differentiates sympathomimetic 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Times New Roman"/>
              </a:rPr>
              <a:t>and anticholinergic toxidrome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etaminophe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-acetylcyste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ganophosphat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          Atropine, pralidoxim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cholinergi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ysostig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rsenic, mercury, gol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mercapro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nzodiazepine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lumazeni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eta blocker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lcium channel block       calc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rboxy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00% O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yanid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trite, Na thiosulf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goxin antibodies       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tidot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thylene glyc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p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feroxam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soniazid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yridox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anol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mepizole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emoglob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hylene bl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pioid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aloxo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alicylat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, 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CA’s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odium bicarbon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rfar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FP, vitamin 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rinciples of Decontamina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494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exposu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Irrigate copiously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on’t forget your ABC’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atient must be fully awake or intub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ost common complication is 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ery little evidence for their u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eneral approach to the poisoned pati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drom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pecific antido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econtamination and enhanced eli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463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k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otect yourself and other HC work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move cloth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ush with water or normal sa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Use soap and water if oily substan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hemical neutralization can potentiate injur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rrosive agents injure skin and can have systemic effec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Picture 4" descr="decontamination2"/>
          <p:cNvPicPr/>
          <p:nvPr/>
        </p:nvPicPr>
        <p:blipFill>
          <a:blip r:embed="rId1"/>
          <a:stretch/>
        </p:blipFill>
        <p:spPr>
          <a:xfrm>
            <a:off x="6553080" y="1676520"/>
            <a:ext cx="2293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y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move contact l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lush copiously with water or normal sa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e local anesthetic dr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ue irrigation until pH is norm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lit lamp and fluorescein exam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ive supplemental humidified oxyg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bserve for airway obstru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tubate as necessar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yrup of ipecac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Within minutes of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spiration, gastritis, Mallory-Weiss tear, drowsines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arely, if ever, given in 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Gastric lavag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Does not reliably remove pills and pill fragment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d 30-60 minutes after inges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Useful after caustic liquid ingestion prior to endoscop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Not used for sustained release/enteric coated ingestion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erforation, nosebleed, vomiting, aspirati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ecent studies suggest that activated charcoal alone is just as effective as gut emptying followed by charcoal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mits drug absorption in the GI tra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ithin 60 minutes of inges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atient must be awake or intuba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miting, aspiration, bezoar form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aindication: bowel obstruction or ileus with disten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 gram/kg PO or G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tivated Charco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good for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ithi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coho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drocarb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ustic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I Deconta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athartic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Hasten passage of ingestions or AC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Severe fluid loss, hypernatremia, hyperosmolarity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10% magnesium citrate 3ml/kg or 70% sorbitol 1-2 …./kg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ole bowel irrig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Large ingestions, SR or EC tablets, packers (ex. cocaine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Contraindications:  obstruction or ileus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ecff"/>
                </a:solidFill>
                <a:latin typeface="Times New Roman"/>
              </a:rPr>
              <a:t>Aspiration, nausea, may decrease effectiveness of charcoal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rinary manipu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orced diure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kaliniz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peat-dose activated charco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y large ingestions of toxic subst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stained release and enteric coated prepar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arbamazepine, phenobarbital, phenyto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alicylate, theophylline, digitox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modialysis, Hemoperfu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ritoneal dialysis, Hemofil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nhanced Elimin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oes the patient need it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intoxication with a deteriorating condition despite maximal supportive ca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sual route of elimination is impair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 known lethal dose or lethal blood leve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derlying medical conditions that can increase complic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pecific Toxi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etominoph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alicylat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ricyclic Antidepressants (TC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neral Approach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hysical ex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, imag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agnosis, antidote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sposition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476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x dose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4g/day adult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90 mg/kg day ki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eak serum levels: 4 hours after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hat are the three methods of APAP metabolism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lucuronidation (90% norma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ulfonat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450 mixed oxidase enzymes (5% nl thru pathw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8" name="Picture 5" descr="tylenol-now"/>
          <p:cNvPicPr/>
          <p:nvPr/>
        </p:nvPicPr>
        <p:blipFill>
          <a:blip r:embed="rId1"/>
          <a:stretch/>
        </p:blipFill>
        <p:spPr>
          <a:xfrm>
            <a:off x="7924680" y="304920"/>
            <a:ext cx="898560" cy="1752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2514600" y="1600200"/>
            <a:ext cx="44326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ahoma"/>
              </a:rPr>
              <a:t>Magic number to remember is 140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acute inges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rect hepatocellular toxicity with centrolobular distribution (hepatic vei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an also have renal damage and pancreatiti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tages of Tylenol Toxicit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 (0-24hrs): n/v, but most asymptomat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 latent stage (24-48hrs): subclinical increase in ast/alt/bil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II hepatic stage (3-4dys): liver failure, ruq pain, vomiting, jaundice, coagulopathy, hypoglycemia, renal failure, metabolic acidos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V recovery stage (4dys-2wks): resolution of hepatic dysfunc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eed 4 hour level and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-acetylcysteine (NAC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Dx: 4 hour level compared to the Rumack and Matthews nomogr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150ug/ml at 4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x: NAC </a:t>
            </a: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140mg/kg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then 70mg/kg every 4 hours for 17 dos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We Have PO and IV dos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Only useful for one time ingestion (not chronic ingestion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3028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7" name="Picture 7" descr="acetadote2"/>
          <p:cNvPicPr/>
          <p:nvPr/>
        </p:nvPicPr>
        <p:blipFill>
          <a:blip r:embed="rId1"/>
          <a:stretch/>
        </p:blipFill>
        <p:spPr>
          <a:xfrm>
            <a:off x="6095880" y="2743200"/>
            <a:ext cx="258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cetominophen (apap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f time of ingestion unknown, draw level immediately and again at 2-4 hour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bs: LFTs, coags, lytes, aspirin, ETOH,  tox scre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AC indicatio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gestions with potential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te presentations with potential or ongoing toxicit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hronic overdose with evidence of hepatic dam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ylenol Overdose Disposi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dmit if…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nown toxicity / potential toxic lev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b evidence of hepatic damag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time of ingestion and sx consistent with toxic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nknown ingestion time with measurable acetaminophen level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(asa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ak acid, rapidly 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nteric coated has delayed absorp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 dose: 16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l dose 480 mg/k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ixed respiratory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imulates respiratory drive causing hyperventilation, but limits ATP production</a:t>
            </a:r>
            <a:r>
              <a:rPr b="0" lang="en-US" sz="24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il of wintergreen, 1ml = 1400m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aspirin"/>
          <p:cNvPicPr/>
          <p:nvPr/>
        </p:nvPicPr>
        <p:blipFill>
          <a:blip r:embed="rId1"/>
          <a:stretch/>
        </p:blipFill>
        <p:spPr>
          <a:xfrm>
            <a:off x="6934320" y="3808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alicylates Symptom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achypnea, tachycardia, hypertherm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Resp alkalosis-metabolic acido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tered serum gluco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G metabolic acidosis (MUDPILE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hydration (vomiting, tachypnea, sweati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564160" y="190512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d pain/n/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nnitus, hearing lo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thargy, seizures, altered mental stat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oncardiogenic pulmonary ede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2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Evaluation of ASA Overdo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tes, ABG, LFTs, CBC, preg.test, urine P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erum salicylate levels (toxicity at 2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xicity correlates POORLY with lev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ion with DONE nomegram based on single ingestion of regular ASA at levels drawn 6 hrs after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nderestimates toxicity in cases of severe acidemia or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2" name="Picture 5" descr="poisoning-image13"/>
          <p:cNvPicPr/>
          <p:nvPr/>
        </p:nvPicPr>
        <p:blipFill>
          <a:blip r:embed="rId1"/>
          <a:stretch/>
        </p:blipFill>
        <p:spPr>
          <a:xfrm>
            <a:off x="6324480" y="1066680"/>
            <a:ext cx="2624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en-US" sz="12000" spc="-1" strike="noStrike">
                <a:solidFill>
                  <a:srgbClr val="ccecff"/>
                </a:solidFill>
                <a:latin typeface="Times New Roman"/>
              </a:rPr>
              <a:t>’s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rapy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BC’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ctivated charco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Urinary alkalinization (start if serum level is greater than 35mg/dl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3 amps bicarbinate in 1 L D5W at 150 ml/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y increasing urinary pH to greater than 8, ASA gets trapped in tubes and cannot be reabsorb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alysis for severe acidemia, volume overload, pulmonary edema, cardiac or renal failure, seizures, coma, levels &gt; 100mg/dl in acute ingestion, or &gt; 60-80 mg/dl in chronic inges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isposion for AS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 gets charcoal and remain asymptomatic after 6-8 hours = Possible D/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ustained release requires longer observation peri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ts with toxic levels, symptomatic, or develop symptoms = Admi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CA (Tricyclic Antidepressants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ading cause of death by intentional overd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cks sodium channe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ath by cardiovascular dysrhythymias and cardiovascular collap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st TCA’s have anticholinergic effect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ry skin, blurry vision, ho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vere OD: hypotension, seizures, respiratory depres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severe cases: ARDS, rhabdomyolisis, DIC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ET AN EK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4952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What do you see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1" name="Picture 9" descr="http://www.jacobi-em.com/photogallery/photo00000645/TCA%20ekg2.JPG"/>
          <p:cNvPicPr/>
          <p:nvPr/>
        </p:nvPicPr>
        <p:blipFill>
          <a:blip r:embed="rId1"/>
          <a:stretch/>
        </p:blipFill>
        <p:spPr>
          <a:xfrm>
            <a:off x="2209680" y="1676520"/>
            <a:ext cx="6243840" cy="32288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1981080" y="5562720"/>
            <a:ext cx="124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Prolonged QRS, sinus tachycardia, “tall R in R” – tall R wave in lead aVR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reatment of TCA Overdo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odium Bicarbinate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itial bolus of 2 am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ip 3 amps in 1 L D5W at 150 ml/h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itrate for serum pH of 7.45-7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V fluid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idocaine for perisistent arrhythymi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VOID Class Ia drugs (procainimide quinidine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ank You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ny Questions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ferences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isoning &amp; Drug Overdos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, California Poison Control System.  KR Olson, 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Appleton &amp; Lange, 1999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 Board Review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erie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L Stead, Lippincott Williams &amp; Wilkins, 2000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Emergency Medicine, A comprehensiv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study guid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  Tintinalli, 6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dition, McGraw Hill, 2004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wa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43200" y="175248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irway obstruction can cause death after poiso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Flaccid tong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pi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Respiratory arr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valuate mental status and gag/cough reflex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irway interventions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niffing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w thru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Head-down, left-sided posi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Examine the oropharynx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ear secre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irway devices:  nasal trumpet, oral airway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ntuba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onsider naloxone fir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Picture 1029" descr="vocalcords"/>
          <p:cNvPicPr/>
          <p:nvPr/>
        </p:nvPicPr>
        <p:blipFill>
          <a:blip r:embed="rId1"/>
          <a:stretch/>
        </p:blipFill>
        <p:spPr>
          <a:xfrm>
            <a:off x="6324480" y="304920"/>
            <a:ext cx="12956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ath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4120" y="1905120"/>
            <a:ext cx="617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termine if respirations are adequa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Give supplemental oxy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ssist with bag-valve-mas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heck oxygen saturation, AB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uscultate lung field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spasm: Albuterol nebuliz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Bronchorrhea/rales: Atrop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Stridor: Determine need for immediate intub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rcula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IV access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btain blood 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asure blood pressure, pul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ormal saline fluid challenge, 20 mL/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Vasopressors if still hypotensiv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RBC’s if bleeding or anemi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ertension treatment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Nitroprusside, beta blocker, or nitroglyceri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ntinuous ECG monitor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ssess for arrhythmias, treat accordingl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Picture 4" descr="circulation"/>
          <p:cNvPicPr/>
          <p:nvPr/>
        </p:nvPicPr>
        <p:blipFill>
          <a:blip r:embed="rId1"/>
          <a:stretch/>
        </p:blipFill>
        <p:spPr>
          <a:xfrm>
            <a:off x="7315200" y="304920"/>
            <a:ext cx="139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upportive Car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ley catheter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ctal temperatur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ccucheck, treat hypoglyem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ma cocktai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iamine: 100 mg IV,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dextro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xtrose: 50 grams IV pu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Naloxone: 0.01 mg/kg IV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2:15:56Z</dcterms:created>
  <dc:creator> </dc:creator>
  <dc:description/>
  <dc:language>en-US</dc:language>
  <cp:lastModifiedBy>Steinhart Rachel</cp:lastModifiedBy>
  <dcterms:modified xsi:type="dcterms:W3CDTF">2008-12-23T04:09:09Z</dcterms:modified>
  <cp:revision>67</cp:revision>
  <dc:subject/>
  <dc:title>Poisoning: An Overview</dc:title>
</cp:coreProperties>
</file>