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22.jpeg" ContentType="image/jpeg"/>
  <Override PartName="/ppt/media/image17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FE84-FBC4-42C9-9125-86B517D9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3EFB-0AB7-4514-974F-CEF98AA8CCA7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seizures – don’t mistake ridigity for seiz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C51A-95ED-4E2D-BD33-A7751477BCA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ta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they take it, important for treatment and dis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, was it a toxic in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was it a suicide 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 have allergies, comorbidities – check old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700B-4021-47DD-87A5-E7C6EAD0AF33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– caustic ingestions, Lye is sometimes used to make G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– warm, dry, red, sweaty, bruises, track marks, r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logic – are they moving their extremities, look for any focal paralysis, look glob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uscle rigidity, check their reflexes including their response to pain if al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75D6-2A91-4287-B6F3-23336A81B9AA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ponatremia – lithium intox from DI, amitript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kalemia – theophylline, B2 agonist, acid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you clues to the ingested substance and helps you prevent dangerous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an anion g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-  BB, caffeine, theophylline -- can cause hyo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anol, insulin, salcylates – can cause hyper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/creatinine to evaluate ren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lenol, ethylene glycol, heavy metals (PCP, amphet, cocaine through rhab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Ts – tylenol, arsenic, ethanol, iron, valpr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K – rhabdo, rigidity, arrhythmias -  PCP, cocaine, amphet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alysis – hemoglobinuria, myoglobinuria, crystallu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drug screen – beware of cross reactivity, ie.  Diphenhydramine, methadone, dextromethorphan can make PCP screen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lality to calculate osmolar gap.  Increased by ethanol, isopropyl alcohol, methanol, mannitol,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3CE8-0FDA-469D-86AE-5B89ECF96856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based depending on type of ingestion, amount, time,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U admission for any symptomatic patient or asymptomatic with significant ingestion who may later become sympt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A416-4EA2-4303-AFB2-9C9E736D534E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 – paralysis, fasiculations, hyporeflex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1C8E-4439-4ECF-B220-1934414BE29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versibly bind cholinesterases – acetylcholine supply increases and you exhaust the postsynaptic neuronal transmission in the CNS and P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arinic – parasympathetic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ic – gives you muscula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 – physostigmine, neostig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 – antihelmintic, insec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4BFD-757B-4C14-AA46-68BA4125CE1E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ita muscaria mush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E05C-E545-4E97-88D8-FF13D82DE4E1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ostigmine – for CNS effects.  Side effects:  seizures, vomiting, diarrhea, abdominal cr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:  tachydysrhythmias with hemodynamic compromise, intractable seizures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agitation or psychos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indications:  conduction disturbances, prolonged QRS,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6DD5-A153-4006-81A0-02D8D342FC94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– skin, eyes, 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– GI decontamination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F17B-8093-4219-984A-CD77A54AF9F3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ic effects – formaldehyde can can acidosis and formate poison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fluoric acid can cause hypocalcemia and hyperka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C408-9AAA-45D4-8602-5154C4B8F3A2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ophthomalogy invovled early, especially if this is a site threatening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AD9C-6FFE-421C-809C-5CFD50D19692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/EC ingestions – whole bowel irrigation is preferred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2F26-EFA4-4830-AF9E-1D2620B261A4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harchoal – again, no real good evidence to use it, bu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number of reasons:  relatively harm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like we’re do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, it is the standard of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E447-BFCD-4FED-B1F4-4B299E39899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artic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en passage …..  But no evidence that they decrease morbidity or mortality and they can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fluid loss and lyte imbalanc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gestions, especially if not adsorbed to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D531-8B95-4609-B6C9-FEF1BC0A240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diuresis can cause fluid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ization as in salicylate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erfusion – similar equipment and access, blood pumped through a column containing an adsorbant material like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dependent on molecular size, solubility, and protein binding, achieves greater clearance rates for most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toneal dialysis and hemofiltration – less invasive than above, used for a continuous removal over time in a non-critical pati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in acute poisonings is uncl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4F36-CADA-46FB-8B21-02D490ED777C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 patient stable, will supportive care alone enable recovery, is there an antido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 includ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 route – lithium overdose in a patient with renal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8007-A19E-483C-B8F3-3247C569B3E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wake – A’s done, don’t need to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g – use a tongue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opharynx – for F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way devices – oral airway, but if you are considering this, the patient should probably be intub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ubation – if the depressed respiratory status is due to opioids or benzodiazepines, these may eliminate the need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E54-2F49-4B9D-B22A-FB5DAB259965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s – are they breathing 14 times a minutes o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/mask – to support inadequate respirations, as you prepare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dor – Gama hydroxybutyric acid is sometimes made with lye, can cause airway burns and ed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14B6-EEDC-4CC8-8FDF-6884DAF3A09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s – decrease challenge with h/o heart failure/renal failure/hepatic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achycardia:  do not give BB alone, you can worsen HTN if it is caused by alpha adrenergic stimulation as with coc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access:  2 large bore I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9F65-5594-4616-BC8F-3A37F38768F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ey catheter – monitor UOP, obtain urine drug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l temperature – oral temp can be inaccurate, especially in mouth br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or cool as indicated.  Remember you can use paralysis for hyperther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glycemia – get a bedside finger stick or treat empir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amine – if they look malnourished, alcoholic.  It’s not routinely given to children.  Give before sugar to prevent wernicke korsakoff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E21-9CEC-4FE8-80C6-A41F3240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6C1-4D17-4F9C-8EA3-8B0559FE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E32-186F-4F68-BF7F-B5FE6599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BC3-9EDA-4FCE-A164-AEBC012E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3885-21E4-4FF7-B7A3-2FA34CA7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1EAF-1846-446A-AE72-DDDBCACE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7771-1C85-4E60-BAAF-655562A8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ED77-C402-42C1-85FD-B4D4A801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2FC8-CBF4-4BD7-A844-C2FAFCCE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C840-8111-426E-98A4-B83D8445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CA90-1153-458E-A481-7021B9AA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8F9-DAFD-45E1-8E6D-EAA48B6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2244-0096-4681-ADE0-13120DD4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424A-3F3A-42C7-9B73-D8190C87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75FE-E3EA-4C35-A10D-C73C421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5D83-4A6D-4EB3-9A9E-B883F700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4E93-A8CA-4582-8417-46B1522C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A0F-30C8-4389-9EDA-89654CCA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F28-0EB2-48A7-8A75-9541E16B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DC9-A333-49B9-90B2-96E872BA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3B0-9C9F-48CC-843F-A571C36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D5A-0DF9-4912-A03A-D0E4BD90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F93-3828-4746-A90A-5C0EB8EB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954-1230-42E3-A32E-4E5560BA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ccec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8EAB-1100-4A7F-AE31-2209C6075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A99B-4E4D-4BA6-9C75-0FD74174B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colog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C Emergency Medic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edical Student Lecture Ser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reat Seizur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orazepam 2 mg IV, may repeat as need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lantin 10 mg/kg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 agit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aldol 5-10 mg I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ivan 2-4 mg IM or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eodon 20 mg IM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nk about traum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REASSESS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. . . frequentl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, when, how much, why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x, OTC, herbals, supplements, vitami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alk to family, friends, EM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ll bottles, needles, beer cans, suicide no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pharmacy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llergies, medical problems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hysical ex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tal signs: BP, HR, RR, T, O2 sa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uth: odors, mucous membran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pi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reath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owel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tion/defec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eurologic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ssential Laboratory Test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lectroly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UN and creatin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FT’s, C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lysis, urine drug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oh, alcohol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, salicyla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pecific drug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egnancy te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ion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 – (HCO3 + C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:  8-12 mEq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K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raldehyde, phenform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on, isoniazid, ibuprof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thium, lactic acidosi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ylene glyc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rychnine, starvation, salicyl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smolar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ulated osmolality – measured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(Na) + glucose/18 + BUN/2.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 = 285-290 mOsm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ap &gt; 10 mOsm/L suggests the presence of extra solut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, m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ylene glycol, isopropyl alcoh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nnitol, glycer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nical Pearl:  Anion gap acidosis with an osmolar gap should suggest methanol or ethylene glycol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ectrocardiogra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Prolonged QR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Phenothiaz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Sinus bradycardia/AV block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Beta-blockers, 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Ventricular tachycard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ocaine, amphetam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hloral hydrat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heophyllin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Picture 4" descr="tcaekg"/>
          <p:cNvPicPr/>
          <p:nvPr/>
        </p:nvPicPr>
        <p:blipFill>
          <a:blip r:embed="rId1"/>
          <a:stretch/>
        </p:blipFill>
        <p:spPr>
          <a:xfrm>
            <a:off x="4724280" y="4448160"/>
            <a:ext cx="4419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agnosi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May not identify ingested substance(s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vide ABCs and supportive ca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ive antidote when appropria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regional poison control cen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rolinas Poison Center, Charlot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00-848-6946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se-based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CU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od of observ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sychiatric evalu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foxglove"/>
          <p:cNvPicPr/>
          <p:nvPr/>
        </p:nvPicPr>
        <p:blipFill>
          <a:blip r:embed="rId1"/>
          <a:stretch/>
        </p:blipFill>
        <p:spPr>
          <a:xfrm>
            <a:off x="6491160" y="0"/>
            <a:ext cx="2652840" cy="210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westerndiamondback"/>
          <p:cNvPicPr/>
          <p:nvPr/>
        </p:nvPicPr>
        <p:blipFill>
          <a:blip r:embed="rId2"/>
          <a:stretch/>
        </p:blipFill>
        <p:spPr>
          <a:xfrm>
            <a:off x="152280" y="0"/>
            <a:ext cx="2667240" cy="254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mitriptyline"/>
          <p:cNvPicPr/>
          <p:nvPr/>
        </p:nvPicPr>
        <p:blipFill>
          <a:blip r:embed="rId3"/>
          <a:stretch/>
        </p:blipFill>
        <p:spPr>
          <a:xfrm>
            <a:off x="3276720" y="5105520"/>
            <a:ext cx="188568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ellyfish"/>
          <p:cNvPicPr/>
          <p:nvPr/>
        </p:nvPicPr>
        <p:blipFill>
          <a:blip r:embed="rId4"/>
          <a:stretch/>
        </p:blipFill>
        <p:spPr>
          <a:xfrm>
            <a:off x="5257800" y="411480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oleander"/>
          <p:cNvPicPr/>
          <p:nvPr/>
        </p:nvPicPr>
        <p:blipFill>
          <a:blip r:embed="rId5"/>
          <a:stretch/>
        </p:blipFill>
        <p:spPr>
          <a:xfrm>
            <a:off x="6781680" y="243828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opiates2"/>
          <p:cNvPicPr/>
          <p:nvPr/>
        </p:nvPicPr>
        <p:blipFill>
          <a:blip r:embed="rId6"/>
          <a:stretch/>
        </p:blipFill>
        <p:spPr>
          <a:xfrm>
            <a:off x="3124080" y="152280"/>
            <a:ext cx="142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sarinnervegas"/>
          <p:cNvPicPr/>
          <p:nvPr/>
        </p:nvPicPr>
        <p:blipFill>
          <a:blip r:embed="rId7"/>
          <a:stretch/>
        </p:blipFill>
        <p:spPr>
          <a:xfrm>
            <a:off x="4800600" y="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itocybe_dealbata"/>
          <p:cNvPicPr/>
          <p:nvPr/>
        </p:nvPicPr>
        <p:blipFill>
          <a:blip r:embed="rId8"/>
          <a:stretch/>
        </p:blipFill>
        <p:spPr>
          <a:xfrm>
            <a:off x="2209680" y="2895480"/>
            <a:ext cx="1600200" cy="1308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ethyleneglycol"/>
          <p:cNvPicPr/>
          <p:nvPr/>
        </p:nvPicPr>
        <p:blipFill>
          <a:blip r:embed="rId9"/>
          <a:stretch/>
        </p:blipFill>
        <p:spPr>
          <a:xfrm>
            <a:off x="3886200" y="2209680"/>
            <a:ext cx="2419200" cy="241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scorpion"/>
          <p:cNvPicPr/>
          <p:nvPr/>
        </p:nvPicPr>
        <p:blipFill>
          <a:blip r:embed="rId10"/>
          <a:stretch/>
        </p:blipFill>
        <p:spPr>
          <a:xfrm>
            <a:off x="228600" y="4572000"/>
            <a:ext cx="2895480" cy="20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tylenol"/>
          <p:cNvPicPr/>
          <p:nvPr/>
        </p:nvPicPr>
        <p:blipFill>
          <a:blip r:embed="rId11"/>
          <a:stretch/>
        </p:blipFill>
        <p:spPr>
          <a:xfrm>
            <a:off x="152280" y="2590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 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arrhe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o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adycardi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efec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onchospas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 upset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mp 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, sweating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Irreversibly bind cholinesterase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versibly bind cholinesterases, poor CNS penet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uscarinic and nicot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esticides, nerve agen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litary personne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Field workers, crop dust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ruckers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st control, custodial work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do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 for muscar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alidoxime reverses phosphorylation of cholinestera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cholinergic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copolam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lycopyrrol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enz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spasmo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cyclo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oscy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xybutyni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idin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ydria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3520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histamin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hlorpheni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yproheptad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droxy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phenhyd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ecli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meth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psychotic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o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lan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hiorid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imson we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ticholinergic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858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mucus membrane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ry as a bon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ntal status chan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d as a hatte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shed sk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d as a bee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ydri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ind as a ba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e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t as a har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creased bowel soun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reten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izure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ax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Picture 4" descr="amanitamuscaria"/>
          <p:cNvPicPr/>
          <p:nvPr/>
        </p:nvPicPr>
        <p:blipFill>
          <a:blip r:embed="rId1"/>
          <a:stretch/>
        </p:blipFill>
        <p:spPr>
          <a:xfrm>
            <a:off x="6477120" y="3581280"/>
            <a:ext cx="2238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spiratory depres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o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oactive bowel sound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mpathomime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pyrex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ydria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nxiety, delir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Clinical Pearl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:  Sweating differentiates sympathomimetic  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and anticholinergic toxidrome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-acetylcyste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Atropine, pralidoxim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cholinergic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ysostig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rsenic, mercury, gol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mercapro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nzodiazepin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mazeni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ta blocker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ag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ium channel block       calc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rboxy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00% O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yanid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itrite, Na thiosulf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 antibodies                     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hylene glyc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p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t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ferox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soniazi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yridox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an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ylene bl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loxo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alicylat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CA’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odium bicarbon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rf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FP, vitamin 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Principles of Decontaminati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494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exposu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rrigate copiously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on’t forget your ABC’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atient must be fully awake or intub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ost common complication is 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ery little evidence for their u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eneral approach to the poisoned pati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drom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pecific antido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econtamination and enhanced eli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463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 HC work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cloth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ush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Use soap and water if oily substa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hemical neutralization can potentiate injur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rrosive agents injure skin and can have system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6" name="Picture 4" descr="decontamination2"/>
          <p:cNvPicPr/>
          <p:nvPr/>
        </p:nvPicPr>
        <p:blipFill>
          <a:blip r:embed="rId1"/>
          <a:stretch/>
        </p:blipFill>
        <p:spPr>
          <a:xfrm>
            <a:off x="6553080" y="1676520"/>
            <a:ext cx="22939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y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move contact le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lush copiously with water or normal sal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e local anesthetic dr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ue irrigation until pH is norm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lit lamp and fluorescein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hal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ive supplemental humidified oxyg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Observe for airway obstru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tubate as necessar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rup of ipecac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Within minutes of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spiration, gastritis, Mallory-Weiss tear, drowsines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arely, if ever, given in E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astric lavag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oes not reliably remove pills and pill fragment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d 30-60 minutes after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ful after caustic liquid ingestion prior to endoscop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Not used for sustained release/enteric coated ingestion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rforation, nosebleed, vomiting, aspi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ecent studies suggest that activated charcoal alone is just as effective as gut emptying followed by charcoal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mits drug absorption in the GI tra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ithin 60 minutes of inges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atient must be awake or intuba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miting, aspiration, bezoar form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aindication: bowel obstruction or ileus with disten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1 gram/kg PO or G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tivated Charcoa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good for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ith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coho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drocarb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tic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thartic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Hasten passage of ingestions or AC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Severe fluid loss, hypernatremia, hyperosmolarity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10% magnesium citrate 3ml/kg or 70% sorbitol 1-2 …./k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ole bowel irrig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Large ingestions, SR or EC tablets, packers (ex. cocaine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Aspiration, nausea, may decrease effectiveness of charcoal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ry manipu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rced diure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peat-dose activated charco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ery large ingestions of toxic subst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stained release and enteric coated prepar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zepine, phenobarbital, phenyto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alicylate, theophylline, digitox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modialysis, Hemoperfu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toneal dialysis, Hemofil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oes the patient need it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intoxication with a deteriorating condition despite maximal supportive ca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ual route of elimination is impair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 known lethal dose or lethal blood leve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derlying medical conditions that can increase complic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pecific Toxi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etominoph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alicyla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ricyclic Antidepressants (TCA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neral Approach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hysical ex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, imag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agnosis, antidote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sposition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ax dose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4g/day adult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90 mg/kg day ki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ak serum levels: 4 hours after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at are the three methods of APAP metabolism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uronidation (90% norma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lfon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450 mixed oxidase enzymes (5% n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8" name="Picture 5" descr="tylenol-now"/>
          <p:cNvPicPr/>
          <p:nvPr/>
        </p:nvPicPr>
        <p:blipFill>
          <a:blip r:embed="rId1"/>
          <a:stretch/>
        </p:blipFill>
        <p:spPr>
          <a:xfrm>
            <a:off x="7924680" y="304920"/>
            <a:ext cx="898560" cy="1752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2514600" y="1600200"/>
            <a:ext cx="4432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ahoma"/>
              </a:rPr>
              <a:t>Magic number to remember is 140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acute inges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rect hepatocellular toxicity with centrolobular distribution (hepatic vein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n also have renal damage and pancreatiti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tages of Tylenol Toxic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 (0-24hrs): n/v, but most asymptomat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 latent stage (24-48hrs): subclinical increase in ast/alt/bil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I hepatic stage (3-4dys): liver failure, ruq pain, vomiting, jaundice, coagulopathy, hypoglycemia, renal failure, metabolic acidos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V recovery stage (4dys-2wks): resolution of hepatic dysfun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eed 4 hour level and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-acetylcysteine (NAC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x: 4 hour level compared to the Rumack and Matthews nomogra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150ug/ml at 4 hou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x: NAC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then 70mg/kg every 4 hours for 17 dos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We Have PO and IV dos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nly useful for one time ingestion (not chronic ingestion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7" name="Picture 7" descr="acetadote2"/>
          <p:cNvPicPr/>
          <p:nvPr/>
        </p:nvPicPr>
        <p:blipFill>
          <a:blip r:embed="rId1"/>
          <a:stretch/>
        </p:blipFill>
        <p:spPr>
          <a:xfrm>
            <a:off x="6095880" y="2743200"/>
            <a:ext cx="258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f time of ingestion unknown, draw level immediately and again at 2-4 hour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: LFTs, coags, lytes, aspirin, ETOH,  tox scre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AC indica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gestions with potential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te presentations with potential or ongoing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hronic overdose with evidence of hepatic dam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ylenol Overdose 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dmit if…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nown toxicity / potential toxic lev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b evidence of hepatic damag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time of ingestion and sx consistent with toxic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ingestion time with measurable acetaminophen level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(asa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eak acid, rapidly 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nteric coated has delayed absorp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 dose: 16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l dose 48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ixed respiratory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timulates respiratory drive causing hyperventilation, but limits ATP production</a:t>
            </a:r>
            <a:r>
              <a:rPr b="0" lang="en-US" sz="24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il of wintergreen, 1ml = 1400m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Picture 5" descr="aspirin"/>
          <p:cNvPicPr/>
          <p:nvPr/>
        </p:nvPicPr>
        <p:blipFill>
          <a:blip r:embed="rId1"/>
          <a:stretch/>
        </p:blipFill>
        <p:spPr>
          <a:xfrm>
            <a:off x="6934320" y="38088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Symptom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pnea, tachycardia, hypertherm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Resp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tered serum 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G metabolic acidosis (MUDPILE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hydration (vomiting, tachypnea, sweati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564160" y="190512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d pain/n/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nnitus, hearing lo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rgy, seizures, altered mental stat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ncardiogenic pulmonary edem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2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valuation of ASA Overdos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tes, ABG, LFTs, CBC, preg.test, urine P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salicylate levels (toxicity at 2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ity correlates POORLY with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ion with DONE nomegram based on single ingestion of regular ASA at levels drawn 6 hrs after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nderestimates toxicity in cases of severe acidemia or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2" name="Picture 5" descr="poisoning-image13"/>
          <p:cNvPicPr/>
          <p:nvPr/>
        </p:nvPicPr>
        <p:blipFill>
          <a:blip r:embed="rId1"/>
          <a:stretch/>
        </p:blipFill>
        <p:spPr>
          <a:xfrm>
            <a:off x="6324480" y="1066680"/>
            <a:ext cx="2624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Times New Roman"/>
              </a:rPr>
              <a:t>ABC</a:t>
            </a:r>
            <a:r>
              <a:rPr b="0" lang="en-US" sz="12000" spc="-1" strike="noStrike">
                <a:solidFill>
                  <a:srgbClr val="ccecff"/>
                </a:solidFill>
                <a:latin typeface="Times New Roman"/>
              </a:rPr>
              <a:t>’s</a:t>
            </a:r>
            <a:endParaRPr b="0" lang="en-US" sz="1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rapy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alkalinization (start if serum level is greater than 3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3 amps bicarbinate in 1 L D5W at 150 ml/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y increasing urinary pH to greater than 8, ASA gets trapped in tubes and cannot be re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alysis for severe acidemia, volume overload, pulmonary edema, cardiac or renal failure, seizures, coma, levels &gt; 100mg/dl in acute ingestion, or &gt; 60-80 mg/dl in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on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 gets charcoal and remain asymptomatic after 6-8 hours = Possible D/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ustained release requires longer observation perio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s with toxic levels, symptomatic, or develop symptoms =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CA (Tricyclic Antidepressants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eading cause of death by intentional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cks sodium chann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ath by cardiovascular dysrhythymias and cardiovascular collap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st TCA’s have anticholinergic effect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skin, blurry vision, ho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OD: hypotension, seizures, respiratory depre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severe cases: ARDS, rhabdomyolisis, D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T AN EK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760" y="4952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 do you see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1" name="Picture 9" descr="http://www.jacobi-em.com/photogallery/photo00000645/TCA%20ekg2.JPG"/>
          <p:cNvPicPr/>
          <p:nvPr/>
        </p:nvPicPr>
        <p:blipFill>
          <a:blip r:embed="rId1"/>
          <a:stretch/>
        </p:blipFill>
        <p:spPr>
          <a:xfrm>
            <a:off x="2209680" y="1676520"/>
            <a:ext cx="6243840" cy="32288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1981080" y="5562720"/>
            <a:ext cx="124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longed QRS, sinus tachycardia, “tall R in R” – tall R wave in lead aVR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reatment of TC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odium Bicarbina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itial bolus of 2 am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ip 3 amps in 1 L D5W at 150 ml/h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itrate for serum pH of 7.45-7.5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V fluid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idocaine for perisistent arrhythymia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VOID Class Ia drugs (procainimide quinidine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ank You!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Any Questions?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ference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isoning &amp; Drug Overdos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, California Poison Control System.  KR Olson, 3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Appleton &amp; Lange, 1999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 Board Review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erie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L Stead, Lippincott Williams &amp; Wilkins, 2000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, A comprehensiv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tudy guid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Tintinalli, 6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McGraw Hill, 2004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wa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43200" y="175248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irway obstruction can cause death after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accid tong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spiratory arr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e mental status and gag/cough reflex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irway interventions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niffing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w thru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Head-down, left-sided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xamine the oropharynx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ear secre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irway devices:  nasal trumpet, oral airway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uba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nsider naloxone fir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Picture 1029" descr="vocalcords"/>
          <p:cNvPicPr/>
          <p:nvPr/>
        </p:nvPicPr>
        <p:blipFill>
          <a:blip r:embed="rId1"/>
          <a:stretch/>
        </p:blipFill>
        <p:spPr>
          <a:xfrm>
            <a:off x="6324480" y="304920"/>
            <a:ext cx="12956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ath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4120" y="1905120"/>
            <a:ext cx="617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termine if respirations are adequ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ive supplemental oxy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ssist with bag-valve-mas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heck oxygen saturation, AB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uscultate lung fiel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spasm: Albuterol nebuliz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rrhea/rales: 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tridor: Determine need for immediate intub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cul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V access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btain blood 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asure blood pressure, pul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o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ormal saline fluid challenge, 20 mL/k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asopressors if still hypotensiv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BC’s if bleeding or anemi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itroprusside, beta blocker, or nitroglycer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ntinuous ECG monitor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sess for arrhythmias, treat accordingl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Picture 4" descr="circulation"/>
          <p:cNvPicPr/>
          <p:nvPr/>
        </p:nvPicPr>
        <p:blipFill>
          <a:blip r:embed="rId1"/>
          <a:stretch/>
        </p:blipFill>
        <p:spPr>
          <a:xfrm>
            <a:off x="7315200" y="304920"/>
            <a:ext cx="1390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ley catheter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ctal temperatu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cucheck, treat hypoglyem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ma cocktai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amine: 100 mg IV, </a:t>
            </a: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dextr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xtrose: 50 grams IV pu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aloxone: 0.01 mg/kg IV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2:15:56Z</dcterms:created>
  <dc:creator> </dc:creator>
  <dc:description/>
  <dc:language>en-US</dc:language>
  <cp:lastModifiedBy>Steinhart Rachel</cp:lastModifiedBy>
  <dcterms:modified xsi:type="dcterms:W3CDTF">2008-12-23T04:09:09Z</dcterms:modified>
  <cp:revision>67</cp:revision>
  <dc:subject/>
  <dc:title>Poisoning: An Overview</dc:title>
</cp:coreProperties>
</file>