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21.pct" ContentType="image/x-pict"/>
  <Override PartName="/ppt/media/image1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2ABA-7803-4469-B405-32BA5C1BF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709F-2936-4861-ABD3-3356F1E7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1DF9-2599-4BAC-A078-D710ACB9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08A2-309D-4B0E-BBAF-A81A96BCC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7EAF-E22A-412C-A60B-4BA92179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F731-5479-49E4-BA26-461080E5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2AC3-2B28-424A-BBA9-08050C99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50FB-664F-46CF-A8E2-03BD5822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DA1C-51BA-4C07-A625-1811533C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239A-8B5F-4D1D-8B80-2EB732DA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8506-7915-4EC1-BB62-3E97CEC4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B490-2E7A-46DF-A18C-A68A30E2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A8BA-07FC-4505-A5A7-E7C70AD7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7E29-B751-425F-97EA-AEAFD825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79C2-59F9-417A-B31E-D0E3A841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1612-33E0-453B-92D5-AA8948FC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E0AB-55EE-451A-A14F-C76F9C7D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FB97-E809-461C-80CC-38C7757F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FF8E-1141-45E9-A7F2-A67D5417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27F4-3279-4D1D-BA0A-DE97BE0C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7A55-906C-4BE5-ACAC-06593C71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8058-1B23-4779-BD67-7902747F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CD0-3530-4DF7-B28E-D176DF7C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1BDE-9118-4B43-AA3D-6BB17449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930C-CB87-4EE1-A184-DA41D50733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B998-7E1E-447D-9AA0-FD87A5FD7E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OUND EVALUATION &amp; CAR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Rachel Steinhart, MD, M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mergency Medicin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63244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CRMC Family Practice Resident ER Rotation - August 200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now Kanaval’s Sign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 Flexor Tenosynovit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0" t="-6372" r="0" b="7973"/>
          <a:stretch/>
        </p:blipFill>
        <p:spPr>
          <a:xfrm>
            <a:off x="3124080" y="1523880"/>
            <a:ext cx="2901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Kanavel’s Sig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usiform swe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nger held in flex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vere pain with passive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enderness to palpation along proximal tendon sh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4952880"/>
            <a:ext cx="8153280" cy="13737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RGENT SURGICAL CONSULTATION REQUIRED FOR TIMELY DEBRIDEMENT TO AVOID LIMB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SER INJU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" descr="The Adelaide man after being hit in the eye with a dart, right, from a Taser stun gun."/>
          <p:cNvPicPr/>
          <p:nvPr/>
        </p:nvPicPr>
        <p:blipFill>
          <a:blip r:embed="rId1"/>
          <a:stretch/>
        </p:blipFill>
        <p:spPr>
          <a:xfrm>
            <a:off x="914400" y="1905120"/>
            <a:ext cx="73152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aser injury is a marker for “AGITATED DELIRIUM”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2209680"/>
            <a:ext cx="8153280" cy="39805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Pull da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Basic puncture wound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Verify tetan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Assess for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habdo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myolysis - U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Beware of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hest pain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complai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crotizing Fasciit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rcRect l="0" t="0" r="0" b="12996"/>
          <a:stretch/>
        </p:blipFill>
        <p:spPr>
          <a:xfrm>
            <a:off x="457200" y="2309760"/>
            <a:ext cx="4038480" cy="3106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800600" y="2286000"/>
            <a:ext cx="39625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ecrotizing Fasciit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ain out of propor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oxic appea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achycar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Hypo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repi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ishwater drain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isrupted fas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9057" r="0" b="14490"/>
          <a:stretch/>
        </p:blipFill>
        <p:spPr>
          <a:xfrm>
            <a:off x="4959360" y="1600200"/>
            <a:ext cx="3416400" cy="3352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5181480"/>
            <a:ext cx="8077320" cy="13737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IMMEDIATE SURGICAL CONSULTATION REQUIRED FOR EMERGENT DEBRIDEMENT TO AVOID LOSS OF LIFE OR LI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094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Wound Closu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esthe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ound pr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ime to cl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losure techn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st closure management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roperties of commonly used local anesthetics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80880" y="1295280"/>
          <a:ext cx="8305920" cy="4765680"/>
        </p:xfrm>
        <a:graphic>
          <a:graphicData uri="http://schemas.openxmlformats.org/drawingml/2006/table">
            <a:tbl>
              <a:tblPr/>
              <a:tblGrid>
                <a:gridCol w="2590920"/>
                <a:gridCol w="1066680"/>
                <a:gridCol w="1828800"/>
                <a:gridCol w="1143000"/>
                <a:gridCol w="1676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Ag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Cla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Max. safe dose mg/k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Onset (min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Duration (hr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Procaine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(Novocain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E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2-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0.25-0.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Procaine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+ Ep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0.5-1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Lidoca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Am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2-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1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Lidocaine + Ep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2-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Bupivacaine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 (Marcaine)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Am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2-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4-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Bupivacaine + Ep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8-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ducing pain of local anaesthetic infiltration: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1-Small-bore need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2-Buffered 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3-Warmed 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4-Slow rates of inj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5-Injection through wound ed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6-Subcutaneous rather than intradermal inj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7- Pretreatment with topical anesthe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onsider regional nerve block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ay sav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crease possibility of systemic toxicity with large wound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Less painful than local infil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void volume-related tissue distor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neral Wound Evalu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Histor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Foreign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Medical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Aller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etanus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Exa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Contamina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Neurovasc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endons &amp; B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kin and Wound Prepar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move hair?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isinfect skin?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NO (H2O2, iod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bride wound?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Y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rrigate wound?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YES  (Tap=Bottl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ressure &amp; volume impor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erile gloves?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→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NO (infection rate s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Foreign Bodi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st glass, metal, and gravel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 are r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diopaque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ood and some aluminum are radioluc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Glass is visualizable on 2-view radiographs if it is </a:t>
            </a: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2 mm, gravel if it is </a:t>
            </a: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1 mm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imes New Roman"/>
              </a:rPr>
              <a:t>It is always wise to discuss risk of retained foreign body in spite of aggressive exploration and irrig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ound Closur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1625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Time to cl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layed primary closure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ption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G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Sta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Su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uturing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TIME TO CLOSU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3657600"/>
            <a:ext cx="86104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erk WA: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Evaluation of the "golden period" for wound repair: 204 Cases from a third world ED.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Ann Em Med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1988.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&lt;19 hours to repair 92% satisfactory hea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&gt;19 hours to repair 77% satisfactory hea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ception: head and face lacerations had 95.5% satisfactory healing, regardless of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Morgan WJ: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The delayed treatment of wounds of the hand and forearm under antibiotic cover.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Br J Surg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1980. 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300 hand and forearm lac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closed &lt; 4hr had infection rate 7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closed &gt; 4hr  had infection rate 2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layed primary wound closu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High risk wounds that are contaminated or contain devitalized tissue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ound is initially cleansed and debr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overed with gauz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Leave undisturbed for 4 to 5 day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f the wound is uninfected at the end of the waiting period, it is closed with sutures or skin tapes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ISSUE ADHES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. Mizrahi: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Use of Tissue Adhesives in the Repair of Lacerations in Children. Journal of Pediatric Surgery,April, 198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1500 pediatric patients with simple laceration glued in 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nfection 1.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ehiscence 0.6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Which laceration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hort (&lt; 6-8 c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Low tension (&lt; 0.5 cm ga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lean ed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raight to curvilinear wounds that do not cross joints or creases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Contraindications for glu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Jagged or stellate lacerations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Bites, punctures or crush wounds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Contaminated wounds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Mucosal surfaces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Axillae &amp; perineum (high-moisture areas)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Hands, feet &amp; joints (unless kept dry and immobilized)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STAPLE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Consider staples for linear lacerations not involving the fa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Frequently used for scalp, trunk, extrem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Optimally, two operators perform this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Cosmetic effect is equivalent to sutures/g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SUTUR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imple interrup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ost com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Easy to master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an adjust tension with each s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ellate, multiple components, or directions w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imple r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inimize time of suture re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ven distribution of tens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ow-tension, simple linear w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moved within 7 days to avoid suture ma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ptimal suture material is non-absorb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ETANUS PRONE WOUN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pound fractures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ep penetrating wounds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ounds containing foreign bodies (especially wood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ounds complicated by pyogenic infec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ounds with extensive tissue dam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ur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ounds contaminated with soil, dust or horse manure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-implantation of an avulsed too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Prophylactic Antibiotic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Bite w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ntaminated or devitalized w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High risk sites eg. F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mmunocompromi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Risk for infective endocard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ntraoral through and through lac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V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Lymphed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ndwelling prosthetic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xtensive soft tissue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ep puncture w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rophylactic Antibiotic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3-5 D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Augment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Kefle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Erythromyc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296000" y="2077920"/>
            <a:ext cx="601164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cc00"/>
                </a:solidFill>
                <a:latin typeface="Arial"/>
              </a:rPr>
              <a:t>Alternate Suturing </a:t>
            </a:r>
            <a:endParaRPr b="0" lang="en-US" sz="5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cc00"/>
                </a:solidFill>
                <a:latin typeface="Arial"/>
              </a:rPr>
              <a:t>Techniques</a:t>
            </a:r>
            <a:endParaRPr b="0" lang="en-US" sz="5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160880" cy="48006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286000" y="6094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IMPLE 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Horizontal Mattres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ause wound edges e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ingle layer closure with significant 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crease repair time, less knots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Need delayed suture removal, so risk of suture ma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057400" y="3429000"/>
            <a:ext cx="40384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Vertical Mattres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High-tension woun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Prone to skin suture marks if left in too lo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905120" y="2819520"/>
            <a:ext cx="495288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OMPLEX WOUND CLOS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01992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239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34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Recommendations for tetanus prophylaxi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40" y="7448400"/>
            <a:ext cx="231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do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1752480"/>
          <a:ext cx="7620120" cy="3456000"/>
        </p:xfrm>
        <a:graphic>
          <a:graphicData uri="http://schemas.openxmlformats.org/drawingml/2006/table">
            <a:tbl>
              <a:tblPr/>
              <a:tblGrid>
                <a:gridCol w="3495600"/>
                <a:gridCol w="1047960"/>
                <a:gridCol w="1118880"/>
                <a:gridCol w="978120"/>
                <a:gridCol w="979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History of Tetanus Immunization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1872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I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I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1872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Uncertain or &lt;3 doses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1872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1872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Last dose within 5 y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1872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Last dose 5-10 y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1872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Last dose &gt;10 y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1872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f4081"/>
                      </a:solidFill>
                    </a:lnL>
                    <a:lnR w="5760">
                      <a:solidFill>
                        <a:srgbClr val="1f4081"/>
                      </a:solidFill>
                    </a:lnR>
                    <a:lnT w="5760">
                      <a:solidFill>
                        <a:srgbClr val="1f4081"/>
                      </a:solidFill>
                    </a:lnT>
                    <a:lnB w="5760">
                      <a:solidFill>
                        <a:srgbClr val="1f408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3886200" y="1295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Not Pron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   Pr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6920" y="5486400"/>
            <a:ext cx="744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Be certain to clarify history of dT  - patients confuse PPD with d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AUTION with tetanus prone wounds in elderly &amp; foreign bo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=&gt; Seriously consider TI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2640" y="31240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COSMETIC ISSU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4749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219320" y="2362320"/>
            <a:ext cx="7543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HIGH RISK COMPLEX LACERATION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743200" y="76212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33520" y="1752480"/>
            <a:ext cx="1774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 Do NOT suture cartil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 Give antibio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565440" y="838080"/>
            <a:ext cx="4664160" cy="51818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33520" y="1752480"/>
            <a:ext cx="177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ossible lacrimal duct lac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 Consult opt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5333760" cy="44578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7560" y="511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1752480"/>
            <a:ext cx="177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ossible parotid duct lac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 Consult ENT/H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uggested Suture Removal Tim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Area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Removal time (day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ce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3 to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Neck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5 to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calp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7 to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Upper extremity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8 to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runk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10 to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xtensor surfa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Hands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ower extremity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14 to 2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SCHAR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Keep initial dressing clean, dry, and in place for first 24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fter 24 hours okay to wash but not so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pply antibiotic ointment 2 times daily - primarily to facilitate suture remo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If extremity splinted to avoid dehiscence, keep splint in place at all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Return for progressive redness, swelling, pus or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ocedure No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ize location and shape of w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orough sensory-motor &amp; vascular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ound explored in bloodless field, no F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mount and type of anesthe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mount, type and method of irr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umber &amp; type of stitches &amp; suture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ressing appl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nstructions to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etanus &amp; Antibio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841680" y="784080"/>
            <a:ext cx="54126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cc00"/>
                </a:solidFill>
                <a:latin typeface="Arial"/>
              </a:rPr>
              <a:t>Important 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cc00"/>
                </a:solidFill>
                <a:latin typeface="Arial"/>
              </a:rPr>
              <a:t>wounds 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cc00"/>
                </a:solidFill>
                <a:latin typeface="Arial"/>
              </a:rPr>
              <a:t>to recognize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igh Pressure Injection Inju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Barner, Albert 061401_03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838080" y="55627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Extent of injury easy to underesti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139760"/>
          </a:xfrm>
          <a:prstGeom prst="rect">
            <a:avLst/>
          </a:prstGeom>
          <a:solidFill>
            <a:srgbClr val="0068ae"/>
          </a:solidFill>
          <a:ln w="25560">
            <a:solidFill>
              <a:srgbClr val="cc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ATIENT WITH HIGH PRESSURE INJECTION WOUND NEEDS URGENT SURGICAL CONSULTATION FOR TIMELY DEBRIDEMENT TO AVOID LOSS OF LIMB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Barner  Albert 01 X-ray 06-14-01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938320" cy="4114800"/>
          </a:xfrm>
          <a:prstGeom prst="rect">
            <a:avLst/>
          </a:prstGeom>
          <a:ln w="0">
            <a:noFill/>
          </a:ln>
        </p:spPr>
      </p:pic>
      <p:pic>
        <p:nvPicPr>
          <p:cNvPr id="230" name="Inject_004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3353040" cy="2032200"/>
          </a:xfrm>
          <a:prstGeom prst="rect">
            <a:avLst/>
          </a:prstGeom>
          <a:ln w="0">
            <a:noFill/>
          </a:ln>
        </p:spPr>
      </p:pic>
      <p:pic>
        <p:nvPicPr>
          <p:cNvPr id="231" name="Inject_005" descr=""/>
          <p:cNvPicPr/>
          <p:nvPr/>
        </p:nvPicPr>
        <p:blipFill>
          <a:blip r:embed="rId3"/>
          <a:stretch/>
        </p:blipFill>
        <p:spPr>
          <a:xfrm>
            <a:off x="4572000" y="4267080"/>
            <a:ext cx="33526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nuckle Laceration = Fight Bi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286000" y="1803240"/>
            <a:ext cx="441972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ight Bi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void closing any wound over a knuckle unless you have explained to the patient the risks of closing a wound that has had contact with sal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3962520"/>
            <a:ext cx="7848360" cy="18003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ATIENT WITH INFECTED FIGHT BITE NEEDS URGENT SURGICAL CONSULTATION FOR TIMELY DEBRIDEMENT TO AVOID LOSS OF LI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2T20:15:57Z</dcterms:created>
  <dc:creator>faras</dc:creator>
  <dc:description/>
  <dc:language>en-US</dc:language>
  <cp:lastModifiedBy>Steinhart Rachel</cp:lastModifiedBy>
  <cp:lastPrinted>2009-04-22T19:24:48Z</cp:lastPrinted>
  <dcterms:modified xsi:type="dcterms:W3CDTF">2015-09-22T23:39:19Z</dcterms:modified>
  <cp:revision>31</cp:revision>
  <dc:subject/>
  <dc:title>WOUND CARE AND REPAIR </dc:title>
</cp:coreProperties>
</file>