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pct" ContentType="image/x-pict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1AF-5AC7-4409-97E6-B39E1C26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84A-3488-4777-B69E-C33796B6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77A1-C7A3-46CD-B2F5-08FE4E44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89E-F586-4EB2-A803-55108AC3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E1B6-BFA4-4D14-B6A9-7BBE00E6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DEF2-0D62-4D2E-AE50-3037AC1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06C-55F1-4409-9AC0-8658258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3402-5E16-4056-9AF1-5D90333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853-5F9B-4843-B04C-294F57F1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43FA-2EE8-4FB8-AD27-61FFDF7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2F9E-418D-4AA4-AFFA-4CD6D86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AAD-D455-4B62-A412-9FB92BC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DC3B-0A5B-4FF2-A525-74F5BEA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FCF4-6AA3-4687-ACA4-FB2A6DF4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7DEC-D4C2-4B5E-B504-AD8D2EBE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1B00-9788-4597-B2E4-7AAE75F0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783F-4A95-4594-BA4D-75640056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901-4A83-44AF-8A6D-5676C12D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7AC-7837-4914-B857-137E02D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24E-EE9E-4419-83C8-5B2B0C0C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C29-012A-4356-A5DA-1D9D0FFA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C58-7D20-4DEC-9D3A-999F023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59B-E2B3-4AAC-88C9-BD91C29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A74-C87D-41EC-9989-4A16B41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297A-F110-4137-B281-8A82718BEB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C02-4559-43E7-833C-2A1F7C7E2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EVALUATION &amp; C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ergency Medicin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CRMC Family Practice Resident ER Rotation - August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ow Kanaval’s Sign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Flexor Tenosynov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-6372" r="0" b="7973"/>
          <a:stretch/>
        </p:blipFill>
        <p:spPr>
          <a:xfrm>
            <a:off x="3124080" y="1523880"/>
            <a:ext cx="290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anavel’s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usiform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nger held in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re pain with passiv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nderness to palpation along proximal tendon sh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815328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RGENT SURGICAL CONSULTATION REQUIRED FOR TIMELY DEBRIDEMENT TO AVOID LIMB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SER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The Adelaide man after being hit in the eye with a dart, right, from a Taser stun gun.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aser injury is a marker for “AGITATED DELIRIUM”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09680"/>
            <a:ext cx="8153280" cy="3980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ull d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asic puncture wound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erify teta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ssess for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habdo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myolysis - U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ware of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est pain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compla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2996"/>
          <a:stretch/>
        </p:blipFill>
        <p:spPr>
          <a:xfrm>
            <a:off x="457200" y="2309760"/>
            <a:ext cx="4038480" cy="310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out of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xic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hwater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rupted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9057" r="0" b="14490"/>
          <a:stretch/>
        </p:blipFill>
        <p:spPr>
          <a:xfrm>
            <a:off x="4959360" y="1600200"/>
            <a:ext cx="34164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181480"/>
            <a:ext cx="807732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MMEDIATE SURGICAL CONSULTATION REQUIRED FOR EMERGENT DEBRIDEMENT TO AVOID LOSS OF LIFE OR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ound Clos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esth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osure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st closure managemen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erties of commonly used local anesthetic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295280"/>
          <a:ext cx="8305920" cy="476568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828800"/>
                <a:gridCol w="114300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x. safe dose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Onset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Duration (h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ovoca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25-0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5-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(Marcaine)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4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8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ducing pain of local anaesthetic infiltratio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-Small-bore need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-Buffer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-Warm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4-Slow rates of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-Injection through wound e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-Subcutaneous rather than intradermal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 Pretreatment with topi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sider regional nerve bloc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y sa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rease possibility of systemic toxicity with large woun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ss painful than local infil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void volume-related tissue dist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Wound Eval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ist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eig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tanus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amin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ur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ndons &amp;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kin and Wound Prepa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ve hair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sinfect skin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H2O2, iod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brid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rrigat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  (Tap=Bott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sure &amp; volum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erile gloves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infection rat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Foreign Bod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st glass, metal, and gravel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are r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iopaque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od and some aluminum are radiolu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lass is visualizable on 2-view radiographs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 mm, gravel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1 m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It is always wise to discuss risk of retained foreign body in spite of aggressive exploration an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Closur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closure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p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ta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tur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65760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rk WA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Evaluation of the "golden period" for wound repair: 204 Cases from a third world ED.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nn Em M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1988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lt;19 hours to repair 92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gt;19 hours to repair 77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ception: head and face lacerations had 95.5% satisfactory healing, regardless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organ WJ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The delayed treatment of wounds of the hand and forearm under antibiotic cover.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r J Sur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1980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300 hand and forearm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lt; 4hr had infection rate 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gt; 4hr  had infection rate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wound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igh risk wounds that are contaminated or contain devitalized tissue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is initially cleansed and debr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vered with gau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ve undisturbed for 4 to 5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f the wound is uninfected at the end of the waiting period, it is closed with sutures or skin tap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SSUE ADHE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. Mizrahi: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se of Tissue Adhesives in the Repair of Lacerations in Children. Journal of Pediatric Surgery,April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500 pediatric patients with simple laceration glued in 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fection 1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hiscence 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ich laceration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hort (&lt; 6-8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w tension (&lt; 0.5 cm g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ean e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raight to curvilinear wounds that do not cross joints or crease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Contraindications for glu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Jagged or stellate laceration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ites, punctures or crush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taminated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ucosal surface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xillae &amp; perineum (high-moisture areas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Hands, feet &amp; joints (unless kept dry and immobilized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TAPL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sider staples for linear lacerations not involving the 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requently used for scalp, trunk,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ly, two operators perform this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smetic effect is equivalent to sutures/g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asy to maste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n adjust tension with each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llate, multiple components, or directions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mize time of suture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en distribution of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w-tension, simple linear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ved within 7 days to avoid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ptimal suture material is non-absorb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TANUS PRONE WOU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fractur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penetrating wound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ining foreign bodies (especially woo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mplicated by pyogenic inf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with extensive tissue dam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minated with soil, dust or horse manure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-implantation of an avulsed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t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aminated or devitalized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igh risk sites eg. F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munocomprom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isk for infective end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traoral through and through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ymph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dwelling prosthetic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xtensive soft tissu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ep punctur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3-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Augmen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efl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Erythr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6000" y="2077920"/>
            <a:ext cx="6011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Alternate Suturing 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Techniques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0" y="60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orizontal Mattr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use wound edges 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ingle layer closure with significant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crease repair time, less knot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eed delayed suture removal, so risk of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ertical Matt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igh-tension wo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ne to skin suture marks if left in too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52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PLEX WOUND 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199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Recommendations for tetanus prophylax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" y="7448400"/>
            <a:ext cx="231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7620120" cy="3456000"/>
        </p:xfrm>
        <a:graphic>
          <a:graphicData uri="http://schemas.openxmlformats.org/drawingml/2006/table">
            <a:tbl>
              <a:tblPr/>
              <a:tblGrid>
                <a:gridCol w="3495600"/>
                <a:gridCol w="1047960"/>
                <a:gridCol w="1118880"/>
                <a:gridCol w="97812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History of Tetanus Immunizatio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Uncertain or &lt;3 doses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within 5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5-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&gt;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88620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Pro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920" y="54864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e certain to clarify history of dT  - patients confuse PPD with 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UTION with tetanus prone wounds in elderly &amp; foreign bo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=&gt; Seriously consider T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3124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COSMETIC ISSU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2362320"/>
            <a:ext cx="754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HIGH RISK COMPLEX LACER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752480"/>
            <a:ext cx="177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Do NOT suture carti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Give antibi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565440" y="838080"/>
            <a:ext cx="46641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lacrimal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opt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333760" cy="4457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7560" y="51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parotid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ENT/H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uggested Suture Removal Ti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Area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moval time (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3 to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c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5 to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alp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 to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p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un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tensor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d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w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 to 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Keep initial dressing clean, dry, and in place for first 2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fter 24 hours okay to wash but not s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y antibiotic ointment 2 times daily - primarily to facilitate suture rem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f extremity splinted to avoid dehiscence, keep splint in place at al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turn for progressive redness, swelling, pus or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cedure No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ze location and shape of w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orough sensory-motor &amp; vascula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ound explored in bloodless field, no 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 and type of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, type and method of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 &amp; type of stitches &amp; sutu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ressing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structions to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tanus &amp;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1680" y="784080"/>
            <a:ext cx="5412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Important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wounds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to recogniz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Pressure Injection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Barner, Albert 061401_0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3808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tent of injury easy to under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solidFill>
            <a:srgbClr val="0068ae"/>
          </a:soli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TIENT WITH HIGH PRESSURE INJECTION WOUND NEEDS URGENT SURGICAL CONSULTATION FOR TIMELY DEBRIDEMENT TO AVOID LOSS OF LIMB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arner  Albert 01 X-ray 06-14-0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3832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Inject_004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353040" cy="2032200"/>
          </a:xfrm>
          <a:prstGeom prst="rect">
            <a:avLst/>
          </a:prstGeom>
          <a:ln w="0">
            <a:noFill/>
          </a:ln>
        </p:spPr>
      </p:pic>
      <p:pic>
        <p:nvPicPr>
          <p:cNvPr id="231" name="Inject_005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335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uckle Laceration = 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0" y="1803240"/>
            <a:ext cx="4419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void closing any wound over a knuckle unless you have explained to the patient the risks of closing a wound that has had contact with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962520"/>
            <a:ext cx="7848360" cy="1800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TIENT WITH INFECTED FIGHT BITE NEEDS URGENT SURGICAL CONSULTATION FOR TIMELY DEBRIDEMENT TO AVOID LOSS OF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0:15:57Z</dcterms:created>
  <dc:creator>faras</dc:creator>
  <dc:description/>
  <dc:language>en-US</dc:language>
  <cp:lastModifiedBy>Steinhart Rachel</cp:lastModifiedBy>
  <cp:lastPrinted>2009-04-22T19:24:48Z</cp:lastPrinted>
  <dcterms:modified xsi:type="dcterms:W3CDTF">2015-09-22T23:39:19Z</dcterms:modified>
  <cp:revision>31</cp:revision>
  <dc:subject/>
  <dc:title>WOUND CARE AND REPAIR </dc:title>
</cp:coreProperties>
</file>