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21.pct" ContentType="image/x-pict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09A-7722-4334-8D8A-CCDE33DF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DC3-051D-4A3C-A1CF-931E107A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2ED-0444-4446-823F-E5FF3115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4394-12EA-4A4E-AD9A-088C5082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1ABA-CFA8-4969-B82F-62B8F69A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8995-BB40-48B3-BDD2-CF7BDD67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66AA-85C7-4B37-8E9F-F6A33E60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C152-236A-4A5F-A24B-CF160377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BA7F-C0D7-4D0A-967F-D69806A1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73DE-EB9C-4CE4-8C0E-D2F0C0FB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34FE-0A26-4173-BFBC-D7B8A6BA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5C1-1403-4930-B65C-26E48FAD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2CA2-6629-4274-914E-731F4F85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D547-80C6-4F8B-8363-B154272E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B6E7-F110-46D0-B045-C6FE7F63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6237-4498-4F79-93E7-F531B7FA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5D5B-26CB-439D-B6C2-58E92998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D22-3F72-4506-9C20-8787CC93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B3D-ECDE-4402-B412-54A1BEF4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D99-9B0C-4382-ABBC-3CBA7D13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103-1C08-4F86-BCEA-6093B1D6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62B-D248-4354-8120-7F467AF5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485-97E6-4470-9567-7A0BBA8F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696-3177-431F-8C00-DCDC457C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BB12-BB59-4910-9B4E-72929E3F05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3F88-AB5C-4E5D-9556-52F4E0953B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EVALUATION &amp; CAR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mergency Medicin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6324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CRMC Family Practice Resident ER Rotation - August 20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now Kanaval’s Sign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 Flexor Tenosynov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-6372" r="0" b="7973"/>
          <a:stretch/>
        </p:blipFill>
        <p:spPr>
          <a:xfrm>
            <a:off x="3124080" y="1523880"/>
            <a:ext cx="2901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anavel’s Sig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usiform sw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nger held in flex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re pain with passive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enderness to palpation along proximal tendon sh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4952880"/>
            <a:ext cx="8153280" cy="1373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RGENT SURGICAL CONSULTATION REQUIRED FOR TIMELY DEBRIDEMENT TO AVOID LIMB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SER INJ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The Adelaide man after being hit in the eye with a dart, right, from a Taser stun gun.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aser injury is a marker for “AGITATED DELIRIUM”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209680"/>
            <a:ext cx="8153280" cy="39805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ull da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asic puncture wound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Verify teta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Assess for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habdo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myolysis - U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eware of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hest pain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complai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crotizing Fasci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0" t="0" r="0" b="12996"/>
          <a:stretch/>
        </p:blipFill>
        <p:spPr>
          <a:xfrm>
            <a:off x="457200" y="2309760"/>
            <a:ext cx="4038480" cy="3106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ecrotizing Fasci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in out of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oxic appea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achyca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rep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shwater drain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srupted fas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9057" r="0" b="14490"/>
          <a:stretch/>
        </p:blipFill>
        <p:spPr>
          <a:xfrm>
            <a:off x="4959360" y="1600200"/>
            <a:ext cx="3416400" cy="335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5181480"/>
            <a:ext cx="8077320" cy="1373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MMEDIATE SURGICAL CONSULTATION REQUIRED FOR EMERGENT DEBRIDEMENT TO AVOID LOSS OF LIFE OR LI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094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ound Clos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esth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ime to cl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losure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st closure management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operties of commonly used local anesthetics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80880" y="1295280"/>
          <a:ext cx="8305920" cy="4765680"/>
        </p:xfrm>
        <a:graphic>
          <a:graphicData uri="http://schemas.openxmlformats.org/drawingml/2006/table">
            <a:tbl>
              <a:tblPr/>
              <a:tblGrid>
                <a:gridCol w="2590920"/>
                <a:gridCol w="1066680"/>
                <a:gridCol w="1828800"/>
                <a:gridCol w="1143000"/>
                <a:gridCol w="1676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g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Max. safe dose mg/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Onset (m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Duration (hr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Procaine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(Novocain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E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0.25-0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Procaine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0.5-1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Lidoca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m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1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Lidocaine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Bupivacaine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 (Marcaine)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m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4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Bupivacaine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8-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ducing pain of local anaesthetic infiltration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-Small-bore need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2-Buffered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3-Warmed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4-Slow rates of in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5-Injection through wound e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6-Subcutaneous rather than intradermal in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7- Pretreatment with topical anesth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nsider regional nerve bloc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y sav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crease possibility of systemic toxicity with large wound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ess painful than local infil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void volume-related tissue distor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l Wound Evalu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ist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Foreign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edic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All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etanus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Ex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ontamin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Neurovas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endons &amp;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kin and Wound Prepar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move hair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isinfect skin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 (H2O2, iod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bride wound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rrigate wound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YES  (Tap=Bottl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essure &amp; volume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erile gloves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 (infection rate s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Foreign Bodi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st glass, metal, and gravel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are r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diopaque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od and some aluminum are radioluc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Glass is visualizable on 2-view radiographs if it is </a:t>
            </a: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2 mm, gravel if it is </a:t>
            </a: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1 mm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It is always wise to discuss risk of retained foreign body in spite of aggressive exploration and irrig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Closur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ime to cl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layed primary closure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p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G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ta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u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uturing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TIME TO CLOS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3657600"/>
            <a:ext cx="8610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rk WA: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Evaluation of the "golden period" for wound repair: 204 Cases from a third world ED.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nn Em Me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1988.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&lt;19 hours to repair 92% satisfactory he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&gt;19 hours to repair 77% satisfactory he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ception: head and face lacerations had 95.5% satisfactory healing, regardless of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Morgan WJ: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The delayed treatment of wounds of the hand and forearm under antibiotic cover.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Br J Surg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1980.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300 hand and forearm lac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closed &lt; 4hr had infection rate 7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closed &gt; 4hr  had infection rate 2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layed primary wound clos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High risk wounds that are contaminated or contain devitalized tissue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is initially cleansed and debr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vered with gauz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eave undisturbed for 4 to 5 da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f the wound is uninfected at the end of the waiting period, it is closed with sutures or skin tape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ISSUE ADHES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. Mizrahi: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Use of Tissue Adhesives in the Repair of Lacerations in Children. Journal of Pediatric Surgery,April, 198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500 pediatric patients with simple laceration glued in 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nfection 1.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hiscence 0.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hich laceration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hort (&lt; 6-8 c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ow tension (&lt; 0.5 cm g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lean ed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raight to curvilinear wounds that do not cross joints or creases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Contraindications for glu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Jagged or stellate laceration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Bites, punctures or crush wound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ntaminated wound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Mucosal surface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Axillae &amp; perineum (high-moisture areas)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Hands, feet &amp; joints (unless kept dry and immobilized)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STAPL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nsider staples for linear lacerations not involving the f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Frequently used for scalp, trunk, extrem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Optimally, two operators perform this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smetic effect is equivalent to sutures/g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TUR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mple 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st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Easy to master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n adjust tension with each s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ellate, multiple components, or directions w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mple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nimize time of suture re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ven distribution of ten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ow-tension, simple linear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moved within 7 days to avoid suture m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ptimal suture material is non-absorb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TANUS PRONE WOU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ound fractures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ep penetrating wounds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ntaining foreign bodies (especially wood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mplicated by pyogenic infec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with extensive tissue dam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ur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ntaminated with soil, dust or horse manure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-implantation of an avulsed to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Prophylactic Antibiotic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ite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ntaminated or devitalized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High risk sites eg. F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mmunocomprom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isk for infective endo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traoral through and through lac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V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ymph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dwelling prosthetic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xtensive soft tissue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ep puncture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ophylactic Antibiotic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3-5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Augmen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Kefle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Erythromyc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296000" y="2077920"/>
            <a:ext cx="601164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00"/>
                </a:solidFill>
                <a:latin typeface="Arial"/>
              </a:rPr>
              <a:t>Alternate Suturing </a:t>
            </a:r>
            <a:endParaRPr b="0" lang="en-US" sz="5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00"/>
                </a:solidFill>
                <a:latin typeface="Arial"/>
              </a:rPr>
              <a:t>Techniques</a:t>
            </a:r>
            <a:endParaRPr b="0" lang="en-US" sz="5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160880" cy="4800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86000" y="609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IMPLE 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orizontal Mattres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ause wound edges e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ingle layer closure with significant 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crease repair time, less knots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eed delayed suture removal, so risk of suture m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057400" y="3429000"/>
            <a:ext cx="40384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ertical Mattr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High-tension wou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Prone to skin suture marks if left in too lo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49528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MPLEX WOUND CL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01992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Recommendations for tetanus prophylaxi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" y="7448400"/>
            <a:ext cx="231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do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752480"/>
          <a:ext cx="7620120" cy="3456000"/>
        </p:xfrm>
        <a:graphic>
          <a:graphicData uri="http://schemas.openxmlformats.org/drawingml/2006/table">
            <a:tbl>
              <a:tblPr/>
              <a:tblGrid>
                <a:gridCol w="3495600"/>
                <a:gridCol w="1047960"/>
                <a:gridCol w="1118880"/>
                <a:gridCol w="978120"/>
                <a:gridCol w="979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History of Tetanus Immunization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I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I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Uncertain or &lt;3 doses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within 5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5-10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&gt;10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3886200" y="1295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t Pro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 Pr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6920" y="5486400"/>
            <a:ext cx="744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Be certain to clarify history of dT  - patients confuse PPD with d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AUTION with tetanus prone wounds in elderly &amp; foreign bo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=&gt; Seriously consider TI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2640" y="31240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COSMETIC ISSU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74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19320" y="2362320"/>
            <a:ext cx="7543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HIGH RISK COMPLEX LACERATIO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33520" y="1752480"/>
            <a:ext cx="177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Do NOT suture cartil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Give antibio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565440" y="838080"/>
            <a:ext cx="4664160" cy="51818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3520" y="1752480"/>
            <a:ext cx="177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ssible lacrimal duct lac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Consult opt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5333760" cy="4457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7560" y="511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752480"/>
            <a:ext cx="177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ssible parotid duct lac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Consult ENT/H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uggested Suture Removal Tim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Area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Removal time (da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ce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3 to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eck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5 to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alp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7 to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pper extremity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8 to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runk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0 to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xtensor surf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and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wer extremity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4 to 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SCHAR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Keep initial dressing clean, dry, and in place for first 24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fter 24 hours okay to wash but not so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pply antibiotic ointment 2 times daily - primarily to facilitate suture rem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If extremity splinted to avoid dehiscence, keep splint in place at all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eturn for progressive redness, swelling, pus or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cedure No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ize location and shape of w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orough sensory-motor &amp; vascular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ound explored in bloodless field, no F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mount and type of anesth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mount, type and method of irr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umber &amp; type of stitches &amp; sutur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ressing appl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structions to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etanus &amp; Antibi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41680" y="784080"/>
            <a:ext cx="54126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Important 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wounds 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to recognize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gh Pressure Injection Inj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Barner, Albert 061401_03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38080" y="5562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Extent of injury easy to underest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139760"/>
          </a:xfrm>
          <a:prstGeom prst="rect">
            <a:avLst/>
          </a:prstGeom>
          <a:solidFill>
            <a:srgbClr val="0068ae"/>
          </a:solid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TIENT WITH HIGH PRESSURE INJECTION WOUND NEEDS URGENT SURGICAL CONSULTATION FOR TIMELY DEBRIDEMENT TO AVOID LOSS OF LIMB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Barner  Albert 01 X-ray 06-14-0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938320" cy="4114800"/>
          </a:xfrm>
          <a:prstGeom prst="rect">
            <a:avLst/>
          </a:prstGeom>
          <a:ln w="0">
            <a:noFill/>
          </a:ln>
        </p:spPr>
      </p:pic>
      <p:pic>
        <p:nvPicPr>
          <p:cNvPr id="230" name="Inject_004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353040" cy="2032200"/>
          </a:xfrm>
          <a:prstGeom prst="rect">
            <a:avLst/>
          </a:prstGeom>
          <a:ln w="0">
            <a:noFill/>
          </a:ln>
        </p:spPr>
      </p:pic>
      <p:pic>
        <p:nvPicPr>
          <p:cNvPr id="231" name="Inject_005" descr=""/>
          <p:cNvPicPr/>
          <p:nvPr/>
        </p:nvPicPr>
        <p:blipFill>
          <a:blip r:embed="rId3"/>
          <a:stretch/>
        </p:blipFill>
        <p:spPr>
          <a:xfrm>
            <a:off x="4572000" y="4267080"/>
            <a:ext cx="3352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nuckle Laceration = Fight B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286000" y="1803240"/>
            <a:ext cx="44197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ght B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void closing any wound over a knuckle unless you have explained to the patient the risks of closing a wound that has had contact with sal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962520"/>
            <a:ext cx="7848360" cy="18003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TIENT WITH INFECTED FIGHT BITE NEEDS URGENT SURGICAL CONSULTATION FOR TIMELY DEBRIDEMENT TO AVOID LOSS OF LI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20:15:57Z</dcterms:created>
  <dc:creator>faras</dc:creator>
  <dc:description/>
  <dc:language>en-US</dc:language>
  <cp:lastModifiedBy>Steinhart Rachel</cp:lastModifiedBy>
  <cp:lastPrinted>2009-04-22T19:24:48Z</cp:lastPrinted>
  <dcterms:modified xsi:type="dcterms:W3CDTF">2015-09-22T23:39:19Z</dcterms:modified>
  <cp:revision>31</cp:revision>
  <dc:subject/>
  <dc:title>WOUND CARE AND REPAIR </dc:title>
</cp:coreProperties>
</file>