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F90-D1A1-4BB5-BAD7-5A0CA08A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174-D1A2-47FA-9F80-881D82B5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8B6-5405-484E-A1FA-1DC806A6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051-99A3-4D54-883D-67A7667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2099-1DFC-42DE-B5C3-D5E7821B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2143-F7B5-4B9D-B459-B63BAE17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02F-376B-490C-BBC8-6D874C4C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78AF-2FF5-41EF-9E54-F56A8153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EA3B-44D8-4059-B42D-D5FD01B7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E79A-595F-492C-8A6D-A5E4B5B6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CEE3-3618-4178-817B-E16B833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DF2-A5BB-48AD-8E3C-3C17A5A8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2D7E-B8AB-480E-A247-F7CDF906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5757-308C-41EA-8550-5ECF6C1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C1A3-8489-4361-9A7D-6709CBF0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8DEE-9911-46D3-BCB5-85CE026C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BCEB-2072-4300-8BCC-E6C8ABA9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14C-B839-4807-8652-ACD49E4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F87-9B2B-4546-B9D9-299F6F0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93C-48A4-4855-B285-66B6B3D2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120-4E2F-4F51-A820-E24F14B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594-FF47-461C-87C0-9F9106E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C50-0F74-4BF9-9027-94A52D3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5EC-22B4-4CC3-845F-1B5955A8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45AC-F2A0-4B40-AC67-BD3ADDBC19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A274-FA26-405B-9F15-AF7F148EA7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MERGENCY DEPARTMENT ULTRASOUND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RMC - June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igh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rison’s pouch a potential space between Gerota’s facia and Glison’s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area of lower rib cage anterior to midaxillary line marker pointed cepha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and is a positive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UQ (Morrison’s Pou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97180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819520" cy="2641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819520" cy="246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09480" y="4952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Hepato-Renal Re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15238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id in Morrison’s P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62320" y="52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hepatic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17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8760" y="586728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Lef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spleen an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oriented mid to posterior axillary line over lower left costal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between spleen a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Q and RUQ views have capability of detecting hemothorax (anechoic fluid above diaphrag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 - LUQ (Spleenorenal Space)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956040" cy="33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340080" cy="41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85800" y="510552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Spleno-Renal Re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800" y="5562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leno-Renal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3240" y="571500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B:  Remember to also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ff00"/>
                </a:solidFill>
                <a:latin typeface="Arial"/>
              </a:rPr>
              <a:t>Spleno-Diaphragmati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50680" y="601992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uterus (pouch of Dougl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bladder (rectovesicular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nechoic stripe with well defined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ntuated by full bladder - check PRIOR to Foley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2286000" cy="20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59092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2438640" cy="18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2819520" cy="182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886200" y="1676520"/>
            <a:ext cx="2209680" cy="12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4760" y="19810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- no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520" y="6019920"/>
            <a:ext cx="314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Fluid =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diac Eval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eless electr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tamp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wall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rance:Effusions echo free areas within pericardial s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ffusions &lt; 100 ml dependent pos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usions &gt; 300 ml visualized both anteriorly and posterio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xyphoid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2457360"/>
            <a:ext cx="4038840" cy="281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03884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440" y="57913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out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4400" y="57913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bdominal Aortic Aneury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nography as accurate as CT when measuring aortic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al spine is land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 from diaphragm to distal bifur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from outside wall to outsid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&gt;3 cm is ab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C to right, thinner walls, compresses with probe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in both transverse and saggital pl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A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828800" cy="197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943280" cy="20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31120" y="2209680"/>
            <a:ext cx="169524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46280" y="453852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VC at liver border just superficial to spine and Aorta adja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a at level of the celiac artery showing hepato-splenic branc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on iliacs adjacent to the IVC just distal to branch po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created by high frequency sound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reflection indicates depth of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reflectors appear white (hyper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transmitters appear black (an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poor resolution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ood pene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trate subcutaneous f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High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good resoluti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penetration (better image if penetration not an 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inary Ob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contains two distinct sonographic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Sinus: center of kidney -  hyperechoic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Cortex: periphery - much less echog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 - anechoic area w/in renal s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Cysts: round thin-walled anecohic structures located in renal 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al calculi not well visualized (19% of all documented stones, CT 9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 - post-void residual &gt;2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mal Renal I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66356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6920" y="1739880"/>
            <a:ext cx="3809880" cy="3441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nephr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8184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716200" cy="219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363760" cy="221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667240" cy="219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 Disea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modality of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nographic finding gall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as echolucent structures within gallbladder that move with position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sonographic Murphy's sig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oint of maximal tenderness to transducer pressure is directly over sonographically located gallbladder. (92% positive predictive va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wall thickening: &gt;3  mm (occurs 50-75% with acute cholecystit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2971800" cy="2413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3048120" cy="23464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35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lculous Gallbl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9625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lbladder Calculi - note acoustic sh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3733920" cy="2292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le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4611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90720" y="60958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Stone shadowing &amp; gallbladder wall thic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dden Loss of 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9056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2971800" cy="2228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678320" y="358128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ffected eye is used for compari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35049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rst trimester pregnant patients presenting with abdominal/pelvic pa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ginal bleeding require ultrasound to locate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ational sac, round or oval anechoic area surrounded by two concentric echogenic  rings (double decidual sign) earliest sonographic fi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ggestiv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CLUSIVE evidence - yolk sac, fetal pole, or F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vaginal: detection as early as 4.5 weeks after LMP beta-HCG &gt;2000 mIU/ml (discriminatory z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bdominal: detection 5.5-6 weeks post L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without CONCLUSIVE evidence of IUP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f beta-HCG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le with minimal discomfort - home w/close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vitals or significant pain - Immediate GYN 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3429000" cy="259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360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429000" cy="2595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419720" y="4114800"/>
            <a:ext cx="327636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in performing para/thoracentesis and placement of 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foreign bodies (wood,glass,metal and plas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flui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joint effusions &amp;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bladder volume prior to c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eritoneum, hemoperi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activity, pericardial effusion/tamponade, fluid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Aortic Aneurysms / Dis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&gt; 3 cm, intimal flap, hemoperiton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stone, bladder outle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da Equina, 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void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, wall thickening, pericholecystic fluid, sonographic Mur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Loss of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nal detac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meste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uterine pregnancy, free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/para/pericardiocentesis, line placement, bladder cathete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marker corresponds to images on left side of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planes: marker oriented towards patients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tal planes: marker oriented towards patients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28195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oustic Shado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und waves blocked by echogenic structures create an anechoic area distal to the obstruction. Acoustic shad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XA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omin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ograph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inva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epa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posure to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cy equal to DPL in detecting hemoperitoneum (Sensitivity 90% Specificity9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aperitoneal Fluid Dis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Standard Vi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Standar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xiph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82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23:12:58Z</dcterms:created>
  <dc:creator>mark serra</dc:creator>
  <dc:description/>
  <dc:language>en-US</dc:language>
  <cp:lastModifiedBy>Steinhart Rachel</cp:lastModifiedBy>
  <cp:lastPrinted>2009-05-22T04:35:55Z</cp:lastPrinted>
  <dcterms:modified xsi:type="dcterms:W3CDTF">2009-06-05T23:34:39Z</dcterms:modified>
  <cp:revision>19</cp:revision>
  <dc:subject/>
  <dc:title>PRINCIPLES OF EMERGENCY DEPARTMENT SONGRAPHY</dc:title>
</cp:coreProperties>
</file>