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99B-A096-4C49-ADB4-E58FA57A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BDB-A97A-4D9F-ADD7-7935BBAD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25A-3654-4246-B054-88937150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55C-2EC8-4BE9-9820-8E3476CF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1D84-D8E3-4300-A5E8-FE4EBDDE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C65D-AAC7-4870-BD49-7BF9B583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6674-010D-4581-8E13-D25CF654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B473-EA5C-413D-AA75-8114440E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5FA5-8620-4534-A946-0F3B4A2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AACB-E2EA-4FE7-90F7-3D182F56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A8EA-47F3-4ED2-A119-552CD878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5B1-C0EA-4865-B861-5A030F86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CC16-8CD2-4733-9F05-2B86E10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A613-93EB-4CED-83D7-EBACD75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4A1A-6E4D-4846-9C0B-C525A87C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977A-8C38-4971-BFD3-B7740D9D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157E-8245-459E-8748-3B220578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8A3-2595-4120-BCE6-ACE11E99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F6D-C4F8-4618-978F-1C8AFB69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C22-A465-4EFD-BD24-1070C743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03B-80A5-4949-8231-B96D25B6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57C-3CC3-4436-82B0-AD0DAEF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1CE-FA37-4465-B82D-DCD7A4D7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1F4-6CAE-4406-9057-542F0CF1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4D9-BFCC-4D63-993A-9B4F427A53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667A-C08B-47C5-9F9A-D3D8BE1083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MERGENCY DEPARTMENT ULTRASOUND BAS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CRMC - June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igh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rison’s pouch a potential space between Gerota’s facia and Glison’s caps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 area of lower rib cage anterior to midaxillary line marker pointed cephal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and is a positive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RUQ (Morrison’s Pouch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971800" cy="246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2819520" cy="2641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819520" cy="246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609480" y="495288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Hepato-Renal Re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1523880"/>
            <a:ext cx="18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id in Morrison’s Pou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62320" y="5257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hepatic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17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8760" y="586728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Left Upper Quadr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spleen an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oriented mid to posterior axillary line over lower left costal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ppears as anechoic stripe between spleen ad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Q and RUQ views have capability of detecting hemothorax (anechoic fluid above diaphrag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100" spc="-1" strike="noStrike">
                <a:solidFill>
                  <a:srgbClr val="b2b2b2"/>
                </a:solidFill>
                <a:latin typeface="Arial"/>
              </a:rPr>
              <a:t> - LUQ (Spleenorenal Space)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956040" cy="334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340080" cy="4190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85800" y="510552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Spleno-Renal Re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91800" y="55627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leno-Renal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3240" y="571500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B:  Remember to also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ff00"/>
                </a:solidFill>
                <a:latin typeface="Arial"/>
              </a:rPr>
              <a:t>Spleno-Diaphragmatic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50680" y="6019920"/>
            <a:ext cx="135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uterus (pouch of Dougl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space between rectum and bladder (rectovesicular sp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anechoic stripe with well defined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ntuated by full bladder - check PRIOR to Foley 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Pelvic 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2286000" cy="202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590920" cy="182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2438640" cy="187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2819520" cy="1824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886200" y="1676520"/>
            <a:ext cx="2209680" cy="1287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4760" y="198108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- no free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520" y="6019920"/>
            <a:ext cx="314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ree Fluid =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+ FA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diac Evalu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seless electrical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tampon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Find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wall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cardi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erance:Effusions echo free areas within pericardial s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effusions &lt; 100 ml dependent posi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usions &gt; 300 ml visualized both anteriorly and posterio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bxyphoid Vie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24280" y="2457360"/>
            <a:ext cx="4038840" cy="2814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4038840" cy="3097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440" y="57913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out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4400" y="57913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icardial Ef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bdominal Aortic Aneurys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nography as accurate as CT when measuring aortic di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tebral spine is land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n from diaphragm to distal bifur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from outside wall to outside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meter &gt;3 cm is ab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C to right, thinner walls, compresses with probe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in both transverse and saggital pl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A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828800" cy="197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943280" cy="2001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31120" y="2209680"/>
            <a:ext cx="169524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46280" y="453852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VC at liver border just superficial to spine and Aorta adja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a at level of the celiac artery showing hepato-splenic branc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572000"/>
            <a:ext cx="184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on iliacs adjacent to the IVC just distal to branch poi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undamen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created by high frequency sound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for reflection indicates depth of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reflectors appear white (hyper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ect transmitters appear black (anecho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ow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poor resolution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good penet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penetrate subcutaneous f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High frequ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:  </a:t>
            </a:r>
            <a:r>
              <a:rPr b="0" i="1" lang="en-US" sz="2800" spc="-1" strike="noStrike">
                <a:solidFill>
                  <a:srgbClr val="00ff00"/>
                </a:solidFill>
                <a:latin typeface="Arial"/>
              </a:rPr>
              <a:t>good resolutio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or penetration (better image if penetration not an issu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rinary Obstru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contains two distinct sonographic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Sinus: center of kidney -  hyperechoic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Cortex: periphery - much less echoge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 - anechoic area w/in renal si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Cysts: round thin-walled anecohic structures located in renal cor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teral calculi not well visualized (19% of all documented stones, CT 94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6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ary Retention - post-void residual &gt;200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mal Renal Im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1663560"/>
            <a:ext cx="4343400" cy="3598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76920" y="1739880"/>
            <a:ext cx="3809880" cy="344160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dronephros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081840" cy="1933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2716200" cy="2198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363760" cy="221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095880" y="3505320"/>
            <a:ext cx="2667240" cy="2190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 Disea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ing modality of cho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sonographic finding gall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 as echolucent structures within gallbladder that move with position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sonographic Murphy's sig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oint of maximal tenderness to transducer pressure is directly over sonographically located gallbladder. (92% positive predictive val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wall thickening: &gt;3  mm (occurs 50-75% with acute cholecystiti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llblad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2971800" cy="24130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3048120" cy="23464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335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lculous Gallblad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39625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lbladder Calculi - note acoustic sha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514600" y="3733920"/>
            <a:ext cx="3733920" cy="2292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olecystit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81480" cy="4611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90720" y="60958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: Stone shadowing &amp; gallbladder wall thic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dden Loss of V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59056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2971800" cy="2228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678320" y="3581280"/>
            <a:ext cx="55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ffected eye is used for compari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362320" y="4191120"/>
            <a:ext cx="350496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rst trimester pregnant patients presenting with abdominal/pelvic pa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ginal bleeding require ultrasound to locate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tational sac, round or oval anechoic area surrounded by two concentric echogenic  rings (double decidual sign) earliest sonographic find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ggestiv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I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CLUSIVE evidence - yolk sac, fetal pole, or F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vaginal: detection as early as 4.5 weeks after LMP beta-HCG &gt;2000 mIU/ml (discriminatory z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bdominal: detection 5.5-6 weeks post L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without CONCLUSIVE evidence of IUP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gardles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of beta-HCG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ble with minimal discomfort - home w/close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stable vitals or significant pain - Immediate GYN con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rst Trimester Pregnanc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257480"/>
            <a:ext cx="3429000" cy="2597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3429000" cy="2360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429000" cy="2595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419720" y="4114800"/>
            <a:ext cx="3276360" cy="248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dditional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ance in performing para/thoracentesis and placement of central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foreign bodies (wood,glass,metal and plas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flui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on of joint effusions &amp; abs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bladder volume prior to c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peritoneum, hemopericar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ia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activity, pericardial effusion/tamponade, fluid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Aortic Aneurysms / Dis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eter &gt; 3 cm, intimal flap, hemoperiton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nephr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cted stone, bladder outlet ob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da Equina, Urinary Ret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void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DICATIONS &amp; KEY FINDING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llbladder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lstones, wall thickening, pericholecystic fluid, sonographic Murph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den Loss of 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nal detach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meste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uterine pregnancy, free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a/para/pericardiocentesis, line placement, bladder cathete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e marker corresponds to images on left side of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verse planes: marker oriented towards patients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ggital planes: marker oriented towards patients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43400" y="4191120"/>
            <a:ext cx="28195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oustic Shadow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sound waves blocked by echogenic structures create an anechoic area distal to the obstruction. Acoustic shadow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EXA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us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omin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ography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inva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epa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xposure to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racy equal to DPL in detecting hemoperitoneum (Sensitivity 90% Specificity9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aperitoneal Fluid Distrib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ST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- Standard Vi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4343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Standard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xiph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upper quad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lv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82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23:12:58Z</dcterms:created>
  <dc:creator>mark serra</dc:creator>
  <dc:description/>
  <dc:language>en-US</dc:language>
  <cp:lastModifiedBy>Steinhart Rachel</cp:lastModifiedBy>
  <cp:lastPrinted>2009-05-22T04:35:55Z</cp:lastPrinted>
  <dcterms:modified xsi:type="dcterms:W3CDTF">2009-06-05T23:34:39Z</dcterms:modified>
  <cp:revision>19</cp:revision>
  <dc:subject/>
  <dc:title>PRINCIPLES OF EMERGENCY DEPARTMENT SONGRAPHY</dc:title>
</cp:coreProperties>
</file>