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B757-4B35-4888-B751-AF0163542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7E81-1CBA-4C46-AFC5-1AA24B0F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E994-0F79-43DE-AF33-2BB9FD0FF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1FD8-9201-4AE4-9091-B6AD56DF5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EBAB-5006-4595-BCDE-655AD415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F02A-3AAA-44C0-B9C5-4C238E82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A73C-1917-410B-81CA-9674A64E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8349-0A7C-454A-AF73-3013F0EF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B182-7313-4764-9639-4B674F42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43F6-708F-4370-B8CA-F1AFDBB6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DC8D-0267-495E-838E-F8741BC1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D866-7583-48DD-97E9-E612561C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18F1-7DFB-4BB0-8DD2-60F3625A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F1E0-EEBD-4E75-8927-0D8E6066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631C-389C-4A82-940D-A7112252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F7C4-874E-4AF9-8C7E-BA814F3F0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17D9-0B5F-4E3F-AFB6-173B9DBF6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D091-32B8-4543-9AB9-B0837868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4487-2982-4A19-B73E-E86F2563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E6C5-622D-4274-A2A1-AE087798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65A1-FA13-403E-86AD-09A67CF5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502B-87C6-4781-9C08-28ADAB3A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DDE7-423E-45F0-AF27-9E812988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A5E3-BA06-4A87-9BAE-2FA6BFFD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7525-B623-4162-9014-F66E6462AF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BFDD-7AC5-4D50-A22E-B5AA48C66D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MERGENCY DEPARTMENT ULTRASOUND BAS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CRMC - June 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ST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- Right Upper Quadra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rison’s pouch a potential space between Gerota’s facia and Glison’s capsu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e area of lower rib cage anterior to midaxillary line marker pointed cephal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id appears as anechoic stripe and is a positive fi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ST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- RUQ (Morrison’s Pouch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2971800" cy="2462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809880" y="1219320"/>
            <a:ext cx="2819520" cy="2641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809880" y="4114800"/>
            <a:ext cx="2819520" cy="2462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609480" y="4952880"/>
            <a:ext cx="33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l Hepato-Renal Re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0" y="1523880"/>
            <a:ext cx="18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id in Morrison’s Pou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62320" y="525780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hepatic Fl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2666880"/>
            <a:ext cx="1730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+ FAS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88760" y="5867280"/>
            <a:ext cx="135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+ FAS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ST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- Left Upper Quadra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space between spleen and kid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e oriented mid to posterior axillary line over lower left costal marg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id appears as anechoic stripe between spleen ad kid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Q and RUQ views have capability of detecting hemothorax (anechoic fluid above diaphrag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0000"/>
                </a:solidFill>
                <a:latin typeface="Arial"/>
              </a:rPr>
              <a:t>FAST</a:t>
            </a:r>
            <a:r>
              <a:rPr b="0" lang="en-US" sz="4100" spc="-1" strike="noStrike">
                <a:solidFill>
                  <a:srgbClr val="b2b2b2"/>
                </a:solidFill>
                <a:latin typeface="Arial"/>
              </a:rPr>
              <a:t> - LUQ (Spleenorenal Space)</a:t>
            </a:r>
            <a:endParaRPr b="0" lang="en-US" sz="41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956040" cy="3348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029200" y="1219320"/>
            <a:ext cx="3340080" cy="41907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685800" y="5105520"/>
            <a:ext cx="37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mal Spleno-Renal Re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91800" y="556272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leno-Renal Free Fl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93240" y="5715000"/>
            <a:ext cx="365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NB:  Remember to also che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ff00"/>
                </a:solidFill>
                <a:latin typeface="Arial"/>
              </a:rPr>
              <a:t>Spleno-Diaphragmatic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Sp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50680" y="6019920"/>
            <a:ext cx="135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+ FAS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ST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- Pelvic View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space between rectum and uterus (pouch of Dougl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space between rectum and bladder (rectovesicular spa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id anechoic stripe with well defined bor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ntuated by full bladder - check PRIOR to Foley pla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ST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- Pelvic View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581280" y="3657600"/>
            <a:ext cx="2286000" cy="2028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172200" y="3886200"/>
            <a:ext cx="2590920" cy="1828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09480" y="1371600"/>
            <a:ext cx="2438640" cy="1870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380880" y="3809880"/>
            <a:ext cx="2819520" cy="1824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3886200" y="1676520"/>
            <a:ext cx="2209680" cy="1287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6404760" y="198108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mal - no free fl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25520" y="6019920"/>
            <a:ext cx="3142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ree Fluid =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+ FA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ardiac Evalu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lseless electrical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cardial tampon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diac 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y Finding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ocardial wall mo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cardial eff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erance:Effusions echo free areas within pericardial s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effusions &lt; 100 ml dependent posi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usions &gt; 300 ml visualized both anteriorly and posterior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ubxyphoid View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724280" y="2457360"/>
            <a:ext cx="4038840" cy="2814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80880" y="2286000"/>
            <a:ext cx="4038840" cy="3097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440" y="579132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out Pericardial Effu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4400" y="579132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Pericardial Effu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bdominal Aortic Aneurys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ltrasonography as accurate as CT when measuring aortic diame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tebral spine is landma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n from diaphragm to distal bifur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from outside wall to outside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meter &gt;3 cm is abnor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C to right, thinner walls, compresses with probe pres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age in both transverse and saggital plane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A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1828800" cy="1974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657600" y="2209680"/>
            <a:ext cx="1943280" cy="2001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6531120" y="2209680"/>
            <a:ext cx="1695240" cy="1981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746280" y="4538520"/>
            <a:ext cx="1844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VC at liver border just superficial to spine and Aorta adjace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0" y="4572000"/>
            <a:ext cx="1844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orta at level of the celiac artery showing hepato-splenic branching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77120" y="4572000"/>
            <a:ext cx="1844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mon iliacs adjacent to the IVC just distal to branch poi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undament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age created by high frequency sound w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for reflection indicates depth of stru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ect reflectors appear white (hyperecho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ect transmitters appear black (anecho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Low frequenc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ves:  poor resolution,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good penetr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penetrate subcutaneous fa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00"/>
                </a:solidFill>
                <a:latin typeface="Arial"/>
              </a:rPr>
              <a:t>High frequenc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ves:  </a:t>
            </a:r>
            <a:r>
              <a:rPr b="0" i="1" lang="en-US" sz="2800" spc="-1" strike="noStrike">
                <a:solidFill>
                  <a:srgbClr val="00ff00"/>
                </a:solidFill>
                <a:latin typeface="Arial"/>
              </a:rPr>
              <a:t>good resolution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or penetration (better image if penetration not an issu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Urinary Obstru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dney contains two distinct sonographic reg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al Sinus: center of kidney -  hyperechoic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al Cortex: periphery - much less echoge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6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nephrosis - anechoic area w/in renal sin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6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nal Cysts: round thin-walled anecohic structures located in renal cort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6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eteral calculi not well visualized (19% of all documented stones, CT 94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6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ary Retention - post-void residual &gt;200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rmal Renal Ima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04920" y="1663560"/>
            <a:ext cx="4343400" cy="3598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876920" y="1739880"/>
            <a:ext cx="3809880" cy="344160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ydronephros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081840" cy="19335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80880" y="3505320"/>
            <a:ext cx="2716200" cy="2198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3429000" y="3657600"/>
            <a:ext cx="2363760" cy="2212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6095880" y="3505320"/>
            <a:ext cx="2667240" cy="2190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allbladder Disea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aging modality of choi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sonographic finding gallst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ear as echolucent structures within gallbladder that move with position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sonographic Murphy's sig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point of maximal tenderness to transducer pressure is directly over sonographically located gallbladder. (92% positive predictive valu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llbladder wall thickening: &gt;3  mm (occurs 50-75% with acute cholecystitis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allbladd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181480" y="1066680"/>
            <a:ext cx="2971800" cy="241308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838080" y="1143000"/>
            <a:ext cx="3048120" cy="234648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  <p:sp>
        <p:nvSpPr>
          <p:cNvPr id="182" name=""/>
          <p:cNvSpPr/>
          <p:nvPr/>
        </p:nvSpPr>
        <p:spPr>
          <a:xfrm>
            <a:off x="533520" y="4114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alculous Gallblad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77120" y="396252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llbladder Calculi - note acoustic shad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2514600" y="3733920"/>
            <a:ext cx="3733920" cy="2292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holecystit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181480" cy="4611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87" name=""/>
          <p:cNvSpPr/>
          <p:nvPr/>
        </p:nvSpPr>
        <p:spPr>
          <a:xfrm>
            <a:off x="990720" y="6095880"/>
            <a:ext cx="769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TE: Stone shadowing &amp; gallbladder wall thicke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udden Loss of Vis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2590560" cy="2232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029200" y="1143000"/>
            <a:ext cx="2971800" cy="22287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91" name=""/>
          <p:cNvSpPr/>
          <p:nvPr/>
        </p:nvSpPr>
        <p:spPr>
          <a:xfrm>
            <a:off x="1678320" y="3581280"/>
            <a:ext cx="559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naffected eye is used for comparis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2362320" y="4191120"/>
            <a:ext cx="3504960" cy="24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irst Trimester Pregnanc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first trimester pregnant patients presenting with abdominal/pelvic pain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vaginal bleeding require ultrasound to locate pregnan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stational sac, round or oval anechoic area surrounded by two concentric echogenic  rings (double decidual sign) earliest sonographic finding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uggestiv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I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CONCLUSIVE evidence - yolk sac, fetal pole, or F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vaginal: detection as early as 4.5 weeks after LMP beta-HCG &gt;2000 mIU/ml (discriminatory zo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abdominal: detection 5.5-6 weeks post LM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s without CONCLUSIVE evidence of IUP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regardles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of beta-HCG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ble with minimal discomfort - home w/close follow-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stable vitals or significant pain - Immediate GYN cons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irst Trimester Pregnanc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33520" y="1257480"/>
            <a:ext cx="3429000" cy="2597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33520" y="4114800"/>
            <a:ext cx="3429000" cy="2360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4419720" y="1295280"/>
            <a:ext cx="3429000" cy="2595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4419720" y="4114800"/>
            <a:ext cx="3276360" cy="2481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ditional Applica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idance in performing para/thoracentesis and placement of central 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ction of foreign bodies (wood,glass,metal and plasti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ation of fluid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ction of joint effusions &amp; abs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bladder volume prior to c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INDICATIONS &amp; KEY FINDING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uma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moperitoneum, hemopericar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diac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diac activity, pericardial effusion/tamponade, fluid st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dominal Aortic Aneurysms / Dis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meter &gt; 3 cm, intimal flap, hemoperitone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nephr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pected stone, bladder outlet obstr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da Equina, Urinary Ret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-void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INDICATIONS &amp; KEY FINDING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llbladder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llstones, wall thickening, pericholecystic fluid, sonographic Murph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dden Loss of V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inal detach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Trimester Pregna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auterine pregnancy, free fl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d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ora/para/pericardiocentesis, line placement, bladder catheter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RIENT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e marker corresponds to images on left side of moni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verse planes: marker oriented towards patients r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ggital planes: marker oriented towards patients h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343400" y="4191120"/>
            <a:ext cx="281952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coustic Shadow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ltrasound waves blocked by echogenic structures create an anechoic area distal to the obstruction. Acoustic shadow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ST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EXAMIN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use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dominal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ography f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u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tag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inva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preparation requ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exposure to rad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uracy equal to DPL in detecting hemoperitoneum (Sensitivity 90% Specificity99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traperitoneal Fluid Distribu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6386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ST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- Standard View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2438280"/>
            <a:ext cx="4343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 Standard Vi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xipho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 upper quadr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ft upper quadr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lv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3682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5T23:12:58Z</dcterms:created>
  <dc:creator>mark serra</dc:creator>
  <dc:description/>
  <dc:language>en-US</dc:language>
  <cp:lastModifiedBy>Steinhart Rachel</cp:lastModifiedBy>
  <cp:lastPrinted>2009-05-22T04:35:55Z</cp:lastPrinted>
  <dcterms:modified xsi:type="dcterms:W3CDTF">2009-06-05T23:34:39Z</dcterms:modified>
  <cp:revision>19</cp:revision>
  <dc:subject/>
  <dc:title>PRINCIPLES OF EMERGENCY DEPARTMENT SONGRAPHY</dc:title>
</cp:coreProperties>
</file>