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BDBC-B4BE-4150-B63E-0ECA109C5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45CA-264B-43FA-9C18-8A99722478E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 see all or part of the uvula when the mouth is opened you should be okay.</a:t>
            </a: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4C20-F9AD-48D4-81F7-44AF745C655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2DF6-350D-4D71-94E2-92B943B3017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airway- use lemon law to assess if intubation is felt to be likely and bag valve mask ventilation  is judged to be successful if you can’t intub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airway- if intubation is felt to be unlikely and/or BVM ventilation is judged to be unsuccessfu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If you see the chords while the pt is awake you can paralyze the pt and then intubate 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o not give an induction dose of versed without paralysis as this method can lead to a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2 studies show that intubation with conscious sedation is inferior to intubation with R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063C-7DA6-4F22-8E3F-8543D228D24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SI is predicated on the assumption that 1.emergency intubation is needed 2. pt has a full stomach 3. intubation is predicted to be successful 4. if intubation fails then bag valve mask ventilation is predicted to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RSI- can use in 80% of pts with 97-99% success rate, produces optimal intubation condition and decrease aspiration risk.</a:t>
            </a: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D55B8-680B-4485-BCF5-7FE251EC4F3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reports of adrenal supression but this has only been seen in OR pts who have had maintenance infusions and has never been seen in ED pts who get one dose for R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literature that suggests that one dose can lead to adrenal suppression in septic pts. Controversial. </a:t>
            </a: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A05F-33C9-47E3-ACDD-BCC077DDD21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loss of consciousness within 30 seconds, peaks in approx 1 minute and has a clinical duration of 10-15 minutes after a loading dose of 1.0-2.0mg/kg.</a:t>
            </a: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3412-8495-4C63-A79C-95B38A20B0C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o use because of short duration. Cite medical student experiment.</a:t>
            </a: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1096-11E1-4449-9EBF-8CC38403BE6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hyperthermia treatment- stop sux or offending agent and use dantrolene and cooling measures.</a:t>
            </a:r>
            <a:endParaRPr b="0" lang="en-US" sz="1200" spc="-1" strike="noStrike">
              <a:solidFill>
                <a:srgbClr val="000000"/>
              </a:solidFill>
              <a:latin typeface="Arial"/>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0F78-B355-4C21-B4B3-B95C0AD9B63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valve mask ventilation is contraindicated during preoxygenation as the stomach will fill with air and there is an increase risk of a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T can BVM briefly to make sure a seal is attainable and ventilation is possible if RSI attempt fails</a:t>
            </a:r>
            <a:endParaRPr b="0" lang="en-US" sz="1200" spc="-1" strike="noStrike">
              <a:solidFill>
                <a:srgbClr val="000000"/>
              </a:solidFill>
              <a:latin typeface="Arial"/>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9703A-1AF4-4012-831F-EBADEB34246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ntanyl-blunts catecholamine stimulation from laryngoscopy, use in tachycardic hypertensive patients.</a:t>
            </a:r>
            <a:endParaRPr b="0" lang="en-US" sz="1200" spc="-1" strike="noStrike">
              <a:solidFill>
                <a:srgbClr val="000000"/>
              </a:solidFill>
              <a:latin typeface="Arial"/>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4426-B85D-4504-8DE0-2C524731F6C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lecks maneuver-as pt loses consciousness pressure is gentle pressure is applied to thyroid cartilage tp prevent passive regurgitation into air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45 seconds after Sux given pt should be relaxed enough for intubation.</a:t>
            </a:r>
            <a:endParaRPr b="0" lang="en-US" sz="1200" spc="-1" strike="noStrike">
              <a:solidFill>
                <a:srgbClr val="000000"/>
              </a:solidFill>
              <a:latin typeface="Arial"/>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6E94-3328-4F0E-A436-552968F3679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curonium prefasiculating dose is .01mg/kg while paralysis dose is .1mg/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x dose in Peds is 2.0mg/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situation you only need Etomidate and Sux to intubate.</a:t>
            </a:r>
            <a:endParaRPr b="0" lang="en-US" sz="1200" spc="-1" strike="noStrike">
              <a:solidFill>
                <a:srgbClr val="000000"/>
              </a:solidFill>
              <a:latin typeface="Arial"/>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3AEA5-DA04-4752-9514-669F23B21C6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discuss LMA as it is widely used at our institution and is easy to use.</a:t>
            </a:r>
            <a:endParaRPr b="0" lang="en-US" sz="1200" spc="-1" strike="noStrike">
              <a:solidFill>
                <a:srgbClr val="000000"/>
              </a:solidFill>
              <a:latin typeface="Arial"/>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E68D-E81B-416F-B0D3-482C7F0E516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e of insertion and high success rate in insertion and ability to ventilate a patient.</a:t>
            </a:r>
            <a:endParaRPr b="0" lang="en-US" sz="1200" spc="-1" strike="noStrike">
              <a:solidFill>
                <a:srgbClr val="000000"/>
              </a:solidFill>
              <a:latin typeface="Arial"/>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E616-C345-4BE6-9E5E-3FDC3918813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LMA has no cuff so pt is at risk of aspiration</a:t>
            </a:r>
            <a:endParaRPr b="0" lang="en-US" sz="1200" spc="-1" strike="noStrike">
              <a:solidFill>
                <a:srgbClr val="000000"/>
              </a:solidFill>
              <a:latin typeface="Arial"/>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B3F8-44AD-4084-9B44-E7F3360102C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cause of the clinical course of the condition or because of treatment of the condition  the pt will not be able to protect his airway or appropriately ventilate or oxygenate.</a:t>
            </a: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F1EE4-3F05-49EB-9579-2F61F626DAF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idly obese patients with short necks have difficult airways.</a:t>
            </a: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790B-4295-455E-B302-36BB70A3EC2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636067D-308F-4CD9-A5CC-DB516ABF4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2D3618-2A64-464D-9021-23B281935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A758525-566D-41E4-B012-D4F3ADF5F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55AFAD4-CC27-4690-94EC-BCAD509CA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92DB3-6E5B-4987-BC67-6A123C4A1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D1023-064A-4B4C-956C-8338982A4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4F583-8719-4B0C-B63D-7657B2BEF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9385D-F51C-4D9C-9B6B-F0652A61D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E1A4F-B534-4AA0-914C-ED36440EB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37F82-C558-4F0A-9594-74229E463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77F31-7172-441D-A43F-D1634CCD2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916DB9A-C2A5-4EB6-80E6-E28FA5B07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FF34A-71C6-425A-BA78-58C996BA6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A2CE2-DBF1-4807-B8CF-60C41B24E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AA79F-8FD8-4AF0-A3BC-B97272682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6CD33-00C4-43E4-B2E3-D4673F273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CD6B6-25E8-4260-8C09-E1B091043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A03BEFE-CA0A-416C-AE4B-EBA2A85D9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459620C-BAF6-4C37-A386-E8F72E5AD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639D26E-9674-4F20-9EF4-CFE1B649F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39E8086-7EA7-4548-BEE8-CADCA30E6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A419DE7-0830-4025-84C0-7B7B45159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41B385-EC06-4ED2-921B-536462032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206DF9-3215-4A69-9045-CEF2EBC47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8EE6-7BB3-4A80-B585-3056C8A973EF}"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1F5C-FB65-4065-92D3-B3CE0EC8DD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DC56-F396-426E-A69A-6EE54F9FC2B9}" type="datetime">
              <a:rPr b="0" lang="en-US" sz="1200" spc="-1" strike="noStrike">
                <a:solidFill>
                  <a:srgbClr val="ffffff"/>
                </a:solidFill>
                <a:latin typeface="Times New Roman"/>
              </a:rPr>
              <a:t>07/29/26</a:t>
            </a:fld>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C8FA-72F6-4CA8-9F5D-8280FC0ACD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C8D6-F90A-471B-A6AF-4FAD9F774E42}"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08"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1445-02F4-45F0-B41F-07F6301E4C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mergency Department Airway Management</a:t>
            </a:r>
            <a:br>
              <a:rPr sz="4000"/>
            </a:br>
            <a:r>
              <a:rPr b="1" lang="en-US" sz="4000" spc="-1" strike="noStrike">
                <a:solidFill>
                  <a:srgbClr val="e5e5ff"/>
                </a:solidFill>
                <a:latin typeface="Garamond"/>
              </a:rPr>
              <a:t>Presented by</a:t>
            </a:r>
            <a:br>
              <a:rPr sz="4000"/>
            </a:br>
            <a:r>
              <a:rPr b="1" lang="en-US" sz="4000" spc="-1" strike="noStrike">
                <a:solidFill>
                  <a:srgbClr val="e5e5ff"/>
                </a:solidFill>
                <a:latin typeface="Garamond"/>
              </a:rPr>
              <a:t>Neil Jayasekera MD</a:t>
            </a:r>
            <a:endParaRPr b="1" lang="en-US" sz="40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CE43-D745-4A07-AFCF-44D7B64D8BB2}"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4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4E64-D81D-4E3C-B9CC-7A4300BF27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M</a:t>
            </a:r>
            <a:r>
              <a:rPr b="1" lang="en-US" sz="4400" spc="-1" strike="noStrike">
                <a:solidFill>
                  <a:srgbClr val="e5e5ff"/>
                </a:solidFill>
                <a:latin typeface="Garamond"/>
              </a:rPr>
              <a:t>allampati Scal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Mallampati scale-</a:t>
            </a:r>
            <a:r>
              <a:rPr b="0" lang="en-US" sz="3200" spc="-1" strike="noStrike">
                <a:solidFill>
                  <a:srgbClr val="ffffff"/>
                </a:solidFill>
                <a:latin typeface="Garamond"/>
              </a:rPr>
              <a:t> based on how much you can see when patient sticks out tongue.  </a:t>
            </a:r>
            <a:r>
              <a:rPr b="0" lang="en-US" sz="3200" spc="-1" strike="noStrike">
                <a:solidFill>
                  <a:srgbClr val="66ff66"/>
                </a:solidFill>
                <a:latin typeface="Garamond"/>
              </a:rPr>
              <a:t>Class I-</a:t>
            </a:r>
            <a:r>
              <a:rPr b="0" lang="en-US" sz="3200" spc="-1" strike="noStrike">
                <a:solidFill>
                  <a:srgbClr val="ffffff"/>
                </a:solidFill>
                <a:latin typeface="Garamond"/>
              </a:rPr>
              <a:t> soft palate, uvula,  and tonsillar pillars (No difficulty). </a:t>
            </a:r>
            <a:r>
              <a:rPr b="0" lang="en-US" sz="3200" spc="-1" strike="noStrike">
                <a:solidFill>
                  <a:srgbClr val="66ff66"/>
                </a:solidFill>
                <a:latin typeface="Garamond"/>
              </a:rPr>
              <a:t>Class II-</a:t>
            </a:r>
            <a:r>
              <a:rPr b="0" lang="en-US" sz="3200" spc="-1" strike="noStrike">
                <a:solidFill>
                  <a:srgbClr val="ffffff"/>
                </a:solidFill>
                <a:latin typeface="Garamond"/>
              </a:rPr>
              <a:t> soft palate, uvula,  fauces visible (No difficulty). </a:t>
            </a:r>
            <a:r>
              <a:rPr b="0" lang="en-US" sz="3200" spc="-1" strike="noStrike">
                <a:solidFill>
                  <a:srgbClr val="66ff66"/>
                </a:solidFill>
                <a:latin typeface="Garamond"/>
              </a:rPr>
              <a:t>Class III-</a:t>
            </a:r>
            <a:r>
              <a:rPr b="0" lang="en-US" sz="3200" spc="-1" strike="noStrike">
                <a:solidFill>
                  <a:srgbClr val="ffffff"/>
                </a:solidFill>
                <a:latin typeface="Garamond"/>
              </a:rPr>
              <a:t> soft palate, base of uvula visible (Moderate difficulty).  </a:t>
            </a:r>
            <a:r>
              <a:rPr b="0" lang="en-US" sz="3200" spc="-1" strike="noStrike">
                <a:solidFill>
                  <a:srgbClr val="66ff66"/>
                </a:solidFill>
                <a:latin typeface="Garamond"/>
              </a:rPr>
              <a:t>Class IV-</a:t>
            </a:r>
            <a:r>
              <a:rPr b="0" lang="en-US" sz="3200" spc="-1" strike="noStrike">
                <a:solidFill>
                  <a:srgbClr val="ffffff"/>
                </a:solidFill>
                <a:latin typeface="Garamond"/>
              </a:rPr>
              <a:t> hard palate only visible (Severe difficulty).</a:t>
            </a:r>
            <a:endParaRPr b="0" lang="en-US" sz="32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E268-6A81-4DD5-BE7F-935721DD1599}"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4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979B-74C0-4229-BAE4-49390BB4BB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O</a:t>
            </a:r>
            <a:r>
              <a:rPr b="1" lang="en-US" sz="4400" spc="-1" strike="noStrike">
                <a:solidFill>
                  <a:srgbClr val="ffffff"/>
                </a:solidFill>
                <a:latin typeface="Garamond"/>
              </a:rPr>
              <a:t>bstruction</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Upper airway obstruction-</a:t>
            </a:r>
            <a:r>
              <a:rPr b="0" lang="en-US" sz="3200" spc="-1" strike="noStrike">
                <a:solidFill>
                  <a:srgbClr val="ffffff"/>
                </a:solidFill>
                <a:latin typeface="Garamond"/>
              </a:rPr>
              <a:t> Such as angioedema, peritonsillar abscess with trismus, burns, penetrating neck injury, and epiglottis fit into this category.</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Facial Trauma and Laryngeal trauma-</a:t>
            </a:r>
            <a:r>
              <a:rPr b="0" lang="en-US" sz="3200" spc="-1" strike="noStrike">
                <a:solidFill>
                  <a:srgbClr val="ffffff"/>
                </a:solidFill>
                <a:latin typeface="Garamond"/>
              </a:rPr>
              <a:t> higher likelihood to need a surgical airway.</a:t>
            </a:r>
            <a:endParaRPr b="0" lang="en-US" sz="32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N</a:t>
            </a:r>
            <a:r>
              <a:rPr b="1" lang="en-US" sz="4400" spc="-1" strike="noStrike">
                <a:solidFill>
                  <a:srgbClr val="ffffff"/>
                </a:solidFill>
                <a:latin typeface="Garamond"/>
              </a:rPr>
              <a:t>eck Mobility</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Limited cervical mobility</a:t>
            </a:r>
            <a:r>
              <a:rPr b="0" lang="en-US" sz="3200" spc="-1" strike="noStrike">
                <a:solidFill>
                  <a:srgbClr val="ffffff"/>
                </a:solidFill>
                <a:latin typeface="Garamond"/>
              </a:rPr>
              <a:t>-secondary to DJD, Rheumatoid Arthritis, immobilized trauma patient in c-spine precautions.</a:t>
            </a:r>
            <a:endParaRPr b="0" lang="en-US" sz="3200" spc="-1" strike="noStrike">
              <a:solidFill>
                <a:srgbClr val="ffffff"/>
              </a:solidFill>
              <a:latin typeface="Garamond"/>
            </a:endParaRPr>
          </a:p>
        </p:txBody>
      </p:sp>
      <p:sp>
        <p:nvSpPr>
          <p:cNvPr id="15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ABF1-61B2-407A-B067-1AC1E6E209E0}"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5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26A0-4F82-4FBF-B6A6-FE285E47A6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2CF0-2880-4733-BB7F-9ED5D5A1D1A6}"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5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8CEF-C31F-4A76-A101-D642F5222E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hoosing the appropriate intubation technique</a:t>
            </a:r>
            <a:endParaRPr b="1" lang="en-US" sz="40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sy Airway- paralyze the patient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cc00"/>
                </a:solidFill>
                <a:latin typeface="Garamond"/>
              </a:rPr>
              <a:t>Rapid Sequence Intubation</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ficult Airway- awake technique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               </a:t>
            </a:r>
            <a:r>
              <a:rPr b="0" lang="en-US" sz="2800" spc="-1" strike="noStrike">
                <a:solidFill>
                  <a:srgbClr val="ffcc00"/>
                </a:solidFill>
                <a:latin typeface="Garamond"/>
              </a:rPr>
              <a:t>Blind Nasotracheal Intubation  </a:t>
            </a:r>
            <a:r>
              <a:rPr b="0" lang="en-US" sz="2800" spc="-1" strike="noStrike">
                <a:solidFill>
                  <a:srgbClr val="ffffff"/>
                </a:solidFill>
                <a:latin typeface="Garamond"/>
              </a:rPr>
              <a:t>or</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               </a:t>
            </a:r>
            <a:r>
              <a:rPr b="0" lang="en-US" sz="2800" spc="-1" strike="noStrike">
                <a:solidFill>
                  <a:srgbClr val="ffcc00"/>
                </a:solidFill>
                <a:latin typeface="Garamond"/>
              </a:rPr>
              <a:t>Awake Oral Intubation with Sedation</a:t>
            </a:r>
            <a:endParaRPr b="0" lang="en-US" sz="28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2165-3566-420D-AB0D-7CB8D01398F7}"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6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C8D6-65D5-4E80-A3BB-D87BD0BD80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wake Oral Intubation with Sedation-</a:t>
            </a:r>
            <a:r>
              <a:rPr b="0" lang="en-US" sz="3200" spc="-1" strike="noStrike">
                <a:solidFill>
                  <a:srgbClr val="ffffff"/>
                </a:solidFill>
                <a:latin typeface="Garamond"/>
              </a:rPr>
              <a:t> use topical anesthetic (</a:t>
            </a:r>
            <a:r>
              <a:rPr b="0" lang="en-US" sz="3200" spc="-1" strike="noStrike">
                <a:solidFill>
                  <a:srgbClr val="66ff66"/>
                </a:solidFill>
                <a:latin typeface="Garamond"/>
              </a:rPr>
              <a:t>nebulized lidocaine</a:t>
            </a:r>
            <a:r>
              <a:rPr b="0" lang="en-US" sz="3200" spc="-1" strike="noStrike">
                <a:solidFill>
                  <a:srgbClr val="ffffff"/>
                </a:solidFill>
                <a:latin typeface="Garamond"/>
              </a:rPr>
              <a:t> or hurricane spray) and conscious sedation doses of </a:t>
            </a:r>
            <a:r>
              <a:rPr b="0" lang="en-US" sz="3200" spc="-1" strike="noStrike">
                <a:solidFill>
                  <a:srgbClr val="66ff66"/>
                </a:solidFill>
                <a:latin typeface="Garamond"/>
              </a:rPr>
              <a:t>Fentanyl</a:t>
            </a:r>
            <a:r>
              <a:rPr b="0" lang="en-US" sz="3200" spc="-1" strike="noStrike">
                <a:solidFill>
                  <a:srgbClr val="ffffff"/>
                </a:solidFill>
                <a:latin typeface="Garamond"/>
              </a:rPr>
              <a:t> and </a:t>
            </a:r>
            <a:r>
              <a:rPr b="0" lang="en-US" sz="3200" spc="-1" strike="noStrike">
                <a:solidFill>
                  <a:srgbClr val="66ff66"/>
                </a:solidFill>
                <a:latin typeface="Garamond"/>
              </a:rPr>
              <a:t>Versed</a:t>
            </a:r>
            <a:r>
              <a:rPr b="0" lang="en-US" sz="3200" spc="-1" strike="noStrike">
                <a:solidFill>
                  <a:srgbClr val="ffffff"/>
                </a:solidFill>
                <a:latin typeface="Garamond"/>
              </a:rPr>
              <a:t> or both. </a:t>
            </a:r>
            <a:endParaRPr b="0" lang="en-US" sz="32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1528-384A-440E-AEA2-A77AF2987B26}"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6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A408-26EA-474C-9BB1-326F0AD185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title"/>
          </p:nvPr>
        </p:nvSpPr>
        <p:spPr>
          <a:xfrm>
            <a:off x="457200" y="274680"/>
            <a:ext cx="8229600" cy="59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67" name="PlaceHolder 2"/>
          <p:cNvSpPr>
            <a:spLocks noGrp="1"/>
          </p:cNvSpPr>
          <p:nvPr>
            <p:ph/>
          </p:nvPr>
        </p:nvSpPr>
        <p:spPr>
          <a:xfrm>
            <a:off x="457200" y="728280"/>
            <a:ext cx="8229600" cy="5397480"/>
          </a:xfrm>
          <a:prstGeom prst="rect">
            <a:avLst/>
          </a:prstGeom>
          <a:noFill/>
          <a:ln w="0">
            <a:noFill/>
          </a:ln>
        </p:spPr>
        <p:txBody>
          <a:bodyPr anchor="t">
            <a:normAutofit fontScale="75000"/>
          </a:bodyPr>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	</a:t>
            </a:r>
            <a:r>
              <a:rPr b="0" lang="en-US" sz="3200" spc="-1" strike="noStrike">
                <a:solidFill>
                  <a:srgbClr val="ffcc00"/>
                </a:solidFill>
                <a:latin typeface="Garamond"/>
              </a:rPr>
              <a:t>Rapid Sequence Intubation</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nerstone of modern emergency airway management. </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ccinylcholine is the preferred   paralytic in the ED because of its rapid and consistent onset of action, short clinical duration, and absence of significant side effects.</a:t>
            </a:r>
            <a:endParaRPr b="0" lang="en-US" sz="3200" spc="-1" strike="noStrike">
              <a:solidFill>
                <a:srgbClr val="ffffff"/>
              </a:solidFill>
              <a:latin typeface="Garamond"/>
            </a:endParaRPr>
          </a:p>
          <a:p>
            <a:pPr marL="257040" indent="-257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echnique involves the simultaneous administration of a potent sedative (induction) agent and a neuromuscular blocking agent, such as Succinylcholine, for the purpose of  endotracheal intubation. </a:t>
            </a:r>
            <a:endParaRPr b="0" lang="en-US" sz="3200" spc="-1" strike="noStrike">
              <a:solidFill>
                <a:srgbClr val="ffffff"/>
              </a:solidFill>
              <a:latin typeface="Garamond"/>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257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1AE2-88CB-4D13-9DAE-77C1063E17A7}"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6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EB2B-DDFF-4FF3-ACB3-A6C4648963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duction Agents</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71000"/>
          </a:bodyPr>
          <a:p>
            <a:pPr marL="24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Etomidate- </a:t>
            </a:r>
            <a:r>
              <a:rPr b="0" lang="en-US" sz="3200" spc="-1" strike="noStrike">
                <a:solidFill>
                  <a:srgbClr val="ffffff"/>
                </a:solidFill>
                <a:latin typeface="Garamond"/>
              </a:rPr>
              <a:t> </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D agent of choice for induction.  Etomidate has a similar profile of Versed with rapid onset, rapid peak activity, and brief duration, but is remarkably hemodynamically stable. </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barbituate hypnotic that works at the GABA receptor.</a:t>
            </a:r>
            <a:endParaRPr b="0" lang="en-US" sz="3200" spc="-1" strike="noStrike">
              <a:solidFill>
                <a:srgbClr val="ffffff"/>
              </a:solidFill>
              <a:latin typeface="Garamond"/>
            </a:endParaRPr>
          </a:p>
          <a:p>
            <a:pPr marL="243360" indent="-24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be used in all scenarios possible exception is septic pts.</a:t>
            </a:r>
            <a:endParaRPr b="0" lang="en-US" sz="3200" spc="-1" strike="noStrike">
              <a:solidFill>
                <a:srgbClr val="ffffff"/>
              </a:solidFill>
              <a:latin typeface="Garamond"/>
            </a:endParaRPr>
          </a:p>
          <a:p>
            <a:pPr marL="24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4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276B-D1A1-409D-892B-823134D29373}"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7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6B6C-5B3B-482E-BC86-9EAD59510F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Ketamine-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dissociative anesthetic agent.  Ketamine is for use in the induction of asthma and trauma pts. who are hypotensive without signs of head trauma.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etamine is a brochodilator and increases ICP and cerebreal blood flow.</a:t>
            </a:r>
            <a:endParaRPr b="0" lang="en-US" sz="32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969A-389A-4A83-9CD3-804F2997EBBD}"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7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93D6-804C-4F64-AF50-C671AB5003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alytic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Depolarizing agents- </a:t>
            </a:r>
            <a:r>
              <a:rPr b="0" lang="en-US" sz="3200" spc="-1" strike="noStrike">
                <a:solidFill>
                  <a:srgbClr val="ffffff"/>
                </a:solidFill>
                <a:latin typeface="Garamond"/>
              </a:rPr>
              <a:t> Succinylcholine (SCH) which is a chemical combination of 2 molecules of acetylcholine.  Binds noncompetitively with ACH receptors on the motor end plate and causes sustained depolarization of the myocyte (thus see defasiculations).</a:t>
            </a: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8E4E5-4C61-4E9C-8D4C-369333E64D83}"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8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FC67-C5A6-49E9-A6E3-102B618320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Nondepolarizing agents- </a:t>
            </a:r>
            <a:r>
              <a:rPr b="0" lang="en-US" sz="3200" spc="-1" strike="noStrike">
                <a:solidFill>
                  <a:srgbClr val="ffffff"/>
                </a:solidFill>
                <a:latin typeface="Garamond"/>
              </a:rPr>
              <a:t>such as Vecuronium which binds competitively to ACH receptors preventing access to ACH and thus preventing muscular activity.</a:t>
            </a: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7DDF-14D1-4053-9F30-21E127BAFBFD}"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1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1C6D-AC2B-49CF-A7B6-F544F1C759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ctiv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to Intubat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dentify the Difficult Airway</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oosing the Appropriate Intubation Techniqu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Induction Agent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Paralytic  Agent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SI Technique – the 6 P’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of RSI timelin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ailed Airway</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yngeal Mask Airway</a:t>
            </a:r>
            <a:endParaRPr b="0" lang="en-US" sz="32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ADA9-A431-4DB9-88A6-49CA3076DC65}"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8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D0B4-28DB-4075-8488-CF063D3A36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uccinylcholine</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idly active, producing intubation conditions within 60 seconds.  The clinical duration of action is 6-10 minutes but initial recovery of spontaneous respirations may be seen in as few as 3 minutes.</a:t>
            </a:r>
            <a:endParaRPr b="0" lang="en-US" sz="3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9FDF8-B92C-4C2B-B15F-C84CEDD6E944}"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8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B7D4-9157-4595-BF8B-FF1DA1E875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ide Effects of SCH</a:t>
            </a:r>
            <a:endParaRPr b="1" lang="en-US" sz="44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radycardia-</a:t>
            </a:r>
            <a:r>
              <a:rPr b="0" lang="en-US" sz="3200" spc="-1" strike="noStrike">
                <a:solidFill>
                  <a:srgbClr val="ffffff"/>
                </a:solidFill>
                <a:latin typeface="Garamond"/>
              </a:rPr>
              <a:t> SCH is a weak negative inotrope and chronotrope.  Give atropine to prevent bradycardia in children less than 10.</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Defasiculations-</a:t>
            </a:r>
            <a:r>
              <a:rPr b="0" lang="en-US" sz="3200" spc="-1" strike="noStrike">
                <a:solidFill>
                  <a:srgbClr val="ffffff"/>
                </a:solidFill>
                <a:latin typeface="Garamond"/>
              </a:rPr>
              <a:t> from depolarizing effect of SCH, which may increase ICP, intragastric pressure and intraocular pressure.  Give defasiculation dose of depolarizing agent.</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79F4-B157-4758-AC8F-E74104B8B7F6}"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9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7108-8064-4BF4-8D9B-1D602AE972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title"/>
          </p:nvPr>
        </p:nvSpPr>
        <p:spPr>
          <a:xfrm>
            <a:off x="503280" y="0"/>
            <a:ext cx="822960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5" name="PlaceHolder 2"/>
          <p:cNvSpPr>
            <a:spLocks noGrp="1"/>
          </p:cNvSpPr>
          <p:nvPr>
            <p:ph/>
          </p:nvPr>
        </p:nvSpPr>
        <p:spPr>
          <a:xfrm>
            <a:off x="576360" y="1089000"/>
            <a:ext cx="8229600" cy="5324400"/>
          </a:xfrm>
          <a:prstGeom prst="rect">
            <a:avLst/>
          </a:prstGeom>
          <a:noFill/>
          <a:ln w="0">
            <a:noFill/>
          </a:ln>
        </p:spPr>
        <p:txBody>
          <a:bodyPr anchor="t">
            <a:normAutofit fontScale="90000"/>
          </a:bodyPr>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yperkalemia-</a:t>
            </a:r>
            <a:r>
              <a:rPr b="0" lang="en-US" sz="2800" spc="-1" strike="noStrike">
                <a:solidFill>
                  <a:srgbClr val="ffffff"/>
                </a:solidFill>
                <a:latin typeface="Garamond"/>
              </a:rPr>
              <a:t> Sux has been associated with severe, fatal hyperkalemia when administered in specific clinical situations:  Major burns, Major crush injuries, Denervation Injuries and Severe abdominal Sepsis.</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Malignant Hyperthermia-</a:t>
            </a:r>
            <a:r>
              <a:rPr b="0" lang="en-US" sz="2800" spc="-1" strike="noStrike">
                <a:solidFill>
                  <a:srgbClr val="ffffff"/>
                </a:solidFill>
                <a:latin typeface="Garamond"/>
              </a:rPr>
              <a:t> a syndrome of rapid temperature rise and aggressive rhabdomylosis that occurs in the context of certain volatile general anesthetic agents or succinylcholine in genectically predisposed individuals. The condition is extremely rare and has not been reported in the ED use of  Sux.</a:t>
            </a:r>
            <a:endParaRPr b="0" lang="en-US" sz="28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8054-B899-4A19-A0D3-D049E22B240A}"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9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F86A-5F96-4500-BC0F-752E5ABFCD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SI Technique- the 6 P’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1.Preparation-</a:t>
            </a:r>
            <a:r>
              <a:rPr b="0" lang="en-US" sz="3200" spc="-1" strike="noStrike">
                <a:solidFill>
                  <a:srgbClr val="ffffff"/>
                </a:solidFill>
                <a:latin typeface="Garamond"/>
              </a:rPr>
              <a:t> pt. is assessed for difficulty of intubation, all meds drawn up, equipment is assembled and staff is ready for intub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399C-A3AC-496D-B741-1E052707F80B}"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0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D7C2-741E-4EA8-BE82-85A3A4F8D2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Garamond"/>
              </a:rPr>
              <a:t>2. Preoxygenation-</a:t>
            </a:r>
            <a:r>
              <a:rPr b="0" lang="en-US" sz="3600" spc="-1" strike="noStrike">
                <a:solidFill>
                  <a:srgbClr val="ffffff"/>
                </a:solidFill>
                <a:latin typeface="Garamond"/>
              </a:rPr>
              <a:t> administration of 100% oxygen by non-rebreather  for 5 minutes in a normal adult results in the establishment of an adequate oxygen reservoir to permit 3-5 minutes of apnea before desaturations less than 90% occur (i.e. replacing nitrogen reservoir in lungs with oxygen).  </a:t>
            </a:r>
            <a:endParaRPr b="0" lang="en-US" sz="3600" spc="-1" strike="noStrike">
              <a:solidFill>
                <a:srgbClr val="ffffff"/>
              </a:solidFill>
              <a:latin typeface="Garamond"/>
            </a:endParaRPr>
          </a:p>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6FED-A8CB-4971-84A7-8B6E5CA431DE}"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0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9237-9324-4B06-9BA2-10D7E7E05A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fontScale="79000"/>
          </a:bodyPr>
          <a:p>
            <a:pPr marL="270720" indent="-2707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3. Pretreatment-</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66ff66"/>
                </a:solidFill>
                <a:latin typeface="Garamond"/>
              </a:rPr>
              <a:t>Lidocaine</a:t>
            </a:r>
            <a:r>
              <a:rPr b="0" lang="en-US" sz="3200" spc="-1" strike="noStrike">
                <a:solidFill>
                  <a:srgbClr val="ffffff"/>
                </a:solidFill>
                <a:latin typeface="Garamond"/>
              </a:rPr>
              <a:t>- attenuates rise in ICP and blunts reactive airway response to laryngoscopy and tube placement.  </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66ff66"/>
                </a:solidFill>
                <a:latin typeface="Garamond"/>
              </a:rPr>
              <a:t>Atropine-</a:t>
            </a:r>
            <a:r>
              <a:rPr b="0" lang="en-US" sz="3200" spc="-1" strike="noStrike">
                <a:solidFill>
                  <a:srgbClr val="ffffff"/>
                </a:solidFill>
                <a:latin typeface="Garamond"/>
              </a:rPr>
              <a:t>prevents bradycardia associated with intubation in chldren less then 10.</a:t>
            </a:r>
            <a:endParaRPr b="0" lang="en-US" sz="3200" spc="-1" strike="noStrike">
              <a:solidFill>
                <a:srgbClr val="ffffff"/>
              </a:solidFill>
              <a:latin typeface="Garamond"/>
            </a:endParaRPr>
          </a:p>
          <a:p>
            <a:pPr marL="27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Garamond"/>
              </a:rPr>
              <a:t> </a:t>
            </a:r>
            <a:r>
              <a:rPr b="0" lang="en-US" sz="3200" spc="-1" strike="noStrike">
                <a:solidFill>
                  <a:srgbClr val="66ff66"/>
                </a:solidFill>
                <a:latin typeface="Garamond"/>
              </a:rPr>
              <a:t>Defasiculation dose</a:t>
            </a:r>
            <a:r>
              <a:rPr b="0" lang="en-US" sz="3200" spc="-1" strike="noStrike">
                <a:solidFill>
                  <a:srgbClr val="ffffff"/>
                </a:solidFill>
                <a:latin typeface="Garamond"/>
              </a:rPr>
              <a:t> - of a nondepolarizing agent to blunt the fasiculation response of succinylcholine ( may blunt increase ICP with intubation).</a:t>
            </a:r>
            <a:endParaRPr b="0" lang="en-US" sz="32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4. Paralysis with induction</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Induction agent- sedative administered in dose sufficient to produce unconscious stat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Paralytic agent-given immediately after induction agent.</a:t>
            </a:r>
            <a:endParaRPr b="0" lang="en-US" sz="3200" spc="-1" strike="noStrike">
              <a:solidFill>
                <a:srgbClr val="ffffff"/>
              </a:solidFill>
              <a:latin typeface="Garamond"/>
            </a:endParaRPr>
          </a:p>
        </p:txBody>
      </p:sp>
      <p:sp>
        <p:nvSpPr>
          <p:cNvPr id="21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673E-61D6-4C71-9CDA-8CE26071A7DF}"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1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6AA6-76AC-4955-95A1-6C99F50249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E0B6-DBEF-490C-96E7-F4CCDB243AE8}"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1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B58A-1D8B-4FF4-9ABB-68B0F2A0A5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5. Placement-</a:t>
            </a:r>
            <a:r>
              <a:rPr b="0" lang="en-US" sz="3200" spc="-1" strike="noStrike">
                <a:solidFill>
                  <a:srgbClr val="ffffff"/>
                </a:solidFill>
                <a:latin typeface="Garamond"/>
              </a:rPr>
              <a:t> placement of the tube through the chords under direct visualization.  If you miss the intubation you can BVM the pt. with the Sellick’s maneuver ( to prevent air from getting into the stomach) and then try again.</a:t>
            </a:r>
            <a:endParaRPr b="0" lang="en-US" sz="32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C37F-F476-4836-8C2D-430E2A3DB8EB}"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1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9B98-2CE2-4987-AAAA-3CF43E7932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6. Postintubation management-</a:t>
            </a:r>
            <a:r>
              <a:rPr b="0" lang="en-US" sz="3200" spc="-1" strike="noStrike">
                <a:solidFill>
                  <a:srgbClr val="ffffff"/>
                </a:solidFill>
                <a:latin typeface="Garamond"/>
              </a:rPr>
              <a:t> listen to stomach, chest. Get X-ray to confirm tube placement.  For definitive evidence of tube placement utilize end-tidal CO2 detector.</a:t>
            </a:r>
            <a:endParaRPr b="0" lang="en-US" sz="3200" spc="-1" strike="noStrike">
              <a:solidFill>
                <a:srgbClr val="ffffff"/>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621E-45E2-4C58-BCA2-529F5EDB9A28}"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2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24AB-C5BA-4BE8-9873-32E42A1683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of RSI Timeline</a:t>
            </a:r>
            <a:endParaRPr b="1" lang="en-US" sz="4400" spc="-1" strike="noStrike">
              <a:solidFill>
                <a:srgbClr val="e5e5ff"/>
              </a:solidFill>
              <a:latin typeface="Garamond"/>
            </a:endParaRPr>
          </a:p>
        </p:txBody>
      </p:sp>
      <p:sp>
        <p:nvSpPr>
          <p:cNvPr id="223" name="PlaceHolder 2"/>
          <p:cNvSpPr>
            <a:spLocks noGrp="1"/>
          </p:cNvSpPr>
          <p:nvPr>
            <p:ph/>
          </p:nvPr>
        </p:nvSpPr>
        <p:spPr>
          <a:xfrm>
            <a:off x="457200" y="1268280"/>
            <a:ext cx="8229600" cy="48578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5:00-</a:t>
            </a:r>
            <a:r>
              <a:rPr b="0" lang="en-US" sz="2800" spc="-1" strike="noStrike">
                <a:solidFill>
                  <a:srgbClr val="ffffff"/>
                </a:solidFill>
                <a:latin typeface="Garamond"/>
              </a:rPr>
              <a:t>  Preoxygenate and prepare equipment- pulse ox, </a:t>
            </a:r>
            <a:r>
              <a:rPr b="0" lang="en-US" sz="2800" spc="-1" strike="noStrike">
                <a:solidFill>
                  <a:srgbClr val="ffffff"/>
                </a:solidFill>
                <a:latin typeface="Garamond"/>
              </a:rPr>
              <a:t>	</a:t>
            </a:r>
            <a:r>
              <a:rPr b="0" lang="en-US" sz="2800" spc="-1" strike="noStrike">
                <a:solidFill>
                  <a:srgbClr val="ffffff"/>
                </a:solidFill>
                <a:latin typeface="Garamond"/>
              </a:rPr>
              <a:t>monitor, draw up meds.</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3:00-  </a:t>
            </a:r>
            <a:r>
              <a:rPr b="0" lang="en-US" sz="2800" spc="-1" strike="noStrike">
                <a:solidFill>
                  <a:srgbClr val="ffffff"/>
                </a:solidFill>
                <a:latin typeface="Garamond"/>
              </a:rPr>
              <a:t>Lidocaine 1mg/kg  attenuates laryngospasm and </a:t>
            </a:r>
            <a:r>
              <a:rPr b="0" lang="en-US" sz="2800" spc="-1" strike="noStrike">
                <a:solidFill>
                  <a:srgbClr val="ffffff"/>
                </a:solidFill>
                <a:latin typeface="Garamond"/>
              </a:rPr>
              <a:t>	</a:t>
            </a:r>
            <a:r>
              <a:rPr b="0" lang="en-US" sz="2800" spc="-1" strike="noStrike">
                <a:solidFill>
                  <a:srgbClr val="ffffff"/>
                </a:solidFill>
                <a:latin typeface="Garamond"/>
              </a:rPr>
              <a:t>decreases ICP.</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Atropine 0.01 mg/kg  attenuates bradycardia with </a:t>
            </a:r>
            <a:r>
              <a:rPr b="0" lang="en-US" sz="2800" spc="-1" strike="noStrike">
                <a:solidFill>
                  <a:srgbClr val="ffffff"/>
                </a:solidFill>
                <a:latin typeface="Garamond"/>
              </a:rPr>
              <a:t>	</a:t>
            </a:r>
            <a:r>
              <a:rPr b="0" lang="en-US" sz="2800" spc="-1" strike="noStrike">
                <a:solidFill>
                  <a:srgbClr val="ffffff"/>
                </a:solidFill>
                <a:latin typeface="Garamond"/>
              </a:rPr>
              <a:t>Sux, peds &lt;10.</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Fentanyl 2-3mcg/kg  attenuates catecholamine </a:t>
            </a:r>
            <a:r>
              <a:rPr b="0" lang="en-US" sz="2800" spc="-1" strike="noStrike">
                <a:solidFill>
                  <a:srgbClr val="ffffff"/>
                </a:solidFill>
                <a:latin typeface="Garamond"/>
              </a:rPr>
              <a:t>	</a:t>
            </a:r>
            <a:r>
              <a:rPr b="0" lang="en-US" sz="2800" spc="-1" strike="noStrike">
                <a:solidFill>
                  <a:srgbClr val="ffffff"/>
                </a:solidFill>
                <a:latin typeface="Garamond"/>
              </a:rPr>
              <a:t>release.</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Vecuronium 0.01mg/kg  attenuates fasiculations of </a:t>
            </a:r>
            <a:r>
              <a:rPr b="0" lang="en-US" sz="2800" spc="-1" strike="noStrike">
                <a:solidFill>
                  <a:srgbClr val="ffffff"/>
                </a:solidFill>
                <a:latin typeface="Garamond"/>
              </a:rPr>
              <a:t>	</a:t>
            </a:r>
            <a:r>
              <a:rPr b="0" lang="en-US" sz="2800" spc="-1" strike="noStrike">
                <a:solidFill>
                  <a:srgbClr val="ffffff"/>
                </a:solidFill>
                <a:latin typeface="Garamond"/>
              </a:rPr>
              <a:t>Sux, decreases ICP.</a:t>
            </a: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83A7-217F-4DAF-84B2-41E2FB3ACE7D}"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1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0F65E-6760-4F8A-AF2B-0F4B524F2F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en to Intubate</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Failure to maintain or protect the airway</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irway is not patent  i.e.  obstruc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atient cannot protect his airway and is at risk      for aspir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Rectangle 8"/>
          <p:cNvSpPr/>
          <p:nvPr/>
        </p:nvSpPr>
        <p:spPr>
          <a:xfrm>
            <a:off x="10080720" y="297000"/>
            <a:ext cx="9144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A9D9-A4C3-4BDE-ABB0-B16BAC726CDF}"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2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5B57-5A85-488B-B68A-D82DCA90CC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68360" y="1196640"/>
            <a:ext cx="8229600" cy="5288040"/>
          </a:xfrm>
          <a:prstGeom prst="rect">
            <a:avLst/>
          </a:prstGeom>
          <a:noFill/>
          <a:ln w="0">
            <a:noFill/>
          </a:ln>
        </p:spPr>
        <p:txBody>
          <a:bodyPr anchor="t">
            <a:normAutofit fontScale="70000"/>
          </a:bodyPr>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0:00-   </a:t>
            </a:r>
            <a:r>
              <a:rPr b="0" lang="en-US" sz="3200" spc="-1" strike="noStrike">
                <a:solidFill>
                  <a:srgbClr val="ffffff"/>
                </a:solidFill>
                <a:latin typeface="Garamond"/>
              </a:rPr>
              <a:t>Induction:</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Etomidate  0.3mg/kg  or Versed 0.1mg/kg,          </a:t>
            </a:r>
            <a:r>
              <a:rPr b="0" lang="en-US" sz="3200" spc="-1" strike="noStrike">
                <a:solidFill>
                  <a:srgbClr val="ffffff"/>
                </a:solidFill>
                <a:latin typeface="Garamond"/>
              </a:rPr>
              <a:t>	</a:t>
            </a:r>
            <a:r>
              <a:rPr b="0" lang="en-US" sz="3200" spc="-1" strike="noStrike">
                <a:solidFill>
                  <a:srgbClr val="ffffff"/>
                </a:solidFill>
                <a:latin typeface="Garamond"/>
              </a:rPr>
              <a:t>  Ketamine 1.0-2.0 mg/kg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Paralytic:</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uccyinlcholine  1.0-1.5 mg/kg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nset 30-45 seconds ,duration 3-10 minutes</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0:45-</a:t>
            </a:r>
            <a:r>
              <a:rPr b="0" lang="en-US" sz="3200" spc="-1" strike="noStrike">
                <a:solidFill>
                  <a:srgbClr val="ffffff"/>
                </a:solidFill>
                <a:latin typeface="Garamond"/>
              </a:rPr>
              <a:t> Intubation: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7.5-8.0 ETT female. </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8.0-8.5  ETT male.</a:t>
            </a:r>
            <a:endParaRPr b="0" lang="en-US" sz="3200" spc="-1" strike="noStrike">
              <a:solidFill>
                <a:srgbClr val="ffffff"/>
              </a:solidFill>
              <a:latin typeface="Garamond"/>
            </a:endParaRPr>
          </a:p>
          <a:p>
            <a:pPr marL="240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heck tube placement , use capnometer.</a:t>
            </a:r>
            <a:endParaRPr b="0" lang="en-US" sz="32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cc00"/>
                </a:solidFill>
                <a:latin typeface="Garamond"/>
              </a:rPr>
              <a:t>	</a:t>
            </a:r>
            <a:r>
              <a:rPr b="0" lang="en-US" sz="2400" spc="-1" strike="noStrike">
                <a:solidFill>
                  <a:srgbClr val="ffcc00"/>
                </a:solidFill>
                <a:latin typeface="Garamond"/>
              </a:rPr>
              <a:t>	</a:t>
            </a:r>
            <a:endParaRPr b="0" lang="en-US" sz="2400" spc="-1" strike="noStrike">
              <a:solidFill>
                <a:srgbClr val="ffffff"/>
              </a:solidFill>
              <a:latin typeface="Garamond"/>
            </a:endParaRPr>
          </a:p>
          <a:p>
            <a:pPr marL="240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40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Failed Airway</a:t>
            </a:r>
            <a:endParaRPr b="1" lang="en-US" sz="4400" spc="-1" strike="noStrike">
              <a:solidFill>
                <a:srgbClr val="e5e5ff"/>
              </a:solidFill>
              <a:latin typeface="Garamond"/>
            </a:endParaRPr>
          </a:p>
        </p:txBody>
      </p:sp>
      <p:sp>
        <p:nvSpPr>
          <p:cNvPr id="229" name=""/>
          <p:cNvSpPr txBox="1"/>
          <p:nvPr/>
        </p:nvSpPr>
        <p:spPr>
          <a:xfrm>
            <a:off x="457200" y="1600200"/>
            <a:ext cx="8229600" cy="4525920"/>
          </a:xfrm>
          <a:prstGeom prst="rect">
            <a:avLst/>
          </a:prstGeom>
          <a:noFill/>
          <a:ln w="0">
            <a:noFill/>
          </a:ln>
        </p:spPr>
        <p:txBody>
          <a:bodyPr anchor="t">
            <a:normAutofit fontScale="78000"/>
          </a:bodyPr>
          <a:p>
            <a:pPr marL="267480" indent="-267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ability to intubate  patient after 3 attempts by an experienced provider or inability to BVM ventilate a patient.</a:t>
            </a:r>
            <a:endParaRPr b="0" lang="en-US" sz="3200" spc="-1" strike="noStrike">
              <a:solidFill>
                <a:srgbClr val="ffffff"/>
              </a:solidFill>
              <a:latin typeface="Garamond"/>
            </a:endParaRPr>
          </a:p>
          <a:p>
            <a:pPr marL="267480" indent="-267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ange method or technique on every attempt to intubate.</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muscle tone-can’t intubate awake, consider RSI</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position of patient- need SNIFF position</a:t>
            </a:r>
            <a:endParaRPr b="0" lang="en-US" sz="3200" spc="-1" strike="noStrike">
              <a:solidFill>
                <a:srgbClr val="ffffff"/>
              </a:solidFill>
              <a:latin typeface="Garamond"/>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B.U.R.P- backward, upward, rightward pressure</a:t>
            </a:r>
            <a:endParaRPr b="0" lang="en-US" sz="3200" spc="-1" strike="noStrike">
              <a:solidFill>
                <a:srgbClr val="ffffff"/>
              </a:solidFill>
              <a:latin typeface="Garamond"/>
            </a:endParaRPr>
          </a:p>
        </p:txBody>
      </p:sp>
      <p:sp>
        <p:nvSpPr>
          <p:cNvPr id="23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1E6D-925C-4269-A780-10D9DA517DF3}"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7AB4-B4D6-453E-9247-B155443529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Failed Airway</a:t>
            </a:r>
            <a:endParaRPr b="1" lang="en-US" sz="4400" spc="-1" strike="noStrike">
              <a:solidFill>
                <a:srgbClr val="e5e5ff"/>
              </a:solidFill>
              <a:latin typeface="Garamond"/>
            </a:endParaRPr>
          </a:p>
        </p:txBody>
      </p:sp>
      <p:sp>
        <p:nvSpPr>
          <p:cNvPr id="233" name=""/>
          <p:cNvSpPr txBox="1"/>
          <p:nvPr/>
        </p:nvSpPr>
        <p:spPr>
          <a:xfrm>
            <a:off x="457200" y="1600200"/>
            <a:ext cx="8229600" cy="4525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Change blade length or blade type.</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Change operator.</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Consider cricothyroidectomy – invasive</a:t>
            </a:r>
            <a:endParaRPr b="0" lang="en-US" sz="3200" spc="-1" strike="noStrike">
              <a:solidFill>
                <a:srgbClr val="ffffff"/>
              </a:solidFill>
              <a:latin typeface="Garamond"/>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Consider  LMA or other rescue airway device</a:t>
            </a:r>
            <a:endParaRPr b="0" lang="en-US" sz="3200" spc="-1" strike="noStrike">
              <a:solidFill>
                <a:srgbClr val="ffffff"/>
              </a:solidFill>
              <a:latin typeface="Garamond"/>
            </a:endParaRPr>
          </a:p>
        </p:txBody>
      </p:sp>
      <p:sp>
        <p:nvSpPr>
          <p:cNvPr id="23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4107-BF25-4DB2-B950-9F6CCC683104}"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3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40B4-8768-4541-9AF5-4DE57BE4BC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4E22-61B8-4105-8BDE-24047569060A}"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3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0CB4-0282-48DE-9111-951166EAF3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ryngeal Mask Airway</a:t>
            </a:r>
            <a:endParaRPr b="1" lang="en-US" sz="4400" spc="-1" strike="noStrike">
              <a:solidFill>
                <a:srgbClr val="e5e5ff"/>
              </a:solidFill>
              <a:latin typeface="Garamond"/>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A. LMA</a:t>
            </a:r>
            <a:r>
              <a:rPr b="0" lang="en-US" sz="3200" spc="-1" strike="noStrike">
                <a:solidFill>
                  <a:srgbClr val="ffffff"/>
                </a:solidFill>
                <a:latin typeface="Garamond"/>
              </a:rPr>
              <a:t>- consists of a oval shaped, tan colored, silicone mask with an inflatable rim, connected to a tube that allows ventilation.  The tube is blindly inserted into the pharynx then inflated, providing a seal that permits ventilation of the trachea with minimal gastric insufflation.  </a:t>
            </a:r>
            <a:endParaRPr b="0" lang="en-US" sz="32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4224-B6BE-4F03-8660-69FB65C372E7}"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24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18BB-62DB-4E14-A3E6-15E2EED67B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 Complications- </a:t>
            </a:r>
            <a:r>
              <a:rPr b="0" lang="en-US" sz="3200" spc="-1" strike="noStrike">
                <a:solidFill>
                  <a:srgbClr val="ffffff"/>
                </a:solidFill>
                <a:latin typeface="Garamond"/>
              </a:rPr>
              <a:t>with a ETT there is a cuff that is insufflated to prevent aspiration.  A LMA has no cuff and so the patient is at risk of aspiration.  A LMA still can be used as a bridging device until a definitive airway can be established.</a:t>
            </a:r>
            <a:endParaRPr b="0" lang="en-US" sz="32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Failure of ventilation or oxygenation</a:t>
            </a:r>
            <a:endParaRPr b="1" lang="en-US" sz="4000" spc="-1" strike="noStrike">
              <a:solidFill>
                <a:srgbClr val="e5e5ff"/>
              </a:solidFill>
              <a:latin typeface="Garamond"/>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PD, Asthma, Pneumonia, CHF or systemic cause such as drug overdose, septic shock, or neuromuscular disease.</a:t>
            </a:r>
            <a:endParaRPr b="0" lang="en-US" sz="3200" spc="-1" strike="noStrike">
              <a:solidFill>
                <a:srgbClr val="ffffff"/>
              </a:solidFill>
              <a:latin typeface="Garamond"/>
            </a:endParaRPr>
          </a:p>
        </p:txBody>
      </p:sp>
      <p:sp>
        <p:nvSpPr>
          <p:cNvPr id="12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FF2A-D68E-4D23-9111-0E0BC6DAB9EC}"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2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6BB4-0FAA-4FE2-B4B6-327345EA98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930B-4AA4-4C35-987D-39FC5F8E56CE}"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2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1826-16EA-4C18-B8EB-23B7434DC2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6" name="PlaceHolder 1"/>
          <p:cNvSpPr>
            <a:spLocks noGrp="1"/>
          </p:cNvSpPr>
          <p:nvPr>
            <p:ph type="title"/>
          </p:nvPr>
        </p:nvSpPr>
        <p:spPr>
          <a:xfrm>
            <a:off x="45720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127" name="PlaceHolder 2"/>
          <p:cNvSpPr>
            <a:spLocks noGrp="1"/>
          </p:cNvSpPr>
          <p:nvPr>
            <p:ph/>
          </p:nvPr>
        </p:nvSpPr>
        <p:spPr>
          <a:xfrm>
            <a:off x="468360" y="620280"/>
            <a:ext cx="8229600" cy="550548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When a condition is present or a therapy is required that mandates intubatio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ven in the absence of airway, ventilatory, or oxygenation failure.  Examples include Status Epilepticus, severe head injury, certain overdoses and penetrating neck trauma.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dentifying the Difficult Airway:</a:t>
            </a:r>
            <a:br>
              <a:rPr sz="4400"/>
            </a:br>
            <a:r>
              <a:rPr b="1" lang="en-US" sz="4400" spc="-1" strike="noStrike">
                <a:solidFill>
                  <a:srgbClr val="e5e5ff"/>
                </a:solidFill>
                <a:latin typeface="Garamond"/>
              </a:rPr>
              <a:t>LEMON  Law</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  look externall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  evaluate 3:3:2 rule (mouth open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  mallampati sco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  obstruc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  neck mobility</a:t>
            </a:r>
            <a:endParaRPr b="0" lang="en-US" sz="3200" spc="-1" strike="noStrike">
              <a:solidFill>
                <a:srgbClr val="ffffff"/>
              </a:solidFill>
              <a:latin typeface="Garamond"/>
            </a:endParaRPr>
          </a:p>
        </p:txBody>
      </p:sp>
      <p:sp>
        <p:nvSpPr>
          <p:cNvPr id="13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7749A-0831-45BE-8A24-D47CB70C43A7}"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7633-2051-4AFA-A4C8-FAC835B9AA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A781-CA6A-4865-BAD9-6D4ACD0515CF}"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3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7DD68-5683-4682-81EA-4C7C661101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L</a:t>
            </a:r>
            <a:r>
              <a:rPr b="1" lang="en-US" sz="4400" spc="-1" strike="noStrike">
                <a:solidFill>
                  <a:srgbClr val="ffffff"/>
                </a:solidFill>
                <a:latin typeface="Garamond"/>
              </a:rPr>
              <a:t>ook</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Short neck, Buck teeth, Receding mandible, Limited jaw opening-</a:t>
            </a:r>
            <a:r>
              <a:rPr b="0" lang="en-US" sz="3200" spc="-1" strike="noStrike">
                <a:solidFill>
                  <a:srgbClr val="ffffff"/>
                </a:solidFill>
                <a:latin typeface="Garamond"/>
              </a:rPr>
              <a:t> make it more difficult to align the oropharynx and larynx during laryngoscopy and see the chord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Beard-</a:t>
            </a:r>
            <a:r>
              <a:rPr b="0" lang="en-US" sz="3200" spc="-1" strike="noStrike">
                <a:solidFill>
                  <a:srgbClr val="ffffff"/>
                </a:solidFill>
                <a:latin typeface="Garamond"/>
              </a:rPr>
              <a:t> dentures or any materiel on the face make it</a:t>
            </a:r>
            <a:r>
              <a:rPr b="0" lang="en-US" sz="3200" spc="-1" strike="noStrike">
                <a:solidFill>
                  <a:srgbClr val="ffcc00"/>
                </a:solidFill>
                <a:latin typeface="Garamond"/>
              </a:rPr>
              <a:t> </a:t>
            </a:r>
            <a:r>
              <a:rPr b="0" lang="en-US" sz="3200" spc="-1" strike="noStrike">
                <a:solidFill>
                  <a:srgbClr val="ffffff"/>
                </a:solidFill>
                <a:latin typeface="Garamond"/>
              </a:rPr>
              <a:t>difficult to get a bag-valve mask seal if intubation is not successful.</a:t>
            </a:r>
            <a:endParaRPr b="0" lang="en-US" sz="32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4866-FA07-444C-A5C3-130D13DD0D9A}"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3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C46E-96D5-4D61-8773-06B7D0EE84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L</a:t>
            </a:r>
            <a:r>
              <a:rPr b="1" lang="en-US" sz="4400" spc="-1" strike="noStrike">
                <a:solidFill>
                  <a:srgbClr val="ffffff"/>
                </a:solidFill>
                <a:latin typeface="Garamond"/>
              </a:rPr>
              <a:t>ook</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Children-</a:t>
            </a:r>
            <a:r>
              <a:rPr b="0" lang="en-US" sz="3200" spc="-1" strike="noStrike">
                <a:solidFill>
                  <a:srgbClr val="ffffff"/>
                </a:solidFill>
                <a:latin typeface="Garamond"/>
              </a:rPr>
              <a:t> </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cciput is larger and larynx is higher in the  neck so the vocal chords are more anterior.</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piglottis is high and very soft and thus easier to obstruct vision of the chords.</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irway is very short thus making it easier to intubate the bronchus.</a:t>
            </a:r>
            <a:endParaRPr b="0" lang="en-US" sz="32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Garamond"/>
              </a:rPr>
              <a:t>E</a:t>
            </a:r>
            <a:r>
              <a:rPr b="1" lang="en-US" sz="4400" spc="-1" strike="noStrike">
                <a:solidFill>
                  <a:srgbClr val="ffffff"/>
                </a:solidFill>
                <a:latin typeface="Garamond"/>
              </a:rPr>
              <a:t>xternal</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3-3-2 technique-</a:t>
            </a:r>
            <a:r>
              <a:rPr b="0" lang="en-US" sz="3200" spc="-1" strike="noStrike">
                <a:solidFill>
                  <a:srgbClr val="ffffff"/>
                </a:solidFill>
                <a:latin typeface="Garamond"/>
              </a:rPr>
              <a:t> assesses geometric relationships of airway.</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ability to open mouth ( </a:t>
            </a:r>
            <a:r>
              <a:rPr b="0" lang="en-US" sz="3200" spc="-1" strike="noStrike">
                <a:solidFill>
                  <a:srgbClr val="ffc000"/>
                </a:solidFill>
                <a:latin typeface="Garamond"/>
              </a:rPr>
              <a:t>3 </a:t>
            </a:r>
            <a:r>
              <a:rPr b="0" lang="en-US" sz="3200" spc="-1" strike="noStrike">
                <a:solidFill>
                  <a:srgbClr val="ffffff"/>
                </a:solidFill>
                <a:latin typeface="Garamond"/>
              </a:rPr>
              <a:t>fingers should fit in patients mouth)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adequacy of chin ( </a:t>
            </a:r>
            <a:r>
              <a:rPr b="0" lang="en-US" sz="3200" spc="-1" strike="noStrike">
                <a:solidFill>
                  <a:srgbClr val="ffc000"/>
                </a:solidFill>
                <a:latin typeface="Garamond"/>
              </a:rPr>
              <a:t>3 </a:t>
            </a:r>
            <a:r>
              <a:rPr b="0" lang="en-US" sz="3200" spc="-1" strike="noStrike">
                <a:solidFill>
                  <a:srgbClr val="ffffff"/>
                </a:solidFill>
                <a:latin typeface="Garamond"/>
              </a:rPr>
              <a:t> fingers should fit between mentum and hyoid bone ) </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location of larynx ( </a:t>
            </a:r>
            <a:r>
              <a:rPr b="0" lang="en-US" sz="3200" spc="-1" strike="noStrike">
                <a:solidFill>
                  <a:srgbClr val="ffc000"/>
                </a:solidFill>
                <a:latin typeface="Garamond"/>
              </a:rPr>
              <a:t>2 </a:t>
            </a:r>
            <a:r>
              <a:rPr b="0" lang="en-US" sz="3200" spc="-1" strike="noStrike">
                <a:solidFill>
                  <a:srgbClr val="ffffff"/>
                </a:solidFill>
                <a:latin typeface="Garamond"/>
              </a:rPr>
              <a:t> fingers should fit between thyroid notch and floor of mouth).  </a:t>
            </a:r>
            <a:endParaRPr b="0" lang="en-US" sz="3200" spc="-1" strike="noStrike">
              <a:solidFill>
                <a:srgbClr val="ffffff"/>
              </a:solidFill>
              <a:latin typeface="Garamond"/>
            </a:endParaRPr>
          </a:p>
        </p:txBody>
      </p:sp>
      <p:sp>
        <p:nvSpPr>
          <p:cNvPr id="14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3962-CB07-48B2-AAEC-42B90F8EB70B}" type="datetime">
              <a:rPr b="0" lang="en-US" sz="1200" spc="-1" strike="noStrike">
                <a:solidFill>
                  <a:srgbClr val="ffffff"/>
                </a:solidFill>
                <a:latin typeface="Arial"/>
              </a:rPr>
              <a:t>07/29/26</a:t>
            </a:fld>
            <a:endParaRPr b="0" lang="en-US" sz="1200" spc="-1" strike="noStrike">
              <a:solidFill>
                <a:srgbClr val="ffffff"/>
              </a:solidFill>
              <a:latin typeface="Arial"/>
            </a:endParaRPr>
          </a:p>
        </p:txBody>
      </p:sp>
      <p:sp>
        <p:nvSpPr>
          <p:cNvPr id="14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0601-031F-4AF4-AF4B-EAFF8E597F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6T04:12:03Z</dcterms:created>
  <dc:creator> </dc:creator>
  <dc:description/>
  <dc:language>en-US</dc:language>
  <cp:lastModifiedBy>Steinhart Rachel</cp:lastModifiedBy>
  <cp:lastPrinted>2009-04-22T19:24:48Z</cp:lastPrinted>
  <dcterms:modified xsi:type="dcterms:W3CDTF">2008-12-30T05:14:03Z</dcterms:modified>
  <cp:revision>52</cp:revision>
  <dc:subject/>
  <dc:title>Emergency Department Airway Management Presented by Neil Jayasekera, M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