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BD42-DA41-43DC-8781-57895F692970}" type="slidenum">
              <a:rPr b="0" lang="en-CA"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SA was developed to help identify patients at risk of developing complications as a result of undergoing general anesth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No formal support by emergency medicine associations; Supported by the American society of anestheologis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guidelines go on to say that for ASA III-IV patients, anesthesia should be consulted and OR management should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status was not addressed in the American guideli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addition, the ASA indicates that there is no role for the use of antacids and gastric motility agents to prevent aspiration during elective GA in healthy patients.  The ACEP guidelines apply this recommendation to ED PSA patients, while the Cdn guidelines recommend their use in patients who do not meet NPO criter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een proposes a number of reasons why the the ASA guidelines should not be generalized to ED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piration is most likely to occur during airway manipulation – this should not be happening during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SA is typically performed in younger patients.  The risk of aspiration is higher in older pati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st agents used during PSA are not pro-emetic, unlike the gases which are commonly used in the 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deally, PSA should be in the range of moderate sedation with intact airway reflex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use of dissociative amnestics (ketamine) theoretically reduces the risk of aspiration because airway reflexes are “inta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ctual half-life of propofol is 4-7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earance is independent of renal or liver function and is not affected by renal or hepatic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is one arm-brain circulation with peak affect at 90-100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ti-emetic propert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ymington and Thakore conducted a review of the safety of using propofol for procedural sedation in the ED and concluded that while the rate of “minor” adverse events (including transient hypoxia) was similar to other agents, the drug was overall very safe and offered advantages over othe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oses &gt; 5 mcg/kg bolused rapidly are required to cause chest wall rigidity.  Rigidity is managed with paralysis or reversal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y cause coughing in 50% of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ak effect in 2-3 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rdiology study using high dose fentanyl for cardiac surgery – patients were hemodynamically stable and pain fre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with caution in patients with renal failure b/c of potential buildup of metaboli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bolite (norketamine) has 20-30% less activity than ketam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within 30 s of administration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tribution half life is 11-16 minutes (two compartment metabolis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mergence reaction: Anxiety, nightmares, hallucinations &amp; delirium while waking up</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tamine is extensively used in developing countries with great su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idence for benzos is debateable – several peds trials show no benefit.  Anecdotally, some people will wait for signs of emergence before giving midazolam while others give it with ketamine.  Two trials from the 70’s show a reduction in the incidence of emergence reactions when adult patients were pretreated with midazo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veral authors pointed out that this dose of midazolam may be higher than required to prevent emergency reac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binations of propofol + fentanyl, fentanyl + midazolam etc lead to synergistic effects on the cardiovascular system.  This results in greater than expected amounts of hypotension, which is tolerated in the young health individual, but may be problematic in someone with less reser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dazolam may decrease the rate of ketamine metabolism, resulting in greater duration of sed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Joint Commission of Accreditation of Healthcare Organizations – Definitions of Levels of Se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nimal sedation: normal response to verbal commands.  Ventillatory &amp; CV function unaff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derate sedation: pt responds to verbal commons +/- light tactile stimulus.  No interventions required to maintain airway.  Spont resp.  CV function maintai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ep sedation: pt cannot be aroused, but responds purposefully to repeated or painful stimulation.  May require assistance maintaining a patent airway.  Spont vent may be inadequ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eneral anaesthesia: Pt is unarousable.  Patient typically requires assistance maintaining an airway +/- PPV.</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evidence to draw conclusions re other combinations (IV vs regiona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ter-observer reli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05AC9-34D9-429F-9CD6-1FFF37C9F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03BE5-F1A5-43D9-90E2-53585FAF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A3E58-4BFC-4D70-9EF0-272B79C2E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B700D-B394-4A81-B0DC-016CE8E99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DBC1A-43F5-4134-A0E6-E57BF5C14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4882-456D-486F-905F-486B8E3F7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59FA5-A8B6-487B-BFE0-52856C4BC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239CF-BBEB-43FD-9B05-BE3CB4401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87171-B288-4E7B-B621-C4F56535D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6FE3-5393-4FC7-96A6-2FD1A01F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CF6C7-8B3D-4A02-996B-71C0012C3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246C-9AE0-4165-B549-EC280114A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53A9-E91D-4068-903F-215F2C26D9B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javascript:AL_get(this,%20&apos;jour&apos;,%20&apos;Ann%20Emerg%20Med.&apos;);" TargetMode="External"/><Relationship Id="rId2" Type="http://schemas.openxmlformats.org/officeDocument/2006/relationships/hyperlink" Target="javascript:AL_get(this,%20&apos;jour&apos;,%20&apos;Ann%20Emerg%20Med.&apos;);" TargetMode="External"/><Relationship Id="rId3" Type="http://schemas.openxmlformats.org/officeDocument/2006/relationships/hyperlink" Target="javascript:AL_get(this,%20&apos;jour&apos;,%20&apos;Ann%20Emerg%20Med.&apos;);" TargetMode="External"/><Relationship Id="rId4" Type="http://schemas.openxmlformats.org/officeDocument/2006/relationships/hyperlink" Target="javascript:AL_get(this,%20&apos;jour&apos;,%20&apos;Ann%20Emerg%20Med.&apos;);" TargetMode="External"/><Relationship Id="rId5" Type="http://schemas.openxmlformats.org/officeDocument/2006/relationships/hyperlink" Target="javascript:AL_get(this,%20&apos;jour&apos;,%20&apos;Am%20J%20Emerg%20Med.&apos;);" TargetMode="External"/><Relationship Id="rId6" Type="http://schemas.openxmlformats.org/officeDocument/2006/relationships/hyperlink" Target="javascript:AL_get(this,%20&apos;jour&apos;,%20&apos;Am%20J%20Emerg%20Med.&apos;);" TargetMode="External"/><Relationship Id="rId7" Type="http://schemas.openxmlformats.org/officeDocument/2006/relationships/hyperlink" Target="javascript:AL_get(this,%20&apos;jour&apos;,%20&apos;Am%20J%20Emerg%20Med.&apos;);" TargetMode="External"/><Relationship Id="rId8" Type="http://schemas.openxmlformats.org/officeDocument/2006/relationships/hyperlink" Target="javascript:AL_get(this,%20&apos;jour&apos;,%20&apos;Am%20J%20Emerg%20Med.&apos;);" TargetMode="External"/><Relationship Id="rId9" Type="http://schemas.openxmlformats.org/officeDocument/2006/relationships/hyperlink" Target="javascript:AL_get(this,%20&apos;jour&apos;,%20&apos;Am%20J%20Emerg%20Med.&apos;);" TargetMode="External"/><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660320"/>
            <a:ext cx="853416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ocedural Sedation &amp; Analgesia in the Emergency Department</a:t>
            </a:r>
            <a:endParaRPr b="0" lang="en-US" sz="3700" spc="-1" strike="noStrike">
              <a:solidFill>
                <a:srgbClr val="ffffff"/>
              </a:solidFill>
              <a:latin typeface="Arial"/>
            </a:endParaRPr>
          </a:p>
        </p:txBody>
      </p:sp>
      <p:sp>
        <p:nvSpPr>
          <p:cNvPr id="49" name="PlaceHolder 2"/>
          <p:cNvSpPr>
            <a:spLocks noGrp="1"/>
          </p:cNvSpPr>
          <p:nvPr>
            <p:ph type="subTitle"/>
          </p:nvPr>
        </p:nvSpPr>
        <p:spPr>
          <a:xfrm>
            <a:off x="1371600" y="3886200"/>
            <a:ext cx="6400800" cy="1471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17680" y="333000"/>
            <a:ext cx="859608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It’s only a little chest pain”</a:t>
            </a:r>
            <a:br>
              <a:rPr sz="4800"/>
            </a:br>
            <a:r>
              <a:rPr b="0" lang="en-US" sz="4400" spc="-1" strike="noStrike">
                <a:solidFill>
                  <a:srgbClr val="ffffff"/>
                </a:solidFill>
                <a:latin typeface="Arial"/>
              </a:rPr>
              <a:t>ASA Scores &amp; PSA</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79884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ASA classification is not validated outside of the O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lviya et al showed an increased risk of adverse sedation-related events in paediatric patients with an ASA &gt; 2.</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 the guidelines say…</a:t>
            </a: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atient’s ASA status should be determined.  For non-emergent procedures, ED sedation and analgesia should be limited to ASA class 1 or 2 patients.”</a:t>
            </a:r>
            <a:endParaRPr b="0" lang="en-US" sz="32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B, Level III</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al sedation and analgesia in the emergency department  </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dian Consensus Guidelin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way Assessment</a:t>
            </a: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b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intubate?</a:t>
            </a:r>
            <a:endParaRPr b="0" lang="en-US" sz="3200" spc="-1" strike="noStrike">
              <a:solidFill>
                <a:srgbClr val="ffffff"/>
              </a:solidFill>
              <a:latin typeface="Arial"/>
            </a:endParaRPr>
          </a:p>
        </p:txBody>
      </p:sp>
      <p:pic>
        <p:nvPicPr>
          <p:cNvPr id="76" name="" descr="">
            <a:hlinkClick r:id="rId1" action="ppaction://hlinksldjump"/>
          </p:cNvPr>
          <p:cNvPicPr/>
          <p:nvPr/>
        </p:nvPicPr>
        <p:blipFill>
          <a:blip r:embed="rId2"/>
          <a:stretch/>
        </p:blipFill>
        <p:spPr>
          <a:xfrm>
            <a:off x="5351400" y="3886200"/>
            <a:ext cx="173196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936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edictors of Difficult BVM Ventilation</a:t>
            </a:r>
            <a:endParaRPr b="0" lang="en-US" sz="37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ge &gt; 55 y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thl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res</a:t>
            </a:r>
            <a:endParaRPr b="0" lang="en-US" sz="3200" spc="-1" strike="noStrike">
              <a:solidFill>
                <a:srgbClr val="ffffff"/>
              </a:solidFill>
              <a:latin typeface="Arial"/>
            </a:endParaRPr>
          </a:p>
        </p:txBody>
      </p:sp>
      <p:sp>
        <p:nvSpPr>
          <p:cNvPr id="79" name=""/>
          <p:cNvSpPr/>
          <p:nvPr/>
        </p:nvSpPr>
        <p:spPr>
          <a:xfrm>
            <a:off x="1066680" y="586728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Langeron O, Masso E, Huraux C, et al. Prediction of difficult mask ventilation. Anesthesiology.  2000; 92:1229-36.</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1" lang="en-US" sz="4400" spc="-1" strike="noStrike">
                <a:solidFill>
                  <a:srgbClr val="99cc00"/>
                </a:solidFill>
                <a:latin typeface="Arial"/>
              </a:rPr>
              <a:t>LEMON</a:t>
            </a:r>
            <a:r>
              <a:rPr b="0" lang="en-US" sz="4400" spc="-1" strike="noStrike">
                <a:solidFill>
                  <a:srgbClr val="ffffff"/>
                </a:solidFill>
                <a:latin typeface="Arial"/>
              </a:rPr>
              <a:t> Method of Airway Assessment</a:t>
            </a:r>
            <a:endParaRPr b="0" lang="en-US" sz="4400" spc="-1" strike="noStrike">
              <a:solidFill>
                <a:srgbClr val="ffffff"/>
              </a:solidFill>
              <a:latin typeface="Arial"/>
            </a:endParaRPr>
          </a:p>
        </p:txBody>
      </p:sp>
      <p:sp>
        <p:nvSpPr>
          <p:cNvPr id="81" name="PlaceHolder 2"/>
          <p:cNvSpPr>
            <a:spLocks noGrp="1"/>
          </p:cNvSpPr>
          <p:nvPr>
            <p:ph/>
          </p:nvPr>
        </p:nvSpPr>
        <p:spPr>
          <a:xfrm>
            <a:off x="456840" y="1600200"/>
            <a:ext cx="758340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L</a:t>
            </a:r>
            <a:r>
              <a:rPr b="0" lang="en-CA" sz="2400" spc="-1" strike="noStrike">
                <a:solidFill>
                  <a:srgbClr val="ffffff"/>
                </a:solidFill>
                <a:latin typeface="Arial"/>
              </a:rPr>
              <a:t>ook for external characteristics known to causes problems with BVM or intubation.</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E</a:t>
            </a:r>
            <a:r>
              <a:rPr b="0" lang="en-CA" sz="2400" spc="-1" strike="noStrike">
                <a:solidFill>
                  <a:srgbClr val="ffffff"/>
                </a:solidFill>
                <a:latin typeface="Arial"/>
              </a:rPr>
              <a:t>valuate the 3-3-1 Ru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outh opening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yoid – chin distance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nterior low jaw subluxation &gt; 1 finger</a:t>
            </a:r>
            <a:endParaRPr b="0" lang="en-US" sz="20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M</a:t>
            </a:r>
            <a:r>
              <a:rPr b="0" lang="en-CA" sz="2400" spc="-1" strike="noStrike">
                <a:solidFill>
                  <a:srgbClr val="ffffff"/>
                </a:solidFill>
                <a:latin typeface="Arial"/>
              </a:rPr>
              <a:t>allampati Score</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O</a:t>
            </a:r>
            <a:r>
              <a:rPr b="0" lang="en-CA" sz="2400" spc="-1" strike="noStrike">
                <a:solidFill>
                  <a:srgbClr val="ffffff"/>
                </a:solidFill>
                <a:latin typeface="Arial"/>
              </a:rPr>
              <a:t>bstruction – any pathology within or surrounding the upper airway</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N</a:t>
            </a:r>
            <a:r>
              <a:rPr b="0" lang="en-CA" sz="2400" spc="-1" strike="noStrike">
                <a:solidFill>
                  <a:srgbClr val="ffffff"/>
                </a:solidFill>
                <a:latin typeface="Arial"/>
              </a:rPr>
              <a:t>eck Mobility - full flexion &amp; extension</a:t>
            </a:r>
            <a:endParaRPr b="0" lang="en-US" sz="2400" spc="-1" strike="noStrike">
              <a:solidFill>
                <a:srgbClr val="ffffff"/>
              </a:solidFill>
              <a:latin typeface="Arial"/>
            </a:endParaRPr>
          </a:p>
        </p:txBody>
      </p:sp>
      <p:pic>
        <p:nvPicPr>
          <p:cNvPr id="82" name="" descr="">
            <a:hlinkClick r:id="rId1" action="ppaction://hlinksldjump"/>
          </p:cNvPr>
          <p:cNvPicPr/>
          <p:nvPr/>
        </p:nvPicPr>
        <p:blipFill>
          <a:blip r:embed="rId2"/>
          <a:stretch/>
        </p:blipFill>
        <p:spPr>
          <a:xfrm>
            <a:off x="7772400" y="5410080"/>
            <a:ext cx="11304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17680" y="333000"/>
            <a:ext cx="859608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Last Supper</a:t>
            </a:r>
            <a:br>
              <a:rPr sz="2900"/>
            </a:br>
            <a:r>
              <a:rPr b="0" lang="en-US" sz="4500" spc="-1" strike="noStrike">
                <a:solidFill>
                  <a:srgbClr val="ffffff"/>
                </a:solidFill>
                <a:latin typeface="Arial"/>
              </a:rPr>
              <a:t>Fasting &amp; PSA</a:t>
            </a:r>
            <a:endParaRPr b="0" lang="en-US" sz="4500" spc="-1" strike="noStrike">
              <a:solidFill>
                <a:srgbClr val="ff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adian recommendations are based of American Society of Anaesthesiologists recommendations for healthy elective GA pati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 NPO for liqui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h NPO for solid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sk of aspiration during PSA is extremely 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evidence that fasting improves outcome during procedural sedation and analgesi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large paediatric study of ED procedural sedation showed no increase in the number of adverse events in patients that were not fas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24000"/>
            <a:ext cx="8229600" cy="104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lines for Pre-sedation Fasting</a:t>
            </a:r>
            <a:endParaRPr b="0" lang="en-US" sz="4000" spc="-1" strike="noStrike">
              <a:solidFill>
                <a:srgbClr val="ff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cent food intake is not a contraindication for administering procedural sedation and analgesia, but should be considered in choosing the timing and targeted level of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Evidence</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l policy: procedural sedation and analgesia in the emergency department</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EP Clinical Policies Committee on Procedural Sedation and Analgesia</a:t>
            </a:r>
            <a:endParaRPr b="0" lang="en-US" sz="12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procedure fasting decreases aspiration risk, though optimal fasting duration remains controversial… the practitioner should consider keeping the patient NPO for 2 h (liquids) or 6 h (solids) before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Level III</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dural sedation and analgesia in the emergency department  </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adian Consensus Guidelin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000" y="1142640"/>
            <a:ext cx="85960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The Perfect Drug</a:t>
            </a:r>
            <a:endParaRPr b="0" lang="en-US" sz="37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vides adequate sedation and analgesia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atient comfor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asy completion of the procedur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intains airway refle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hemo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respiratory function</a:t>
            </a:r>
            <a:endParaRPr b="0" lang="en-US" sz="3200" spc="-1" strike="noStrike">
              <a:solidFill>
                <a:srgbClr val="ffffff"/>
              </a:solidFill>
              <a:latin typeface="Arial"/>
            </a:endParaRPr>
          </a:p>
        </p:txBody>
      </p:sp>
      <p:pic>
        <p:nvPicPr>
          <p:cNvPr id="89" name="" descr=""/>
          <p:cNvPicPr/>
          <p:nvPr/>
        </p:nvPicPr>
        <p:blipFill>
          <a:blip r:embed="rId1">
            <a:biLevel thresh="50000"/>
          </a:blip>
          <a:srcRect l="8331" t="5002" r="11669" b="81256"/>
          <a:stretch/>
        </p:blipFill>
        <p:spPr>
          <a:xfrm>
            <a:off x="2666880" y="228600"/>
            <a:ext cx="365760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ly Used Agents</a:t>
            </a: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Ketam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idazol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tomi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we using?</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 is the most commonly used ag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 + midazolam is the next most comm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
          <p:cNvSpPr/>
          <p:nvPr/>
        </p:nvSpPr>
        <p:spPr>
          <a:xfrm>
            <a:off x="1203480" y="5029200"/>
            <a:ext cx="7407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1203480" y="5821200"/>
            <a:ext cx="694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Source: Articles in the March 2006 edition of CJEM by Campbell et al and Mensour et al regarding at PSA in the ED.</a:t>
            </a:r>
            <a:endParaRPr b="0" lang="en-US" sz="1600" spc="-1" strike="noStrike">
              <a:solidFill>
                <a:srgbClr val="ffffff"/>
              </a:solidFill>
              <a:latin typeface="Times New Roman"/>
            </a:endParaRPr>
          </a:p>
        </p:txBody>
      </p:sp>
      <p:pic>
        <p:nvPicPr>
          <p:cNvPr id="96" name="" descr=""/>
          <p:cNvPicPr/>
          <p:nvPr/>
        </p:nvPicPr>
        <p:blipFill>
          <a:blip r:embed="rId1"/>
          <a:stretch/>
        </p:blipFill>
        <p:spPr>
          <a:xfrm>
            <a:off x="7159680" y="380880"/>
            <a:ext cx="14508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current guide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commonly used ag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ly discuss alternatives to P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dative-Hypnotic</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2,6-diisopropofol, an alkylphenol oil in an emulsion</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tentiates GABA activit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0.5 - 1 mg/kg</a:t>
            </a:r>
            <a:endParaRPr b="0" lang="en-US" sz="2400" spc="-1" strike="noStrike">
              <a:solidFill>
                <a:srgbClr val="ffffff"/>
              </a:solidFill>
              <a:latin typeface="Arial"/>
            </a:endParaRPr>
          </a:p>
        </p:txBody>
      </p:sp>
      <p:pic>
        <p:nvPicPr>
          <p:cNvPr id="99" name="" descr=""/>
          <p:cNvPicPr/>
          <p:nvPr/>
        </p:nvPicPr>
        <p:blipFill>
          <a:blip r:embed="rId1"/>
          <a:stretch/>
        </p:blipFill>
        <p:spPr>
          <a:xfrm>
            <a:off x="7162920" y="457200"/>
            <a:ext cx="1225440" cy="12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Mild analgesic properties; euphoria</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yocardial depressant; vasodil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Antiemetic</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SK: Myoclonu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redistribu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and extrahepatic metabol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hown to be safe for ED PSA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nalges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yocardial depressant and vasodil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administered via special IV pum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algesic ag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ynthetic opioi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creases conduction along nociceptive pathways and increases activity in pain control pathways in the brai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1-2 mcg/k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uphoria (or dysphor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chest wall rigid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ay decrease H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Decreased motil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in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ood hemodynamic s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mnest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bradycard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chest wall rigidity in high do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nestic</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odiazepin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to benzodiazepine receptors which up-regulate GABA activ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 – 0.1 mg/kg I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Anxi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Slight decrease in PVR &amp; decreased contract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issociative Amnestic</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rivative of phencyclidine with some opioid properti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imulates the limbic system while inhibiting the thalamus &amp; cortex (dissoci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inds to NMDA and opioid recep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7200" y="228600"/>
            <a:ext cx="859644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7"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mergence reactions - nightmare/hallucination, Increase intracranial press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Increased contractility, HR and PVR through sympathetic stimulation.  Direct myocardial depressa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Laryngospasm, bronchodilation, increased secretions (bronchorrhea), virtually universal maintenance of airway reflex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Emesis is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not covered</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ediatric procedural sedation &amp; analge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
          <p:cNvSpPr/>
          <p:nvPr/>
        </p:nvSpPr>
        <p:spPr>
          <a:xfrm>
            <a:off x="6705720" y="2666880"/>
            <a:ext cx="1295280" cy="198144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p:nvPr>
        </p:nvSpPr>
        <p:spPr>
          <a:xfrm>
            <a:off x="457200" y="1752480"/>
            <a:ext cx="5562720" cy="4724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requency is reported to be anywhere from 10% to 20% in adults.</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procedural agitation is the best predictor of emergence reaction.</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administered benzodiazepine has NOT been found to reduce incidence in children but may do so in adul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nn</a:t>
            </a:r>
            <a:r>
              <a:rPr b="0" lang="en-US" sz="2000" spc="-1" strike="noStrike" u="sng">
                <a:solidFill>
                  <a:srgbClr val="009999"/>
                </a:solidFill>
                <a:uFillTx/>
                <a:latin typeface="Arial"/>
                <a:hlinkClick r:id="rId2"/>
              </a:rPr>
              <a:t> </a:t>
            </a:r>
            <a:r>
              <a:rPr b="0" lang="en-US" sz="2000" spc="-1" strike="noStrike" u="sng">
                <a:solidFill>
                  <a:srgbClr val="009999"/>
                </a:solidFill>
                <a:uFillTx/>
                <a:latin typeface="Arial"/>
                <a:hlinkClick r:id="rId3"/>
              </a:rPr>
              <a:t>Emerg </a:t>
            </a:r>
            <a:r>
              <a:rPr b="0" lang="en-US" sz="2000" spc="-1" strike="noStrike" u="sng">
                <a:solidFill>
                  <a:srgbClr val="009999"/>
                </a:solidFill>
                <a:uFillTx/>
                <a:latin typeface="Arial"/>
                <a:hlinkClick r:id="rId4"/>
              </a:rPr>
              <a:t>Med.</a:t>
            </a:r>
            <a:r>
              <a:rPr b="0" lang="en-US" sz="2000" spc="-1" strike="noStrike">
                <a:solidFill>
                  <a:srgbClr val="ffffff"/>
                </a:solidFill>
                <a:latin typeface="Arial"/>
              </a:rPr>
              <a:t> 2009 Aug;54(2):171-8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Am</a:t>
            </a:r>
            <a:r>
              <a:rPr b="0" lang="en-US" sz="2000" spc="-1" strike="noStrike" u="sng">
                <a:solidFill>
                  <a:srgbClr val="009999"/>
                </a:solidFill>
                <a:uFillTx/>
                <a:latin typeface="Arial"/>
                <a:hlinkClick r:id="rId6"/>
              </a:rPr>
              <a:t> </a:t>
            </a:r>
            <a:r>
              <a:rPr b="0" lang="en-US" sz="2000" spc="-1" strike="noStrike" u="sng">
                <a:solidFill>
                  <a:srgbClr val="009999"/>
                </a:solidFill>
                <a:uFillTx/>
                <a:latin typeface="Arial"/>
                <a:hlinkClick r:id="rId7"/>
              </a:rPr>
              <a:t>J </a:t>
            </a:r>
            <a:r>
              <a:rPr b="0" lang="en-US" sz="2000" spc="-1" strike="noStrike" u="sng">
                <a:solidFill>
                  <a:srgbClr val="009999"/>
                </a:solidFill>
                <a:uFillTx/>
                <a:latin typeface="Arial"/>
                <a:hlinkClick r:id="rId8"/>
              </a:rPr>
              <a:t>Emerg </a:t>
            </a:r>
            <a:r>
              <a:rPr b="0" lang="en-US" sz="2000" spc="-1" strike="noStrike" u="sng">
                <a:solidFill>
                  <a:srgbClr val="009999"/>
                </a:solidFill>
                <a:uFillTx/>
                <a:latin typeface="Arial"/>
                <a:hlinkClick r:id="rId9"/>
              </a:rPr>
              <a:t>Med.</a:t>
            </a:r>
            <a:r>
              <a:rPr b="0" lang="en-US" sz="2000" spc="-1" strike="noStrike">
                <a:solidFill>
                  <a:srgbClr val="ffffff"/>
                </a:solidFill>
                <a:latin typeface="Arial"/>
              </a:rPr>
              <a:t> 2008 Nov;26(9):985-1028.</a:t>
            </a:r>
            <a:endParaRPr b="0" lang="en-US" sz="2000" spc="-1" strike="noStrike">
              <a:solidFill>
                <a:srgbClr val="ffffff"/>
              </a:solidFill>
              <a:latin typeface="Arial"/>
            </a:endParaRPr>
          </a:p>
        </p:txBody>
      </p:sp>
      <p:pic>
        <p:nvPicPr>
          <p:cNvPr id="120" name="" descr=""/>
          <p:cNvPicPr/>
          <p:nvPr/>
        </p:nvPicPr>
        <p:blipFill>
          <a:blip r:embed="rId10"/>
          <a:stretch/>
        </p:blipFill>
        <p:spPr>
          <a:xfrm>
            <a:off x="6400800" y="2057400"/>
            <a:ext cx="2577960" cy="3429000"/>
          </a:xfrm>
          <a:prstGeom prst="rect">
            <a:avLst/>
          </a:prstGeom>
          <a:ln w="0">
            <a:noFill/>
          </a:ln>
        </p:spPr>
      </p:pic>
      <p:sp>
        <p:nvSpPr>
          <p:cNvPr id="121" name="PlaceHolder 2"/>
          <p:cNvSpPr>
            <a:spLocks noGrp="1"/>
          </p:cNvSpPr>
          <p:nvPr>
            <p:ph type="title"/>
          </p:nvPr>
        </p:nvSpPr>
        <p:spPr>
          <a:xfrm>
            <a:off x="517680" y="417600"/>
            <a:ext cx="85960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won’t it give him nightmares?</a:t>
            </a:r>
            <a:br>
              <a:rPr sz="3700"/>
            </a:br>
            <a:r>
              <a:rPr b="0" lang="en-US" sz="4000" spc="-1" strike="noStrike">
                <a:solidFill>
                  <a:srgbClr val="ffffff"/>
                </a:solidFill>
                <a:latin typeface="Arial"/>
              </a:rPr>
              <a:t>Ketamine &amp; Emergence </a:t>
            </a:r>
            <a:r>
              <a:rPr b="0" lang="en-US" sz="4000" spc="-1" strike="noStrike">
                <a:solidFill>
                  <a:srgbClr val="ffffff"/>
                </a:solidFill>
                <a:latin typeface="Arial"/>
              </a:rPr>
              <a:t>Rea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7680" y="487440"/>
            <a:ext cx="859608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The Bottom Line</a:t>
            </a:r>
            <a:endParaRPr b="0" lang="en-US" sz="5300" spc="-1" strike="noStrike">
              <a:solidFill>
                <a:srgbClr val="ffffff"/>
              </a:solidFill>
              <a:latin typeface="Arial"/>
            </a:endParaRPr>
          </a:p>
        </p:txBody>
      </p:sp>
      <p:sp>
        <p:nvSpPr>
          <p:cNvPr id="12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can be useful for adult PSA in the 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traindications for use in PSA:</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schemic heart disea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longed stress respon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orly controlled hypertens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ent respiratory tract infec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istory of psychotic illnes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ssible intracranial or ocular injur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co-administration of midazolam to decrease the risk of emergence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anti-emetic to reduce vomiting.</a:t>
            </a:r>
            <a:endParaRPr b="0" lang="en-US" sz="2800" spc="-1" strike="noStrike">
              <a:solidFill>
                <a:srgbClr val="ffffff"/>
              </a:solidFill>
              <a:latin typeface="Arial"/>
            </a:endParaRPr>
          </a:p>
        </p:txBody>
      </p:sp>
      <p:sp>
        <p:nvSpPr>
          <p:cNvPr id="124" name=""/>
          <p:cNvSpPr/>
          <p:nvPr/>
        </p:nvSpPr>
        <p:spPr>
          <a:xfrm>
            <a:off x="1127160" y="6019920"/>
            <a:ext cx="7711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reen, SM and Li J.  “Ketamine in Adults: What Emergency Physicians Need to Know about Patient Selection and Emergence Reactions”  Academic Emergency Medicine. 2000.  7:278-28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do you ne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2 mg/kg IV,  3-4 mg/kg I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midazol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3-5 mg given at the time of ketamine inj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x &amp; Match</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mmonly used combin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entanyl + Midazol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Midazolam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 Midazol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340920"/>
            <a:ext cx="859608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ow low should you go?</a:t>
            </a:r>
            <a:br>
              <a:rPr sz="2900"/>
            </a:br>
            <a:r>
              <a:rPr b="0" lang="en-US" sz="4400" spc="-1" strike="noStrike">
                <a:solidFill>
                  <a:srgbClr val="ffffff"/>
                </a:solidFill>
                <a:latin typeface="Arial"/>
              </a:rPr>
              <a:t>Depth of Procedural Sedation</a:t>
            </a:r>
            <a:endParaRPr b="0" lang="en-US" sz="4400" spc="-1" strike="noStrike">
              <a:solidFill>
                <a:srgbClr val="ffffff"/>
              </a:solidFill>
              <a:latin typeface="Arial"/>
            </a:endParaRPr>
          </a:p>
        </p:txBody>
      </p:sp>
      <p:grpSp>
        <p:nvGrpSpPr>
          <p:cNvPr id="130" name=""/>
          <p:cNvGrpSpPr/>
          <p:nvPr/>
        </p:nvGrpSpPr>
        <p:grpSpPr>
          <a:xfrm>
            <a:off x="2249640" y="2266920"/>
            <a:ext cx="5370480" cy="4273560"/>
            <a:chOff x="2249640" y="2266920"/>
            <a:chExt cx="5370480" cy="4273560"/>
          </a:xfrm>
        </p:grpSpPr>
        <p:pic>
          <p:nvPicPr>
            <p:cNvPr id="131" name="" descr=""/>
            <p:cNvPicPr/>
            <p:nvPr/>
          </p:nvPicPr>
          <p:blipFill>
            <a:blip r:embed="rId1"/>
            <a:stretch/>
          </p:blipFill>
          <p:spPr>
            <a:xfrm>
              <a:off x="2249640" y="2266920"/>
              <a:ext cx="5370480" cy="4273560"/>
            </a:xfrm>
            <a:prstGeom prst="rect">
              <a:avLst/>
            </a:prstGeom>
            <a:ln w="0">
              <a:noFill/>
            </a:ln>
          </p:spPr>
        </p:pic>
        <p:sp>
          <p:nvSpPr>
            <p:cNvPr id="132" name=""/>
            <p:cNvSpPr/>
            <p:nvPr/>
          </p:nvSpPr>
          <p:spPr>
            <a:xfrm>
              <a:off x="4091040" y="496584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431800" y="3241800"/>
              <a:ext cx="415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Minimal Sedation (Anxiolysis)</a:t>
              </a:r>
              <a:endParaRPr b="0" lang="en-US" sz="1800" spc="-1" strike="noStrike">
                <a:solidFill>
                  <a:srgbClr val="ffffff"/>
                </a:solidFill>
                <a:latin typeface="Times New Roman"/>
              </a:endParaRPr>
            </a:p>
          </p:txBody>
        </p:sp>
        <p:sp>
          <p:nvSpPr>
            <p:cNvPr id="134" name=""/>
            <p:cNvSpPr/>
            <p:nvPr/>
          </p:nvSpPr>
          <p:spPr>
            <a:xfrm>
              <a:off x="2738880" y="398952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derate Sedation/Analgesia</a:t>
              </a:r>
              <a:endParaRPr b="0" lang="en-US" sz="1800" spc="-1" strike="noStrike">
                <a:solidFill>
                  <a:srgbClr val="ffffff"/>
                </a:solidFill>
                <a:latin typeface="Times New Roman"/>
              </a:endParaRPr>
            </a:p>
          </p:txBody>
        </p:sp>
        <p:sp>
          <p:nvSpPr>
            <p:cNvPr id="135" name=""/>
            <p:cNvSpPr/>
            <p:nvPr/>
          </p:nvSpPr>
          <p:spPr>
            <a:xfrm>
              <a:off x="3629160" y="4673520"/>
              <a:ext cx="333540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ep Sedation/Analgesia</a:t>
              </a:r>
              <a:endParaRPr b="0" lang="en-US" sz="18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
            <p:cNvSpPr/>
            <p:nvPr/>
          </p:nvSpPr>
          <p:spPr>
            <a:xfrm>
              <a:off x="4647960" y="541656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neral Anaesthesia</a:t>
              </a:r>
              <a:endParaRPr b="0" lang="en-US" sz="1800" spc="-1" strike="noStrike">
                <a:solidFill>
                  <a:srgbClr val="ffffff"/>
                </a:solidFill>
                <a:latin typeface="Times New Roman"/>
              </a:endParaRPr>
            </a:p>
          </p:txBody>
        </p:sp>
        <p:sp>
          <p:nvSpPr>
            <p:cNvPr id="137" name=""/>
            <p:cNvSpPr/>
            <p:nvPr/>
          </p:nvSpPr>
          <p:spPr>
            <a:xfrm>
              <a:off x="2982600" y="24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Normal LOC</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uidelines for Monitoring</a:t>
            </a: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monitoring of BP, HR &amp; R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O</a:t>
            </a:r>
            <a:r>
              <a:rPr b="0" lang="en-US" sz="3200" spc="-1" strike="noStrike" baseline="-25000">
                <a:solidFill>
                  <a:srgbClr val="ffffff"/>
                </a:solidFill>
                <a:latin typeface="Arial"/>
              </a:rPr>
              <a:t>2</a:t>
            </a:r>
            <a:r>
              <a:rPr b="0" lang="en-US" sz="3200" spc="-1" strike="noStrike">
                <a:solidFill>
                  <a:srgbClr val="ffffff"/>
                </a:solidFill>
                <a:latin typeface="Arial"/>
              </a:rPr>
              <a:t> sat 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assessment of level of responsive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monitoring until the patient is fully aw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l &amp; Regional Anaesthesia</a:t>
            </a:r>
            <a:endParaRPr b="0" lang="en-US" sz="44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 towards less analgesia and compromise of reduction in patients receiving a hematoma block versus intravenous regional anesthesia.</a:t>
            </a:r>
            <a:endParaRPr b="0" lang="en-US" sz="3200" spc="-1" strike="noStrike">
              <a:solidFill>
                <a:srgbClr val="ffffff"/>
              </a:solidFill>
              <a:latin typeface="Arial"/>
            </a:endParaRPr>
          </a:p>
        </p:txBody>
      </p:sp>
      <p:sp>
        <p:nvSpPr>
          <p:cNvPr id="142" name=""/>
          <p:cNvSpPr/>
          <p:nvPr/>
        </p:nvSpPr>
        <p:spPr>
          <a:xfrm>
            <a:off x="1371600" y="5638680"/>
            <a:ext cx="725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HG Handoll, R Madhok &amp; C Dodds.  “Anaesthesia for treating distal radial fractures in adults.”  Cochrane Database of Systemic Reviews.  Issue 3.  July 200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35000"/>
            <a:ext cx="77724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y Points</a:t>
            </a: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drugs and your drug inter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ll your op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uideline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dwin SA, Caro DA, Wolf SJ, Jagoda AS, Charles R, Marett, BE and Moore J.  </a:t>
            </a:r>
            <a:r>
              <a:rPr b="0" lang="en-US" sz="1600" spc="-1" strike="noStrike" u="sng">
                <a:solidFill>
                  <a:srgbClr val="ffffff"/>
                </a:solidFill>
                <a:uFillTx/>
                <a:latin typeface="Arial"/>
              </a:rPr>
              <a:t>Clinical policy: procedural sedation and analgesia in the emergency department</a:t>
            </a:r>
            <a:r>
              <a:rPr b="0" lang="en-US" sz="1600" spc="-1" strike="noStrike">
                <a:solidFill>
                  <a:srgbClr val="ffffff"/>
                </a:solidFill>
                <a:latin typeface="Arial"/>
              </a:rPr>
              <a:t>.  Annals of Emergency Medicine.  45:2.  February 2005; pp 177-196.</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nes G, Murphy M, Nijessen-Jordan C, Ducharme J and Drummond A.  </a:t>
            </a:r>
            <a:r>
              <a:rPr b="0" lang="en-US" sz="1600" spc="-1" strike="noStrike" u="sng">
                <a:solidFill>
                  <a:srgbClr val="ffffff"/>
                </a:solidFill>
                <a:uFillTx/>
                <a:latin typeface="Arial"/>
              </a:rPr>
              <a:t>Procedural sedation and analgesia in the emergency department.  Canadian consensus guidelines</a:t>
            </a:r>
            <a:r>
              <a:rPr b="0" lang="en-US" sz="1600" spc="-1" strike="noStrike">
                <a:solidFill>
                  <a:srgbClr val="ffffff"/>
                </a:solidFill>
                <a:latin typeface="Arial"/>
              </a:rPr>
              <a:t>.  The Journal of Emergency Medicine.  17:1.  January 1999; pp 145 – 156.</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book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RD.  Miller’s Anesthesia, 6</a:t>
            </a:r>
            <a:r>
              <a:rPr b="0" lang="en-US" sz="1600" spc="-1" strike="noStrike" baseline="30000">
                <a:solidFill>
                  <a:srgbClr val="ffffff"/>
                </a:solidFill>
                <a:latin typeface="Arial"/>
              </a:rPr>
              <a:t>th</a:t>
            </a:r>
            <a:r>
              <a:rPr b="0" lang="en-US" sz="1600" spc="-1" strike="noStrike">
                <a:solidFill>
                  <a:srgbClr val="ffffff"/>
                </a:solidFill>
                <a:latin typeface="Arial"/>
              </a:rPr>
              <a:t> Ed.  2005</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x JA.  Rosen’s Emergency Medicine, 5</a:t>
            </a:r>
            <a:r>
              <a:rPr b="0" lang="en-US" sz="1600" spc="-1" strike="noStrike" baseline="30000">
                <a:solidFill>
                  <a:srgbClr val="ffffff"/>
                </a:solidFill>
                <a:latin typeface="Arial"/>
              </a:rPr>
              <a:t>th</a:t>
            </a:r>
            <a:r>
              <a:rPr b="0" lang="en-US" sz="1600" spc="-1" strike="noStrike">
                <a:solidFill>
                  <a:srgbClr val="ffffff"/>
                </a:solidFill>
                <a:latin typeface="Arial"/>
              </a:rPr>
              <a:t> Ed.  2002.</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erts JR.  Clinical Procedures in Emergency Medicine, 4</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inalli JE.  Emergency Medicine: A Comprehensive Study Guide, 6</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al Sedation &amp; Analgesia</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osi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voids discomfort associated with local or regional anaesthetic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oesn’t affect anatom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ly simple techniqu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ga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nsumes re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 higher risk than local/regio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eneral anaesthesia in the ED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is frowned up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Journal Articles</a:t>
            </a:r>
            <a:endParaRPr b="0" lang="en-US" sz="18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yminton L and Thakore S.  </a:t>
            </a:r>
            <a:r>
              <a:rPr b="0" lang="en-CA" sz="1600" spc="-1" strike="noStrike" u="sng">
                <a:solidFill>
                  <a:srgbClr val="ffffff"/>
                </a:solidFill>
                <a:uFillTx/>
                <a:latin typeface="Arial"/>
              </a:rPr>
              <a:t>A review of the use of propofol for procedural sedation in the emergency department</a:t>
            </a:r>
            <a:r>
              <a:rPr b="0" lang="en-CA" sz="1600" spc="-1" strike="noStrike">
                <a:solidFill>
                  <a:srgbClr val="ffffff"/>
                </a:solidFill>
                <a:latin typeface="Arial"/>
              </a:rPr>
              <a:t>.  Emergency Medicine Journal.  2006:23. 89-93.</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Krauss B.  </a:t>
            </a:r>
            <a:r>
              <a:rPr b="0" lang="en-CA" sz="1600" spc="-1" strike="noStrike" u="sng">
                <a:solidFill>
                  <a:srgbClr val="ffffff"/>
                </a:solidFill>
                <a:uFillTx/>
                <a:latin typeface="Arial"/>
              </a:rPr>
              <a:t>Propofol in emergency medicine: pushing the sedation frontier</a:t>
            </a:r>
            <a:r>
              <a:rPr b="0" lang="en-CA" sz="1600" spc="-1" strike="noStrike">
                <a:solidFill>
                  <a:srgbClr val="ffffff"/>
                </a:solidFill>
                <a:latin typeface="Arial"/>
              </a:rPr>
              <a:t>.  Annals of Emergency Medicine.  2003:42.  792-79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Bahn EL and Holt KR.  </a:t>
            </a:r>
            <a:r>
              <a:rPr b="0" lang="en-CA" sz="1600" spc="-1" strike="noStrike" u="sng">
                <a:solidFill>
                  <a:srgbClr val="ffffff"/>
                </a:solidFill>
                <a:uFillTx/>
                <a:latin typeface="Arial"/>
              </a:rPr>
              <a:t>Procedural sedation and analgesia: a review and new concepts</a:t>
            </a:r>
            <a:r>
              <a:rPr b="0" lang="en-CA" sz="1600" spc="-1" strike="noStrike">
                <a:solidFill>
                  <a:srgbClr val="ffffff"/>
                </a:solidFill>
                <a:latin typeface="Arial"/>
              </a:rPr>
              <a:t>.  Emergency Medicine Clinics of North America.  2005:23.  503-51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t>
            </a:r>
            <a:r>
              <a:rPr b="0" lang="en-CA" sz="1600" spc="-1" strike="noStrike" u="sng">
                <a:solidFill>
                  <a:srgbClr val="ffffff"/>
                </a:solidFill>
                <a:uFillTx/>
                <a:latin typeface="Arial"/>
              </a:rPr>
              <a:t>Fasting is a consideration – not a necessity – for emergency department procedural sedation and analgesia</a:t>
            </a:r>
            <a:r>
              <a:rPr b="0" lang="en-CA" sz="1600" spc="-1" strike="noStrike">
                <a:solidFill>
                  <a:srgbClr val="ffffff"/>
                </a:solidFill>
                <a:latin typeface="Arial"/>
              </a:rPr>
              <a:t>.  Annals of Emergency Medicine.  2003:42.  647-650.</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Sherwin TS.  </a:t>
            </a:r>
            <a:r>
              <a:rPr b="0" lang="en-CA" sz="1600" spc="-1" strike="noStrike" u="sng">
                <a:solidFill>
                  <a:srgbClr val="ffffff"/>
                </a:solidFill>
                <a:uFillTx/>
                <a:latin typeface="Arial"/>
              </a:rPr>
              <a:t>Incidence and severity of recovery agitation after ketamine sedation in young adults</a:t>
            </a:r>
            <a:r>
              <a:rPr b="0" lang="en-CA" sz="1600" spc="-1" strike="noStrike">
                <a:solidFill>
                  <a:srgbClr val="ffffff"/>
                </a:solidFill>
                <a:latin typeface="Arial"/>
              </a:rPr>
              <a:t>.  American Journal of Emergency Medicine.  2005:23.  142-144.</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Li J.  </a:t>
            </a:r>
            <a:r>
              <a:rPr b="0" lang="en-CA" sz="1600" spc="-1" strike="noStrike" u="sng">
                <a:solidFill>
                  <a:srgbClr val="ffffff"/>
                </a:solidFill>
                <a:uFillTx/>
                <a:latin typeface="Arial"/>
              </a:rPr>
              <a:t>Ketamine in adults: what emergency physicians need to know about patient selection and emergency reactions</a:t>
            </a:r>
            <a:r>
              <a:rPr b="0" lang="en-CA" sz="1600" spc="-1" strike="noStrike">
                <a:solidFill>
                  <a:srgbClr val="ffffff"/>
                </a:solidFill>
                <a:latin typeface="Arial"/>
              </a:rPr>
              <a:t>.  Academic Emergency Medicine.  2000:7(3).  278-28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of PSA</a:t>
            </a: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sider patient safety &amp; welfare the first priority.</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vide adequate analgesia, anxiolysis, sedation and amnesia during the performance of painful diagnostic or therapeutic procedures in the ED.</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the adverse psychological responses associated with painful or frightening medical interventions.</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trol motor behavior that inhibits the provision of necessary medical car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turn the patient to a state in which safe discharge is possi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
          <p:cNvSpPr/>
          <p:nvPr/>
        </p:nvSpPr>
        <p:spPr>
          <a:xfrm>
            <a:off x="1203480" y="5483160"/>
            <a:ext cx="7635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From Procedural sedation and analgesia in emergency department.  Canadian Consensus Guidelin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he Journal of Emergency Medic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anuary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8600"/>
            <a:ext cx="8229600" cy="104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s for PSA in the ED</a:t>
            </a:r>
            <a:endParaRPr b="0" lang="en-US" sz="40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requi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assess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stat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amp; suppl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ag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amp; monitoring</a:t>
            </a:r>
            <a:endParaRPr b="0" lang="en-US" sz="2800" spc="-1" strike="noStrike">
              <a:solidFill>
                <a:srgbClr val="ffffff"/>
              </a:solidFill>
              <a:latin typeface="Arial"/>
            </a:endParaRPr>
          </a:p>
        </p:txBody>
      </p:sp>
      <p:sp>
        <p:nvSpPr>
          <p:cNvPr id="61" name=""/>
          <p:cNvSpPr/>
          <p:nvPr/>
        </p:nvSpPr>
        <p:spPr>
          <a:xfrm>
            <a:off x="1219320" y="5407200"/>
            <a:ext cx="74674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Adapted from:</a:t>
            </a:r>
            <a:br>
              <a:rPr sz="1500"/>
            </a:br>
            <a:r>
              <a:rPr b="0" lang="en-US" sz="1500" spc="-1" strike="noStrike">
                <a:solidFill>
                  <a:srgbClr val="ffffff"/>
                </a:solidFill>
                <a:latin typeface="Comic Sans MS"/>
              </a:rPr>
              <a:t>Clinical policy: procedural sedation and analgesia in the emergency department</a:t>
            </a:r>
            <a:br>
              <a:rPr sz="1500"/>
            </a:br>
            <a:r>
              <a:rPr b="0" lang="en-US" sz="1500" spc="-1" strike="noStrike">
                <a:solidFill>
                  <a:srgbClr val="ffffff"/>
                </a:solidFill>
                <a:latin typeface="Comic Sans MS"/>
              </a:rPr>
              <a:t>ACEP Clinical Policies Committee on Procedural Sedation and Analgesia</a:t>
            </a:r>
            <a:br>
              <a:rPr sz="1500"/>
            </a:br>
            <a:r>
              <a:rPr b="0" lang="en-US" sz="1500" spc="-1" strike="noStrike">
                <a:solidFill>
                  <a:srgbClr val="ffffff"/>
                </a:solidFill>
                <a:latin typeface="Comic Sans MS"/>
              </a:rPr>
              <a:t>February 2005</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nel Requirements</a:t>
            </a: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qualified support person should be present for continuous monitoring of the patient.”</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C Evidence</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nical policy: procedural sedation and analgesia in the emergency department</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EP Clinical Policies Committee on Procedural Sedation and Analgesia</a:t>
            </a:r>
            <a:endParaRPr b="0" lang="en-US" sz="10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 additional qualified patient observer… must be present during sedation.”</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B, Level III</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dural sedation and analgesia in the emergency department  </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adian Consensus Guidelines</a:t>
            </a:r>
            <a:endParaRPr b="0" lang="en-US" sz="1000" spc="-1" strike="noStrike">
              <a:solidFill>
                <a:srgbClr val="ffffff"/>
              </a:solidFill>
              <a:latin typeface="Arial"/>
            </a:endParaRPr>
          </a:p>
        </p:txBody>
      </p:sp>
      <p:pic>
        <p:nvPicPr>
          <p:cNvPr id="65" name="" descr=""/>
          <p:cNvPicPr/>
          <p:nvPr/>
        </p:nvPicPr>
        <p:blipFill>
          <a:blip r:embed="rId1"/>
          <a:stretch/>
        </p:blipFill>
        <p:spPr>
          <a:xfrm>
            <a:off x="3505320" y="4419720"/>
            <a:ext cx="3189240" cy="21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ient Assessment</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PLE hist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rg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medical hist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me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 before &amp; after the incid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xa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way assess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exa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ex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A Physical Status Classification</a:t>
            </a:r>
            <a:endParaRPr b="0" lang="en-US" sz="4400" spc="-1" strike="noStrike">
              <a:solidFill>
                <a:srgbClr val="ffffff"/>
              </a:solidFill>
              <a:latin typeface="Arial"/>
            </a:endParaRPr>
          </a:p>
        </p:txBody>
      </p:sp>
      <p:sp>
        <p:nvSpPr>
          <p:cNvPr id="69" name="PlaceHolder 2"/>
          <p:cNvSpPr>
            <a:spLocks noGrp="1"/>
          </p:cNvSpPr>
          <p:nvPr>
            <p:ph/>
          </p:nvPr>
        </p:nvSpPr>
        <p:spPr>
          <a:xfrm>
            <a:off x="457200" y="1600200"/>
            <a:ext cx="7826400" cy="4525920"/>
          </a:xfrm>
          <a:prstGeom prst="rect">
            <a:avLst/>
          </a:prstGeom>
          <a:noFill/>
          <a:ln w="0">
            <a:noFill/>
          </a:ln>
        </p:spPr>
        <p:txBody>
          <a:bodyPr lIns="90000" rIns="90000" tIns="46800" bIns="46800" anchor="t">
            <a:normAutofit/>
          </a:bodyPr>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y Patient</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systemic disease – no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 definite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that is a constant threat to life</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ibund patient that is not expected to survive with the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1:23:42Z</dcterms:created>
  <dc:creator>Shavaun MacDonald</dc:creator>
  <dc:description/>
  <dc:language>en-US</dc:language>
  <cp:lastModifiedBy>Steinhart Rachel</cp:lastModifiedBy>
  <cp:lastPrinted>2009-04-22T19:24:48Z</cp:lastPrinted>
  <dcterms:modified xsi:type="dcterms:W3CDTF">2010-04-12T23:46:09Z</dcterms:modified>
  <cp:revision>29</cp:revision>
  <dc:subject/>
  <dc:title>Procedural Sedation &amp; Regional Anaesthesia</dc:title>
</cp:coreProperties>
</file>