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3840" y="7920"/>
            <a:ext cx="17536680" cy="13677480"/>
            <a:chOff x="-8403840" y="7920"/>
            <a:chExt cx="17536680" cy="1367748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3840" y="7920"/>
              <a:ext cx="16807680" cy="136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51480" indent="-20556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51480" indent="-205560">
              <a:spcBef>
                <a:spcPts val="799"/>
              </a:spcBef>
              <a:buClr>
                <a:srgbClr val="ffffff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51480" indent="-205560">
              <a:spcBef>
                <a:spcPts val="799"/>
              </a:spcBef>
              <a:buClr>
                <a:srgbClr val="ffffff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232680" y="150840"/>
            <a:ext cx="2751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afd00"/>
                </a:solidFill>
                <a:latin typeface="Arial"/>
              </a:rPr>
              <a:t>Overview of ATLS</a:t>
            </a:r>
            <a:r>
              <a:rPr b="1" i="1" lang="en-US" sz="4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lliam P. Bozeman, MD, FAC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ssistant Professor, Dept. of Emergency Medi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iversity of Florida Health Sciences Center / Jacksonvi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econdary Surve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ind out what happened, what’s inju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tory (AMP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, complete head to toe exa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ll, check back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ember TM’s and rect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ey. NG or OG tub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Overview of AT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Survey (ABCDE’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sci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ary Surv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finitive C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gs to remember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efinitive diagnostics and care...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agnos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Xrays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T Scans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ltrasound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RI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PL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ing Room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eration Repairs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biotics,Tetanus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Medications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barics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Overview of AT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321000" y="1828800"/>
          <a:ext cx="2482920" cy="44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1000" y="1828800"/>
                    <a:ext cx="248292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" name=""/>
          <p:cNvGrpSpPr/>
          <p:nvPr/>
        </p:nvGrpSpPr>
        <p:grpSpPr>
          <a:xfrm>
            <a:off x="2438280" y="3200400"/>
            <a:ext cx="914400" cy="1828800"/>
            <a:chOff x="2438280" y="3200400"/>
            <a:chExt cx="914400" cy="1828800"/>
          </a:xfrm>
        </p:grpSpPr>
        <p:sp>
          <p:nvSpPr>
            <p:cNvPr id="79" name=""/>
            <p:cNvSpPr/>
            <p:nvPr/>
          </p:nvSpPr>
          <p:spPr>
            <a:xfrm flipH="1">
              <a:off x="2438280" y="5029200"/>
              <a:ext cx="9144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438280" y="3200400"/>
              <a:ext cx="0" cy="1828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38280" y="3200400"/>
              <a:ext cx="9144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Overview of AT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Survey (ABCDE’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sci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ary Surv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tive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ngs to remember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oles of the Trauma Tea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2666880"/>
            <a:ext cx="1447920" cy="266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3809880"/>
            <a:ext cx="457200" cy="4572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1905120"/>
            <a:ext cx="457200" cy="4572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2971800"/>
            <a:ext cx="457200" cy="4572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4419720"/>
            <a:ext cx="457200" cy="4572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5791320"/>
            <a:ext cx="457200" cy="4572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6172200"/>
            <a:ext cx="457200" cy="4572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2971800"/>
            <a:ext cx="457200" cy="4572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343400" y="3429000"/>
            <a:ext cx="0" cy="99072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038120" y="4419720"/>
            <a:ext cx="304920" cy="4572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038120" y="3581280"/>
            <a:ext cx="304920" cy="4572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4419720"/>
            <a:ext cx="304920" cy="4572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3581280"/>
            <a:ext cx="304920" cy="4572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9760" y="1752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ir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8280" y="28605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4160" y="5562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59436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te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6840" y="43434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am Me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6720" y="48769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am Me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6172200"/>
            <a:ext cx="457200" cy="4572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8200" y="59436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366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2971800"/>
            <a:ext cx="457200" cy="457200"/>
          </a:xfrm>
          <a:prstGeom prst="smileyFace">
            <a:avLst>
              <a:gd name="adj" fmla="val 9282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oles of the Trauma Tea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s the team, communicates deci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e to ro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ending speaks through Boss (or teaches direct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oles of the Trauma Tea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&amp; B of primary surv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ubation (if need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d / Neck in secondary surve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r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ach monitors, give blood / fluids / m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rding nurse records at foot of b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oles of the Trauma Tea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m Me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e, examine (secondary surve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dures as directed (by bo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st Tub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c repai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tals, foleys routinely assigned to team memb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ings to remember…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Ideal Trauma Resuscit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es are pre-assign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r direction &amp;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tinent finding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aliz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proper 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eam members know all f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pid, 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m &amp; Quie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Overview of AT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321000" y="1828800"/>
          <a:ext cx="2482920" cy="44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1000" y="1828800"/>
                    <a:ext cx="248292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" name=""/>
          <p:cNvGrpSpPr/>
          <p:nvPr/>
        </p:nvGrpSpPr>
        <p:grpSpPr>
          <a:xfrm>
            <a:off x="2438280" y="3200400"/>
            <a:ext cx="914400" cy="1828800"/>
            <a:chOff x="2438280" y="3200400"/>
            <a:chExt cx="914400" cy="1828800"/>
          </a:xfrm>
        </p:grpSpPr>
        <p:sp>
          <p:nvSpPr>
            <p:cNvPr id="48" name=""/>
            <p:cNvSpPr/>
            <p:nvPr/>
          </p:nvSpPr>
          <p:spPr>
            <a:xfrm flipH="1">
              <a:off x="2438280" y="5029200"/>
              <a:ext cx="9144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2438280" y="3200400"/>
              <a:ext cx="0" cy="1828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3200400"/>
              <a:ext cx="9144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ings to remember…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fafd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Exa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 views (RUQ, LUQ, SP, Pericar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“noninvasive DP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sitive for free fluid ( __ - __ 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specif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good for solid organ inju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good for hollow organ inju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ings to remember…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assification of Shock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259092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las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B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uls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BP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ent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Trea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15% (&lt;750ml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-                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nl                       Flui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5-30% (750-1.5L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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-            +/-anxious          Flui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-40% (1.5L-2.0L)       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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anxious               Fluids + Blo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gt;40% (&gt;2.0L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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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confused            Fluids + Blo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A Special Case: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Penetrating Trauma to trunk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(especially GSW’s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to rapidly fi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enetrating injuries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tained thoracoabd. project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for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A Special Case: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Penetrating Trauma to trunk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(especially GSW’s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e for entry/exit wound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mmediate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fter the primary surve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Wait to take BP start IV’s, take history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 all entry and exit sites with radiopaque “arrow” mark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 xrays immediatel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Team member wearing lead may start IV’s, place chest tubes, etc. during xrays.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400" spc="-1" strike="noStrike">
                <a:solidFill>
                  <a:srgbClr val="fafd00"/>
                </a:solidFill>
                <a:latin typeface="Arial"/>
              </a:rPr>
              <a:t>?</a:t>
            </a:r>
            <a:endParaRPr b="0" lang="en-US" sz="35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Overview of AT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mary Survey (ABCDE’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sci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ary Surv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tive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gs to remember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imary Survey - Immediate Threats to Life (Only!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=  Air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=  Breath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=  Circul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tru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th Sounds Pres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lateral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pheral Pul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moral? Caroti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P Measureme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imary Survey - Immediate Threats to Life (Only!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=  Dis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=  Exp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(AVPU or GC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ss Motor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i.e. spinal cord integr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kki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ommon Life Threatening Pathology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=  Air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=  Brea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=  Circ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sion PTX or HT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 PT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il Ch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volemic Sh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sive hemorrh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nal Sh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Overview of AT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Survey (ABCDE’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usci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ary Surv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tive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gs to remember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suscit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’s (Two. Large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Blee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cree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X-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” = C Spine, Chest, Pelv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” = 3 + T&amp;L Sp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Overview ATL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Survey (ABCDE’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sci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condary Surve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tive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12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gs to remember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9T23:24:11Z</dcterms:created>
  <dc:creator>Drew Pardoll</dc:creator>
  <dc:description/>
  <cp:keywords/>
  <dc:language>en-US</dc:language>
  <cp:lastModifiedBy>Steinhart Rachel</cp:lastModifiedBy>
  <cp:lastPrinted>2000-08-01T15:32:36Z</cp:lastPrinted>
  <dcterms:modified xsi:type="dcterms:W3CDTF">2009-10-05T00:17:46Z</dcterms:modified>
  <cp:revision>65</cp:revision>
  <dc:subject/>
  <dc:title>Nonoperative Management of Trauma - the Evolving Role</dc:title>
</cp:coreProperties>
</file>