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235-FB76-4849-9689-2E8E86A1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908-0C45-4CFA-809A-C15EF3C7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A1B-01A5-484C-8D95-77F0C093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8CF-BB55-4CB7-B70F-0AD3B527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5B4-6DCB-4478-BF9F-5980341A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D03-6FBC-461F-9FC0-45DC1BE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BAA-86CB-4F46-B040-DADB8164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B2D-919A-4438-BDD5-832E13F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0E3-BCDF-4B48-95BF-6557E4CB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6BC-5286-46BA-B8FA-84BFB1E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AEB-49A3-4091-A6F6-8A6BD24D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90F-FC76-45D3-BB69-F0C67502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DE5-B0CC-44F8-A2DC-3C47C5CE6F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 Emergen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5105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ision of Emergency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0040" y="1981080"/>
            <a:ext cx="2346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ddle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160" y="12193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us Otitis Media - Eustachian tube dysfunction - treat with decongestants, decompressive maneu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itis Media - infection of middle ear effusion - viral and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oiditis - Venous connection with brain, need aggressive treatment (can lead to brain abcess or mening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8176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7760" y="1676520"/>
            <a:ext cx="1876320" cy="14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23040" y="3524400"/>
            <a:ext cx="1860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ner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560" y="1847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vertigo (vestibulopa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V, labyrhinth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cute onset, no central signs, usually young, horizontal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iere’s - vertigo, sensorineural hearing loss, tinn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alium, fluids, rest, manipulation for B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847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erior - branches of in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terior - distal branches of ex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75160" y="1752480"/>
            <a:ext cx="55818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(Little’s Area) Kisselbach’s plexus - usually children, young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, epistaxis digit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 Syndrome, 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 - cocaine,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of all epistaxis - usually in 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ension (deba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eds, lower BP, calm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! (gown, mask, suction, speculum, meds and packing rea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vasoconstrictor and anes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2000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rior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sure +/- cautery and/or tamp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l packs require antibiotic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86400" y="1676520"/>
            <a:ext cx="2533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ac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algesia and 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dmission and 02 saturation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7560" y="1676520"/>
            <a:ext cx="1790640" cy="2685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514760"/>
            <a:ext cx="35622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11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ia, hyperca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usitis, otitis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sis of the columella or nasal 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th Nerve Pals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67000"/>
            <a:ext cx="56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are idiopath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ink to H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proof steroids or antivirals are effective, but many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yme’s Disease in edemic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decompression indicated in the rare patient not improving by 2 weeks and ENOG out &g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81760" y="1371600"/>
            <a:ext cx="370836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ologic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al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ial, Oral and Pharyngeal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way Ob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/A, facial pain in sinus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urulent yellow-green rhino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T more sensitive than plain fi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usative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am positives and H. flu (acu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aerobes, gram neg (chr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2480" y="1219320"/>
            <a:ext cx="2423880" cy="270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02360" y="4114800"/>
            <a:ext cx="236556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57150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- amoxil, sep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- amoxil-clavulinic acid, clindamycin, quinol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gestants, analgesia,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moid sinusitis - orbital cellulits and ab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sinusitis - may erode bone (Potts Puffy Tumor, Brain Ab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2000160"/>
            <a:ext cx="34196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Cellul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strept and stap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H.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rogress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05360" y="1676520"/>
            <a:ext cx="387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otid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619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ramyxo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derly,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ssociated with 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ver - Staph,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58080" y="1676520"/>
          <a:ext cx="30510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1676520"/>
                    <a:ext cx="3051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200016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lux, trauma,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BV, aden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ABHS, mycoplasma, gonorrhea, dipth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3160" y="1905120"/>
            <a:ext cx="32767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tonsillar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 of suppurative tonsil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 - medial displacement of tonsil and uv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phagia, ear pain, muffled voice, fever, 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biotics, I&amp;D, +/-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41008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cidence in children secondary to HIB vac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rapid, patients look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 to sit, muffled voice, dysphagia, drooling, re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58080" y="2635200"/>
            <a:ext cx="38001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g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visualization if patient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of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umb print, valecula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emergent airway, best achieved in a controlle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syn, +/-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76840" y="1940040"/>
            <a:ext cx="3952800" cy="407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0280" y="1649520"/>
            <a:ext cx="3200400" cy="429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4960" y="615636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tropharyngeal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to prevertebral space and posterior to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children under 4 (lymphoid tissue in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, dysphagia, dyspnea,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 of retropharyngeal space on lateral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- medias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9240" y="1676520"/>
            <a:ext cx="437364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ologic Disor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695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r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mpanic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ear and mast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1600200"/>
            <a:ext cx="5664240" cy="466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24160" y="2057400"/>
            <a:ext cx="259092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9080" y="2514600"/>
            <a:ext cx="373356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440" y="3581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4952880"/>
            <a:ext cx="43434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579132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724960" y="4190760"/>
            <a:ext cx="0" cy="1600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3640" y="3733920"/>
            <a:ext cx="449604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ticator - Parapharyngeal Space Inf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molars invade masticat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, pain fever, T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tibiotics (PCN or Clindamyc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00880" y="1828800"/>
            <a:ext cx="42573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UG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cute Necrotizing Ulcerative Gingiv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77156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 causing an acute necrotizing, destructive disease of periodo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al ri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ibiotics (PCN, clindamycin, tetracyc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02400" y="1735200"/>
          <a:ext cx="443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1735200"/>
                    <a:ext cx="443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udwigs Ang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progressive cellulitis of the floor of the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elderly debilitated patients and precipitated by dent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swelling with impending airway ob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, antibiotics, airwa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96216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6956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ssionally life 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itary and related to ACE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histamines, steroids and doxe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1860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way Obstr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onia - 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 - in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ezing - in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breath sounds- 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and Answe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9120" y="1676520"/>
            <a:ext cx="2670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tic Disorders of the 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695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rtilaginous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ain, antibiotics, bulky ear dressing close foll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ce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ingle layer closure, pick up perichondrium, bulky ear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posterior auricular block for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3240" y="1981080"/>
            <a:ext cx="35654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360" y="1676520"/>
            <a:ext cx="10106280" cy="44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piration of Auricular Hemato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080" y="15235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ondritis - Cellulit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ectious, difficult to treat because poor blood supply, cover S. Aureus and 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ra care in diab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lammatory causes related to seronegative arthritis at times indistinguishable from infection usually the ear lobe is s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440" y="1676520"/>
            <a:ext cx="2743200" cy="41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1320" y="1676520"/>
            <a:ext cx="2640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itis Exter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and inflammation caused by bacteria (pseudomonas, staph), and 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reat with antibiotic-steroid d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wick for tight ca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abetics can get malignant otitis externa (defined by the presence of granulation t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34040" y="2014560"/>
            <a:ext cx="3800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eign Bodies in Ear Can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84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in by patient, some bugs f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bugs with mineral oil, or lidoc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ith forceps, suction or tissue adhe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7400" y="198108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mpanic Membrane Perfo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see – Hx of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rom middle ear pressure secondary to fluid or baro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from external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eal uneventfully but all need otology follow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fs with vertigo and facial nerve involvement need immediate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with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 controversial but indicated for purulent discharge (avoid gentamycin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58080" y="1752480"/>
            <a:ext cx="3886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2:43:14Z</dcterms:created>
  <dc:creator>Dr. Quinn</dc:creator>
  <dc:description/>
  <cp:keywords/>
  <dc:language>en-US</dc:language>
  <cp:lastModifiedBy>Steinhart Rachel</cp:lastModifiedBy>
  <cp:lastPrinted>2009-04-22T19:24:48Z</cp:lastPrinted>
  <dcterms:modified xsi:type="dcterms:W3CDTF">2009-01-17T22:31:36Z</dcterms:modified>
  <cp:revision>42</cp:revision>
  <dc:subject/>
  <dc:title>ENT Emergencies</dc:title>
</cp:coreProperties>
</file>