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10288588" cy="6858000"/>
  <p:notesSz cx="6858000" cy="9021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953-6F94-4D85-8666-8799AF0B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A47-427B-4E74-9EAB-4FBD995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916-F82C-47C4-8716-94634989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4D8-2B7D-44E2-9121-9A2D1A19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F64-DF7E-4CEE-83B8-02FD011A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D6E-7883-4B3B-A82B-D8BFF29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3CF-64F8-465D-BDE0-FD9DC103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D47-C6B2-461F-9B27-7AB48D1E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5B5-BEF6-4343-A571-C37662C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973-18EF-4710-9319-04BDD13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2B1-50BF-44CA-A420-99E7478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083-77B3-4CC4-83E5-0EA75D9B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959-2DF6-4751-8E80-B2FB34FDEC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NT Emergenc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6080" y="5105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ision of Emergency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40040" y="1981080"/>
            <a:ext cx="23464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ddle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160" y="1219320"/>
            <a:ext cx="58672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ous Otitis Media - Eustachian tube dysfunction - treat with decongestants, decompressive maneu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itis Media - infection of middle ear effusion - viral and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oiditis - Venous connection with brain, need aggressive treatment (can lead to brain abcess or meningit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81760" y="12193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267760" y="1676520"/>
            <a:ext cx="1876320" cy="14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223040" y="3524400"/>
            <a:ext cx="1860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ner Ea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2560" y="1847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vertigo (vestibulopa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PV, labyrhinth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cute onset, no central signs, usually young, horizontal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iere’s - vertigo, sensorineural hearing loss, tinn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alium, fluids, rest, manipulation for BP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1847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cular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erior - branches of in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osterior - distal branches of external carot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75160" y="1752480"/>
            <a:ext cx="558180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n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(Little’s Area) Kisselbach’s plexus - usually children, young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, epistaxis digit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 Syndrome, 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 - cocaine, sp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Posteri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of all epistaxis - usually in 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ension (debat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eds, lower BP, calm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! (gown, mask, suction, speculum, meds and packing rea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c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 vasoconstrictor and anes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2000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rior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sure +/- cautery and/or tampon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ll packs require antibiotic prophyl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86400" y="1676520"/>
            <a:ext cx="2533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terior Pac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nalgesia and se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admission and 02 saturation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67560" y="1676520"/>
            <a:ext cx="1790640" cy="2685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4514760"/>
            <a:ext cx="356220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staxi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11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ia, hyperca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usitis, otitis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rosis of the columella or nasal 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028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7th Nerve Pals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467000"/>
            <a:ext cx="567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are idiopath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ink to HS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proof steroids or antivirals are effective, but many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Lyme’s Disease in edemic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gical decompression indicated in the rare patient not improving by 2 weeks and ENOG out &gt;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81760" y="1371600"/>
            <a:ext cx="370836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ologic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al Disor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ial, Oral and Pharyngeal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way Obstr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360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ns an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/A, facial pain in sinus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urulent yellow-green rhino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T more sensitive than plain fil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usative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ram positives and H. flu (acu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aerobes, gram neg (chron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2480" y="1219320"/>
            <a:ext cx="2423880" cy="270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02360" y="4114800"/>
            <a:ext cx="236556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Infec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nus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57150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- amoxil, sep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- amoxil-clavulinic acid, clindamycin, quinol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gestants, analgesia,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moid sinusitis - orbital cellulits and ab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al sinusitis - may erode bone (Potts Puffy Tumor, Brain Ab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24480" y="2000160"/>
            <a:ext cx="34196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ial Cellul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strept and staph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H.F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progress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05360" y="1676520"/>
            <a:ext cx="387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otid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3080" y="16192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paramyxo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derly, immunosup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ssociated with dehyd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over - Staph,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58080" y="1676520"/>
          <a:ext cx="305100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1676520"/>
                    <a:ext cx="30510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aryng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200016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flux, trauma,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BV, aden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GABHS, mycoplasma, gonorrhea, dipth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53160" y="1905120"/>
            <a:ext cx="3276720" cy="27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ritonsillar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 of suppurative tonsil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ior - medial displacement of tonsil and uv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phagia, ear pain, muffled voice, fever, tris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tibiotics, I&amp;D, +/-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br>
              <a:rPr sz="44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41008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cidence in children secondary to HIB vac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 rapid, patients look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er to sit, muffled voice, dysphagia, drooling, restles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58080" y="2635200"/>
            <a:ext cx="380016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g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visualization if patient al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 tissue of 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humb print, valecula 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emergent airway, best achieved in a controlled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syn, +/- ster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76840" y="1940040"/>
            <a:ext cx="3952800" cy="4078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0280" y="1649520"/>
            <a:ext cx="3200400" cy="429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4960" y="615636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glot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tropharyngeal Ab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to prevertebral space and posterior to phary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children under 4 (lymphoid tissue in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, dysphagia, dyspnea,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 of retropharyngeal space on lateral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cations - mediast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9240" y="1676520"/>
            <a:ext cx="437364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ologic Disord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695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ric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mpanic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ear and mastoid dis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1600200"/>
            <a:ext cx="5664240" cy="466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24160" y="2057400"/>
            <a:ext cx="2590920" cy="6094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9080" y="2514600"/>
            <a:ext cx="373356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440" y="35812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7680" y="4952880"/>
            <a:ext cx="43434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1360" y="5791320"/>
            <a:ext cx="59436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724960" y="4190760"/>
            <a:ext cx="0" cy="1600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33640" y="3733920"/>
            <a:ext cx="449604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ticator - Parapharyngeal Space Inf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4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of the lower molars invade masticato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lling, pain fever, T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tibiotics (PCN or Clindamyc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00880" y="1828800"/>
            <a:ext cx="425736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UG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cute Necrotizing Ulcerative Gingiviti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177156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l infection causing an acute necrotizing, destructive disease of periodon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al ri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tibiotics (PCN, clindamycin, tetracyc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02400" y="1735200"/>
          <a:ext cx="443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2400" y="1735200"/>
                    <a:ext cx="443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udwigs Angi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6765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progressive cellulitis of the floor of the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in elderly debilitated patients and precipitated by dental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swelling with impending airway ob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, antibiotics, airwa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962160" cy="29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gioede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640" y="16956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ssionally life threa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iditary and related to ACE inhib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histamines, steroids and doxe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58080" y="1676520"/>
            <a:ext cx="31860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way Obstr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onia - 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 - incomplete upp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ezing - in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breath sounds- complete lower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 and Answer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29120" y="1676520"/>
            <a:ext cx="2670120" cy="43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tic Disorders of the 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695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mat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rtilaginous 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ain, antibiotics, bulky ear dressing close follow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cer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single layer closure, pick up perichondrium, bulky ear dr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posterior auricular block for anesth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83240" y="1981080"/>
            <a:ext cx="35654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360" y="1676520"/>
            <a:ext cx="10106280" cy="4486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piration of Auricular Hematom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ric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080" y="1523520"/>
            <a:ext cx="4496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ondritis - Cellulit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ectious, difficult to treat because poor blood supply, cover S. Aureus and 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xtra care in diab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flammatory causes related to seronegative arthritis at times indistinguishable from infection usually the ear lobe is sp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62440" y="1676520"/>
            <a:ext cx="2743200" cy="4182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591320" y="1676520"/>
            <a:ext cx="2640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itis Extern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n and inflammation caused by bacteria (pseudomonas, staph), and fun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reat with antibiotic-steroid d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 wick for tight ca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iabetics can get malignant otitis externa (defined by the presence of granulation t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34040" y="2014560"/>
            <a:ext cx="38005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oreign Bodies in Ear Can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184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ut in by patient, some bugs f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 bugs with mineral oil, or lidoca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ith forceps, suction or tissue adhe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7400" y="198108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mpanic Membrane Perfo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40" y="16765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to see – Hx of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from middle ear pressure secondary to fluid or baro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from external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heal uneventfully but all need otology follow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fs with vertigo and facial nerve involvement need immediate refer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 with 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 controversial but indicated for purulent discharge (avoid gentamycin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58080" y="1752480"/>
            <a:ext cx="3886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2:43:14Z</dcterms:created>
  <dc:creator>Dr. Quinn</dc:creator>
  <dc:description/>
  <cp:keywords/>
  <dc:language>en-US</dc:language>
  <cp:lastModifiedBy>Steinhart Rachel</cp:lastModifiedBy>
  <cp:lastPrinted>2009-04-22T19:24:48Z</cp:lastPrinted>
  <dcterms:modified xsi:type="dcterms:W3CDTF">2009-01-17T22:31:36Z</dcterms:modified>
  <cp:revision>42</cp:revision>
  <dc:subject/>
  <dc:title>ENT Emergencies</dc:title>
</cp:coreProperties>
</file>