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7067-FB90-4337-BA1B-DC1EB3D2A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1BB-EDEA-4873-8AC3-7B98C5DB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8673-D690-4478-B66F-DF8897033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143-671D-4B56-89D8-10E52E49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F65-31FD-497D-937A-3077758B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E5DC-2337-4753-AAFB-9825F032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8482-DF7B-455D-881B-CD2E61CB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5A8-9BDE-475F-9E21-8DE7DB71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B36E-EB76-4980-B8F9-0C02DEBF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5F08-6960-46CE-9E8D-A9D4E54B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648D-F48F-429F-A29D-7C1319CA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65A-C1FA-4825-8E51-A0CC7AD9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AE53-1FE1-4BAC-AFC7-8E751460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DE62-E876-439F-B93F-C47B2EA7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8B7E-9D96-427C-96D2-3269D700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65B4-DED7-4DBD-A36C-442894DD0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D6BD-6551-4A47-B37B-F38A6F49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3695-668B-49C8-A012-A3418E6B4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75C2-6CFC-47AF-987D-CDDEE6A2D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85D-15DB-472D-B79B-FB48E24F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2D9-BF93-4FFB-BA58-65A971E1D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D96F-9DD1-409D-BE01-4CBAD3997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9AC-6800-4491-B3B4-50627778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69F8-81CA-4746-93A3-C2CC4EB4A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1F1D-74E4-4BDB-897E-80A60706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C2E0-3A29-4984-A277-88DD7728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9A0D-5E2D-4E60-91E7-49FA2FB6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590E-9B18-484B-A49B-50AD25D1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670-506C-4898-B944-961482D55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A1E-DF25-49F0-B80E-75E842CCE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A6E-7FF9-4119-B709-82D5B823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950-7A32-44E1-93A8-CD2917C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AA7-7C1B-4B75-9C1B-74CDA3B2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9AA-1CD7-4AC7-AC3B-842B2956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AD40-5C58-46D2-94F5-CF3302A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74B6-2B00-45C8-99BE-6F2EDCA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52BD-C47B-4542-807A-30FBBFD9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F38-8EE3-4E4A-B6CA-AB03C33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B93A-9127-4D1C-B1B4-B1CF4EC9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C5E0-28DF-48EF-941A-DF8E9825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21A5-AE65-44A9-91D2-790D45E9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D0D-2990-4792-8509-DFA0E1B8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4CDB-BD3F-464A-BFE7-40473EE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ED7-52CC-46A2-AB18-2EA33BF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EAD8-3662-4194-9AE5-0A08DC0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310E-F63A-4F45-AD9F-4E8D1C77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642-0CA3-4B19-B1FB-B8A222F4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C09-B699-403D-B19C-8A58A07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30C-0636-4012-B1EA-9CF5EA93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33D-29F2-49AC-A9ED-2B73D32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77A-E260-44BA-BC90-5E39267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74A-0557-4B1F-8D9D-79A57F8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1A3-C795-4AFE-A6C3-6F3F07B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01E-8290-4F60-8320-476F6AE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3AE3-F4B4-4F17-87B4-AAF3B76CC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4D6B-98CD-46E9-BA5C-59B214A76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heelessonline.com/ortho/1258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2971800"/>
            <a:ext cx="5105160" cy="2209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Orthopedic Emergencies</a:t>
            </a:r>
            <a:endParaRPr b="0" i="1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22440" y="5410080"/>
            <a:ext cx="24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hel Steinha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RMC E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6002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partment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yndrom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360" y="2209680"/>
            <a:ext cx="5638680" cy="41148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bial Fra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ranges 1.5 to 29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dx/tx thresh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rior compartment mos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a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racondylar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nu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r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~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19720" y="990720"/>
            <a:ext cx="4495680" cy="17524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ompartment Syndrome - Pressure Threshold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3428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e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Intracompartmental pres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as low as 30 mm H2O can result in compartment syndrome when accompanied by periods of hypote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24280" y="609480"/>
            <a:ext cx="41148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s it Compartment Syndrome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8120" y="2361960"/>
            <a:ext cx="5943600" cy="38098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– 6 P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of proportion - passive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NARCOTIC REQUI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esth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kilothermia - C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damage occurs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ischemia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0" y="533160"/>
            <a:ext cx="41911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nitor Extremity Puls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2209320"/>
            <a:ext cx="5790960" cy="43434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ure to occlude the other major artery (e.g. posterior tib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y vs. dorsalis pedis) so that retrograde flow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fere with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apply a pulse oximetry monitor to the great toe, and sequentially occlude the posterior tibial and dorsalis pedis pul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pulses to the opposite, non-injured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2971800" cy="17528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Measuring Compartment Press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33560" y="1904760"/>
            <a:ext cx="5257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performed by Orthope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ithin Emergency scope of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CRMC, Stryker instrument is in Med Room - Sterile kit w/needle and syringe must be obtained by Nurse Super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84611-88013-88153-1668394tn"/>
          <p:cNvPicPr/>
          <p:nvPr/>
        </p:nvPicPr>
        <p:blipFill>
          <a:blip r:embed="rId1"/>
          <a:stretch/>
        </p:blipFill>
        <p:spPr>
          <a:xfrm>
            <a:off x="6324480" y="4521240"/>
            <a:ext cx="2057400" cy="1346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Picture 7" descr="P49F1"/>
          <p:cNvPicPr/>
          <p:nvPr/>
        </p:nvPicPr>
        <p:blipFill>
          <a:blip r:embed="rId2"/>
          <a:stretch/>
        </p:blipFill>
        <p:spPr>
          <a:xfrm>
            <a:off x="4191120" y="4495680"/>
            <a:ext cx="1387440" cy="2133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7800" y="457200"/>
            <a:ext cx="365760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bing Radiograph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, oblique, spiral, segmental, comminut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diatric: Salter-Harris, torus/buckle, greensti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of frac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ning, angulation,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dislo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809880" cy="685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cture Descrip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556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0" y="457200"/>
            <a:ext cx="3733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n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85840" y="1676160"/>
            <a:ext cx="5257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examine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kin not intact, determine whether bone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rigate thoroughly - will require OR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antibiotics (Ancef or Ancef+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Ortho as soon as discov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3249720" cy="2197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www.unboundedmedicine.com/images/Type%20I-00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036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7280" y="152280"/>
            <a:ext cx="281952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diatric Fractu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422960" y="1828800"/>
            <a:ext cx="4447800" cy="119124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ures involving or near th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physeal plate require urg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pedic consul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http://www.gruntdoc.com/pics/drad2ans.jpg"/>
          <p:cNvPicPr/>
          <p:nvPr/>
        </p:nvPicPr>
        <p:blipFill>
          <a:blip r:embed="rId1"/>
          <a:stretch/>
        </p:blipFill>
        <p:spPr>
          <a:xfrm>
            <a:off x="5257800" y="3200400"/>
            <a:ext cx="2498760" cy="3276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5812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Salter-Harris Classification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6400800" cy="426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hecentralline.org/wp-content/uploads/2009/09/SalterHarris.jpg"/>
          <p:cNvPicPr/>
          <p:nvPr/>
        </p:nvPicPr>
        <p:blipFill>
          <a:blip r:embed="rId2"/>
          <a:stretch/>
        </p:blipFill>
        <p:spPr>
          <a:xfrm>
            <a:off x="3276720" y="2286000"/>
            <a:ext cx="5594400" cy="419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1460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H&amp;P for orthopedic emer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ppropriate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x-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potential limb/function threaten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some high-risk &amp; some common inju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nagement including emergent/urgent orthopedic con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43040" y="456840"/>
            <a:ext cx="426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t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eparation of 2 articulating bony surfaces, often caused by a sudden impact to the 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581280" y="35812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ly dislocated joints include shoulder, finger, patella and elbow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581280" y="4952880"/>
            <a:ext cx="5257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Dislocations are often associated with frac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23920" y="152280"/>
            <a:ext cx="3962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oulder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876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t majority are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axillary nerve fxn pre- and post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ation over delt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 associated with seizure activity, can be bilateral, often 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C:\Documents and Settings\HCMARTINEZ\My Documents\My Pictures\Shoulder_ant_DL_AP_XR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95480" cy="232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3" descr="http://lifeinthefastlane.com/wp-content/uploads/2009/06/posterior_shoulder_dislocation_003.jpg"/>
          <p:cNvPicPr/>
          <p:nvPr/>
        </p:nvPicPr>
        <p:blipFill>
          <a:blip r:embed="rId2"/>
          <a:stretch/>
        </p:blipFill>
        <p:spPr>
          <a:xfrm>
            <a:off x="6172200" y="4038480"/>
            <a:ext cx="2603520" cy="236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9"/>
          <p:cNvSpPr/>
          <p:nvPr/>
        </p:nvSpPr>
        <p:spPr>
          <a:xfrm>
            <a:off x="396252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7086600" y="6324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eri-lunate &amp; Lunate Dislocat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perilunate"/>
          <p:cNvPicPr/>
          <p:nvPr/>
        </p:nvPicPr>
        <p:blipFill>
          <a:blip r:embed="rId1"/>
          <a:stretch/>
        </p:blipFill>
        <p:spPr>
          <a:xfrm>
            <a:off x="2438280" y="1981080"/>
            <a:ext cx="320040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5" name="Picture 7" descr="lunatesidebyside"/>
          <p:cNvPicPr/>
          <p:nvPr/>
        </p:nvPicPr>
        <p:blipFill>
          <a:blip r:embed="rId2"/>
          <a:stretch/>
        </p:blipFill>
        <p:spPr>
          <a:xfrm>
            <a:off x="5791320" y="1981080"/>
            <a:ext cx="3225600" cy="2076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Rectangle 8"/>
          <p:cNvSpPr/>
          <p:nvPr/>
        </p:nvSpPr>
        <p:spPr>
          <a:xfrm>
            <a:off x="3355560" y="40384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-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na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6400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2362320" y="4876920"/>
            <a:ext cx="6553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with significant wrist instabilit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ssociated with SCAPHOID fractu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 surgical interven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capho-lunate Dissoci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24080" y="4724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ligamentou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capholunate ap stress"/>
          <p:cNvPicPr/>
          <p:nvPr/>
        </p:nvPicPr>
        <p:blipFill>
          <a:blip r:embed="rId1"/>
          <a:stretch/>
        </p:blipFill>
        <p:spPr>
          <a:xfrm>
            <a:off x="6172200" y="1752480"/>
            <a:ext cx="188424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aphicFrame>
        <p:nvGraphicFramePr>
          <p:cNvPr id="153" name="Object 6"/>
          <p:cNvGraphicFramePr/>
          <p:nvPr/>
        </p:nvGraphicFramePr>
        <p:xfrm>
          <a:off x="5791320" y="2895480"/>
          <a:ext cx="16761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895480"/>
                    <a:ext cx="16761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42670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00400" y="32767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ry Thomas Sig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normally 1-2 m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14440" y="151920"/>
            <a:ext cx="4876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aphoid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4440" y="914400"/>
            <a:ext cx="4876920" cy="31240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difficult to see on x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addition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quire delayed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iddle or proximal, risk osteonec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ortho while patient in 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splint &amp; r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arm, thumb s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http://www.joint-pain-expert.net/images/tenderness_Scaphoid_fracture.jpg"/>
          <p:cNvPicPr/>
          <p:nvPr/>
        </p:nvPicPr>
        <p:blipFill>
          <a:blip r:embed="rId1"/>
          <a:stretch/>
        </p:blipFill>
        <p:spPr>
          <a:xfrm>
            <a:off x="3809880" y="4191120"/>
            <a:ext cx="1627200" cy="243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0" name="Picture 4" descr="http://radiology.casereports.net/index.php/rcr/article/viewFile/13/155/519"/>
          <p:cNvPicPr/>
          <p:nvPr/>
        </p:nvPicPr>
        <p:blipFill>
          <a:blip r:embed="rId2"/>
          <a:stretch/>
        </p:blipFill>
        <p:spPr>
          <a:xfrm>
            <a:off x="6095880" y="4191120"/>
            <a:ext cx="2354400" cy="236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23920" y="304560"/>
            <a:ext cx="38862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ip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duction imperative: prolonged disloc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scular nec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http://www.ispub.com/ispub/ijos/volume_10_number_1_6/recurrent_traumatic_dislocation_of_the_hip_in_a_child/hip-fig2.jpg"/>
          <p:cNvPicPr/>
          <p:nvPr/>
        </p:nvPicPr>
        <p:blipFill>
          <a:blip r:embed="rId1"/>
          <a:stretch/>
        </p:blipFill>
        <p:spPr>
          <a:xfrm>
            <a:off x="2895480" y="3352680"/>
            <a:ext cx="3030480" cy="2667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Picture 11" descr="http://gait.aidi.udel.edu/educate/clcsimge/sickle5.jpg"/>
          <p:cNvPicPr/>
          <p:nvPr/>
        </p:nvPicPr>
        <p:blipFill>
          <a:blip r:embed="rId2"/>
          <a:stretch/>
        </p:blipFill>
        <p:spPr>
          <a:xfrm>
            <a:off x="6324480" y="3352680"/>
            <a:ext cx="2606760" cy="2514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520" y="152280"/>
            <a:ext cx="396216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ip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8" descr="orhifra1"/>
          <p:cNvPicPr/>
          <p:nvPr/>
        </p:nvPicPr>
        <p:blipFill>
          <a:blip r:embed="rId1"/>
          <a:stretch/>
        </p:blipFill>
        <p:spPr>
          <a:xfrm>
            <a:off x="3733920" y="990720"/>
            <a:ext cx="2003400" cy="24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7" name="Rectangle 9"/>
          <p:cNvSpPr/>
          <p:nvPr/>
        </p:nvSpPr>
        <p:spPr>
          <a:xfrm>
            <a:off x="2212200" y="4038480"/>
            <a:ext cx="151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ro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5" descr="http://marshallortho.com/img/hip%20fracture%20diagram.bmp"/>
          <p:cNvPicPr/>
          <p:nvPr/>
        </p:nvPicPr>
        <p:blipFill>
          <a:blip r:embed="rId2"/>
          <a:stretch/>
        </p:blipFill>
        <p:spPr>
          <a:xfrm>
            <a:off x="6019920" y="990720"/>
            <a:ext cx="2743200" cy="2485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9" name="Picture 17" descr="Petrochanteric fracture"/>
          <p:cNvPicPr/>
          <p:nvPr/>
        </p:nvPicPr>
        <p:blipFill>
          <a:blip r:embed="rId3"/>
          <a:stretch/>
        </p:blipFill>
        <p:spPr>
          <a:xfrm>
            <a:off x="6629400" y="3809880"/>
            <a:ext cx="2162160" cy="2343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0" name="Picture 19" descr="Sub-capital fracture"/>
          <p:cNvPicPr/>
          <p:nvPr/>
        </p:nvPicPr>
        <p:blipFill>
          <a:blip r:embed="rId4"/>
          <a:stretch/>
        </p:blipFill>
        <p:spPr>
          <a:xfrm>
            <a:off x="3733920" y="3809880"/>
            <a:ext cx="2162160" cy="233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1" name="TextBox 13"/>
          <p:cNvSpPr/>
          <p:nvPr/>
        </p:nvSpPr>
        <p:spPr>
          <a:xfrm>
            <a:off x="5943600" y="4419720"/>
            <a:ext cx="66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Kne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14600" y="457164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duce spon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associated with tibial plateau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ighly associated with vascular injury - vascular study IM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kneedisloc-ant-s"/>
          <p:cNvPicPr/>
          <p:nvPr/>
        </p:nvPicPr>
        <p:blipFill>
          <a:blip r:embed="rId1"/>
          <a:stretch/>
        </p:blipFill>
        <p:spPr>
          <a:xfrm>
            <a:off x="2819520" y="1905120"/>
            <a:ext cx="1904760" cy="2171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5" name="Picture 6" descr="knee-disloc-post-s"/>
          <p:cNvPicPr/>
          <p:nvPr/>
        </p:nvPicPr>
        <p:blipFill>
          <a:blip r:embed="rId2"/>
          <a:stretch/>
        </p:blipFill>
        <p:spPr>
          <a:xfrm>
            <a:off x="4876920" y="1447920"/>
            <a:ext cx="202248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76" name="Picture 7" descr="knee arteriogram"/>
          <p:cNvPicPr/>
          <p:nvPr/>
        </p:nvPicPr>
        <p:blipFill>
          <a:blip r:embed="rId3"/>
          <a:stretch/>
        </p:blipFill>
        <p:spPr>
          <a:xfrm>
            <a:off x="7010280" y="1447920"/>
            <a:ext cx="1905120" cy="26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7" name="Rectangle 8"/>
          <p:cNvSpPr/>
          <p:nvPr/>
        </p:nvSpPr>
        <p:spPr>
          <a:xfrm>
            <a:off x="2973600" y="4038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259240" y="403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088040" y="40384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ogra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tellar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4495680"/>
            <a:ext cx="64771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e fracture -&gt; inability to extend leg at the kn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s OR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fracture_patella"/>
          <p:cNvPicPr/>
          <p:nvPr/>
        </p:nvPicPr>
        <p:blipFill>
          <a:blip r:embed="rId1"/>
          <a:stretch/>
        </p:blipFill>
        <p:spPr>
          <a:xfrm>
            <a:off x="5257800" y="1523880"/>
            <a:ext cx="2381400" cy="28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400" y="457200"/>
            <a:ext cx="54100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isonneuve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aisonneuve fx"/>
          <p:cNvPicPr/>
          <p:nvPr/>
        </p:nvPicPr>
        <p:blipFill>
          <a:blip r:embed="rId1"/>
          <a:stretch/>
        </p:blipFill>
        <p:spPr>
          <a:xfrm>
            <a:off x="3962520" y="1447920"/>
            <a:ext cx="267804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Picture 6" descr="maissoneuvre"/>
          <p:cNvPicPr/>
          <p:nvPr/>
        </p:nvPicPr>
        <p:blipFill>
          <a:blip r:embed="rId2"/>
          <a:stretch/>
        </p:blipFill>
        <p:spPr>
          <a:xfrm>
            <a:off x="7391520" y="1447920"/>
            <a:ext cx="1218960" cy="36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920" y="837720"/>
            <a:ext cx="3962160" cy="11430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i="1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19720" y="19807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medical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2481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kle Dislo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leolar fractures and significant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require surgical inter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ankle_fracture_bimalleolar_dislocation_xray"/>
          <p:cNvPicPr/>
          <p:nvPr/>
        </p:nvPicPr>
        <p:blipFill>
          <a:blip r:embed="rId1"/>
          <a:stretch/>
        </p:blipFill>
        <p:spPr>
          <a:xfrm>
            <a:off x="4648320" y="1447920"/>
            <a:ext cx="2985840" cy="3162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2485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isfranc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2520" y="518112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lisfranc"/>
          <p:cNvPicPr/>
          <p:nvPr/>
        </p:nvPicPr>
        <p:blipFill>
          <a:blip r:embed="rId1"/>
          <a:stretch/>
        </p:blipFill>
        <p:spPr>
          <a:xfrm>
            <a:off x="3962520" y="1600200"/>
            <a:ext cx="4930560" cy="343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4267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nes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14440" y="5257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quires surgical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fifth_metatarsal_fractures_gallery"/>
          <p:cNvPicPr/>
          <p:nvPr/>
        </p:nvPicPr>
        <p:blipFill>
          <a:blip r:embed="rId1"/>
          <a:stretch/>
        </p:blipFill>
        <p:spPr>
          <a:xfrm>
            <a:off x="2819520" y="1447920"/>
            <a:ext cx="33526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6" name="Picture 6" descr="Jones Fracture"/>
          <p:cNvPicPr/>
          <p:nvPr/>
        </p:nvPicPr>
        <p:blipFill>
          <a:blip r:embed="rId2"/>
          <a:stretch/>
        </p:blipFill>
        <p:spPr>
          <a:xfrm>
            <a:off x="6248520" y="1447920"/>
            <a:ext cx="26859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724280" cy="9144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ursemaid’s Elbow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5638680"/>
            <a:ext cx="2819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ly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5" descr="nurse"/>
          <p:cNvPicPr/>
          <p:nvPr/>
        </p:nvPicPr>
        <p:blipFill>
          <a:blip r:embed="rId1"/>
          <a:stretch/>
        </p:blipFill>
        <p:spPr>
          <a:xfrm>
            <a:off x="3200400" y="1600200"/>
            <a:ext cx="2438280" cy="188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0" name="Picture 6" descr="ncemi nurse reduce"/>
          <p:cNvPicPr/>
          <p:nvPr/>
        </p:nvPicPr>
        <p:blipFill>
          <a:blip r:embed="rId2"/>
          <a:stretch/>
        </p:blipFill>
        <p:spPr>
          <a:xfrm>
            <a:off x="2590920" y="3733920"/>
            <a:ext cx="3047760" cy="1876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1" name="Picture 8" descr="nursemaid"/>
          <p:cNvPicPr/>
          <p:nvPr/>
        </p:nvPicPr>
        <p:blipFill>
          <a:blip r:embed="rId3"/>
          <a:stretch/>
        </p:blipFill>
        <p:spPr>
          <a:xfrm>
            <a:off x="6324480" y="1981080"/>
            <a:ext cx="253692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22764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743200" y="380880"/>
            <a:ext cx="6248520" cy="83844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upracondylar Fracture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6576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upracondylar fx"/>
          <p:cNvPicPr/>
          <p:nvPr/>
        </p:nvPicPr>
        <p:blipFill>
          <a:blip r:embed="rId1"/>
          <a:stretch/>
        </p:blipFill>
        <p:spPr>
          <a:xfrm>
            <a:off x="4267080" y="1600200"/>
            <a:ext cx="4043520" cy="233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Rectangle 14"/>
          <p:cNvSpPr/>
          <p:nvPr/>
        </p:nvSpPr>
        <p:spPr>
          <a:xfrm>
            <a:off x="3456000" y="42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286000" y="4114800"/>
            <a:ext cx="6705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Common pediatric fractu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Significant risk for compartment syndrom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Volkmann’s Contrac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Unreliable parents? ADMIT for observa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Often require surgical interven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95320" y="761760"/>
            <a:ext cx="449604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Initial Treatment of Orthopedic Injuri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81280" y="2590560"/>
            <a:ext cx="51818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Remove jewel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v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ol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rrigate, dress, reduc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lint, dT, IV antibiotic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5680" y="304560"/>
            <a:ext cx="4114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location +/- Fractu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ime dislocat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fficult to re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results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f of acute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al of pressure from neurovascular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ation of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nt immediately post-reduction to avoid recurrent dis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hysical exam and x-ray to confirm reduction &amp; r/o addt’l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3886200" cy="182880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arly Orthopedic Consult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ergent or Urg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vascular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to initial injury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ebdings" charset="2"/>
              <a:buChar char="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le disl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ure + dis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of avascular necrosis (e.g. scaphoid, femoral n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19720" y="1828440"/>
            <a:ext cx="4572000" cy="106668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i="1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324480" cy="34290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 (deformity, swelling, ski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lpate (step-off, tender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motion (active &amp; passiv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144792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hysical Exam Document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520" y="2590560"/>
            <a:ext cx="487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t above - Joint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03848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urovascular Compromis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5105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ensory or motor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question of circulatory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llor or cold distal to inju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ased capillary refill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48320" y="761760"/>
            <a:ext cx="396216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mpartment Syndrom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105520" cy="3733560"/>
          </a:xfrm>
          <a:prstGeom prst="rect">
            <a:avLst/>
          </a:prstGeom>
          <a:solidFill>
            <a:srgbClr val="d2d2d2">
              <a:alpha val="15000"/>
            </a:srgbClr>
          </a:solidFill>
          <a:ln w="0">
            <a:noFill/>
          </a:ln>
        </p:spPr>
        <p:txBody>
          <a:bodyPr anchor="t">
            <a:normAutofit fontScale="86000"/>
          </a:bodyPr>
          <a:p>
            <a:pPr lvl="1" marL="639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ised pressure in a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osed fascial sp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850"/>
              </a:spcBef>
              <a:buClr>
                <a:srgbClr val="000000"/>
              </a:buClr>
              <a:buFont typeface="Webding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duced capilla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erfusion below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vel needed fo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issue viabilit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876920" cy="1447560"/>
          </a:xfrm>
          <a:prstGeom prst="rect">
            <a:avLst/>
          </a:prstGeom>
          <a:solidFill>
            <a:srgbClr val="d2d2d2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mb Compartment Syndrome Causes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14440" y="2133360"/>
            <a:ext cx="4876920" cy="419076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p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ures: open or 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x management (e.g. tight cas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cular/Iatr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ar puncture: esp. anticoag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a-arterial drug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vasation of IV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-tissue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h (e.g. Police K9 bi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ension:  Always worsens perfusion in compartment s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9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6" name="Rectangle 1030"/>
          <p:cNvSpPr/>
          <p:nvPr/>
        </p:nvSpPr>
        <p:spPr>
          <a:xfrm>
            <a:off x="3048120" y="3276720"/>
            <a:ext cx="54100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limb contains a number of compartments at risk for C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arm: anterior(biceps-brachialis) and posterior(triceps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earm: volar(flexors) and dorsal(extensor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gluteal, 2 thigh, 4 in the lower leg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23:40Z</dcterms:created>
  <dc:creator>Steinhart Rachel</dc:creator>
  <dc:description/>
  <dc:language>en-US</dc:language>
  <cp:lastModifiedBy>HCMARTINEZ</cp:lastModifiedBy>
  <dcterms:modified xsi:type="dcterms:W3CDTF">2010-04-29T11:01:08Z</dcterms:modified>
  <cp:revision>38</cp:revision>
  <dc:subject/>
  <dc:title>Orthopedic Emergencies</dc:title>
</cp:coreProperties>
</file>