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png" ContentType="image/png"/>
  <Override PartName="/ppt/media/image21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29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9.jpeg" ContentType="image/jpeg"/>
  <Override PartName="/ppt/media/image11.png" ContentType="image/png"/>
  <Override PartName="/ppt/media/image31.jpeg" ContentType="image/jpeg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6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B577-9672-4551-B19D-1F5ADB9B4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80EF-076E-4E71-82B1-038506395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EA65-F158-465F-8C25-A6EBEE9D0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752B-6BC5-4DD9-BB63-EE162B4B2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497E-DA0A-47B2-8223-B8F729947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E8F8-4276-481A-9683-EC8CE6C2A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A46B-3321-4CBD-A9D2-8C5C02353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0D17-5110-4E39-8478-EA5C96C5E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F6C5-A511-4E79-90B1-49C595A4F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3FCB-7E26-45BD-9B23-D51818C7E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7E5E-A343-4533-B0B8-E23899EFB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9435-2CBF-487E-8AE9-49CF85222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4C48-BC40-489F-8002-75CB2CF1D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ACCB-D88B-4B24-8672-47738AFAD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E2AD-1671-4834-9624-992F474EC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F307-98FB-44D6-97FD-33AB7FE3A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6EC0-A244-4AB5-BB64-6AA19A986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7703-32E3-43CE-ABE6-ADAF57773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5667-CB81-4692-A5A0-D01BA6656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075B-5756-46F1-80C5-39F87A866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1D91-F785-4D3A-A2A1-6FC9FE945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47B0-7C2C-4B2F-B9B4-5C2A83C32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9D2A-047E-4A8B-B5F2-E273F01E9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C052-32D4-462E-9F16-ED38302CC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EB19-8735-40D8-B051-978155BE6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167D-ADCC-40C3-9B21-89891E157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9DD5-F388-47CD-AF79-64B220B15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487D-0797-4FBE-A15A-BF8ACC2A5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AE9F-6271-4361-A7CC-7B2405BD3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30AF-7415-4444-841B-1B6BBA6FB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02A-3FA0-4BFC-BCA0-ADB75AC1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5A1-86C7-46A0-867C-5307EC63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CF97-6166-4ED4-964F-8B4ABEFA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44A-64AC-4129-9BB5-5753CF9C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4606-D1B7-4888-AFC6-E196585A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7D30-03D4-436E-9AB7-1E57223A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A105-2978-4D50-8EB1-3D97BE48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AEBA-C256-4F99-929F-E0AAB3D0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279E-E108-4DC9-A6F1-878D7E10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FFF7-6D4F-4931-B67D-AA014993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BA96-8F46-4090-B271-DE287CED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800-66C3-4C0D-8ABD-7AD5EA3C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0D44-D936-4660-80D1-E53257E3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209C-B422-4401-A102-F05B782D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B2EE-25F2-4E36-B333-68840517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8FFC-8B8D-45E6-8165-F6F8DE53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D379-8319-423B-892A-6A671478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E1F-6061-4E00-A0F9-DCD83DA6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AC4-5C33-4949-ABDD-44DADE30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684-279C-43D1-A721-ECDFD567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D6D-F210-45C4-8101-5395011F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373-8139-479A-A53C-3B9DD1E9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135-C587-4FE7-ADEF-1CBB5424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7275-09CC-4E3D-AB75-6A2E034E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777A-20AC-4A57-A441-29101CD58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D65E-DED4-42A9-BE11-013CD89C6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heelessonline.com/ortho/1258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33560" y="2971800"/>
            <a:ext cx="5105160" cy="220968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Orthopedic Emergencies</a:t>
            </a:r>
            <a:endParaRPr b="0" i="1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022440" y="5410080"/>
            <a:ext cx="243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hel Steinhar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RMC 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1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81120" y="304560"/>
            <a:ext cx="3429000" cy="16002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mpartment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yndrome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isk Factor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76360" y="2209680"/>
            <a:ext cx="5638680" cy="41148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bial Fra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idence ranges 1.5 to 29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dx/tx thresho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rior compartment most 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a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racondylar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nu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reas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~5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19720" y="990720"/>
            <a:ext cx="4495680" cy="175248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Compartment Syndrome - Pressure Threshold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342864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e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Intracompartmental pressu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as low as 30 mm H2O can result in compartment syndrome when accompanied by periods of hypoten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24280" y="609480"/>
            <a:ext cx="411480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s it Compartment Syndrome?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8120" y="2361960"/>
            <a:ext cx="5943600" cy="38098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– 6 P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t of proportion - passive 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ING NARCOTIC REQUI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esth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less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kilothermia - C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versible damage occurs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6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ischemia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0" y="533160"/>
            <a:ext cx="419112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nitor Extremity Puls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8120" y="2209320"/>
            <a:ext cx="5790960" cy="43434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ure to occlude the other major artery (e.g. posterior tib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ry vs. dorsalis pedis) so that retrograde flow 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terfere with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apply a pulse oximetry monitor to the great toe, and sequentially occlude the posterior tibial and dorsalis pedis pul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pulses to the opposite, non-injured li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38320" y="151920"/>
            <a:ext cx="2971800" cy="175284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Measuring Compartment Pressure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33560" y="1904760"/>
            <a:ext cx="5257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performed by Orthoped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within Emergency scope of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CCRMC, Stryker instrument is in Med Room - Sterile kit w/needle and syringe must be obtained by Nurse Supervi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84611-88013-88153-1668394tn"/>
          <p:cNvPicPr/>
          <p:nvPr/>
        </p:nvPicPr>
        <p:blipFill>
          <a:blip r:embed="rId1"/>
          <a:stretch/>
        </p:blipFill>
        <p:spPr>
          <a:xfrm>
            <a:off x="6324480" y="4521240"/>
            <a:ext cx="2057400" cy="1346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8" name="Picture 7" descr="P49F1"/>
          <p:cNvPicPr/>
          <p:nvPr/>
        </p:nvPicPr>
        <p:blipFill>
          <a:blip r:embed="rId2"/>
          <a:stretch/>
        </p:blipFill>
        <p:spPr>
          <a:xfrm>
            <a:off x="4191120" y="4495680"/>
            <a:ext cx="1387440" cy="2133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57800" y="457200"/>
            <a:ext cx="365760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escribing Radiograph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9880" y="21337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frac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verse, oblique, spiral, segmental, comminut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iatric: Salter-Harris, torus/buckle, greensti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of frac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ning, angulation, 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d dislo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00240" y="151920"/>
            <a:ext cx="3809880" cy="6858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cture Descrip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4648320" y="1066680"/>
            <a:ext cx="4038480" cy="5562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0" y="457200"/>
            <a:ext cx="37339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pen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85840" y="1676160"/>
            <a:ext cx="5257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fully examine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kin not intact, determine whether bone ex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rigate thoroughly - will require OR w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 antibiotics (Ancef or Ancef+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ta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ct Ortho as soon as discov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3249720" cy="2197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www.unboundedmedicine.com/images/Type%20I-00.jpg"/>
          <p:cNvPicPr/>
          <p:nvPr/>
        </p:nvPicPr>
        <p:blipFill>
          <a:blip r:embed="rId2"/>
          <a:stretch/>
        </p:blipFill>
        <p:spPr>
          <a:xfrm>
            <a:off x="4724280" y="4572000"/>
            <a:ext cx="3703680" cy="2057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67280" y="152280"/>
            <a:ext cx="281952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ediatric Fractur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4422960" y="1828800"/>
            <a:ext cx="4447800" cy="119124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ures involving or near th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physeal plate require urgent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pedic consul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http://www.gruntdoc.com/pics/drad2ans.jpg"/>
          <p:cNvPicPr/>
          <p:nvPr/>
        </p:nvPicPr>
        <p:blipFill>
          <a:blip r:embed="rId1"/>
          <a:stretch/>
        </p:blipFill>
        <p:spPr>
          <a:xfrm>
            <a:off x="5257800" y="3200400"/>
            <a:ext cx="2498760" cy="3276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57800" y="380880"/>
            <a:ext cx="358128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Salter-Harris Classification</a:t>
            </a:r>
            <a:endParaRPr b="0" i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6400800" cy="426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thecentralline.org/wp-content/uploads/2009/09/SalterHarris.jpg"/>
          <p:cNvPicPr/>
          <p:nvPr/>
        </p:nvPicPr>
        <p:blipFill>
          <a:blip r:embed="rId2"/>
          <a:stretch/>
        </p:blipFill>
        <p:spPr>
          <a:xfrm>
            <a:off x="3276720" y="2286000"/>
            <a:ext cx="5594400" cy="4195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14600" y="21333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H&amp;P for orthopedic emer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appropriate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x-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e potential limb/function threaten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some high-risk &amp; some common inju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management including emergent/urgent orthopedic con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43040" y="456840"/>
            <a:ext cx="426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oint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80920" y="182844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separation of 2 articulating bony surfaces, often caused by a sudden impact to the j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581280" y="3581280"/>
            <a:ext cx="52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Commonly dislocated joints include shoulder, finger, patella and elbow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581280" y="4952880"/>
            <a:ext cx="5257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Dislocations are often associated with fractu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23920" y="152280"/>
            <a:ext cx="39625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oulder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4876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t majority are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axillary nerve fxn pre- and post-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ation over delt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rior associated with seizure activity, can be bilateral, often mi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" descr="C:\Documents and Settings\HCMARTINEZ\My Documents\My Pictures\Shoulder_ant_DL_AP_XR.jpg"/>
          <p:cNvPicPr/>
          <p:nvPr/>
        </p:nvPicPr>
        <p:blipFill>
          <a:blip r:embed="rId1"/>
          <a:stretch/>
        </p:blipFill>
        <p:spPr>
          <a:xfrm>
            <a:off x="2971800" y="4038480"/>
            <a:ext cx="2895480" cy="2325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0" name="Picture 3" descr="http://lifeinthefastlane.com/wp-content/uploads/2009/06/posterior_shoulder_dislocation_003.jpg"/>
          <p:cNvPicPr/>
          <p:nvPr/>
        </p:nvPicPr>
        <p:blipFill>
          <a:blip r:embed="rId2"/>
          <a:stretch/>
        </p:blipFill>
        <p:spPr>
          <a:xfrm>
            <a:off x="6172200" y="4038480"/>
            <a:ext cx="2603520" cy="2362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1" name="TextBox 9"/>
          <p:cNvSpPr/>
          <p:nvPr/>
        </p:nvSpPr>
        <p:spPr>
          <a:xfrm>
            <a:off x="3962520" y="63244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7086600" y="63244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eri-lunate &amp; Lunate Dislocation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perilunate"/>
          <p:cNvPicPr/>
          <p:nvPr/>
        </p:nvPicPr>
        <p:blipFill>
          <a:blip r:embed="rId1"/>
          <a:stretch/>
        </p:blipFill>
        <p:spPr>
          <a:xfrm>
            <a:off x="2438280" y="1981080"/>
            <a:ext cx="3200400" cy="206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5" name="Picture 7" descr="lunatesidebyside"/>
          <p:cNvPicPr/>
          <p:nvPr/>
        </p:nvPicPr>
        <p:blipFill>
          <a:blip r:embed="rId2"/>
          <a:stretch/>
        </p:blipFill>
        <p:spPr>
          <a:xfrm>
            <a:off x="5791320" y="1981080"/>
            <a:ext cx="3225600" cy="2076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6" name="Rectangle 8"/>
          <p:cNvSpPr/>
          <p:nvPr/>
        </p:nvSpPr>
        <p:spPr>
          <a:xfrm>
            <a:off x="3355560" y="403848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-luna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70866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na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640080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2362320" y="4876920"/>
            <a:ext cx="6553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with significant wrist instabilit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ssociated with SCAPHOID fractu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require surgical interven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capho-lunate Dissoci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124080" y="47242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ligamentous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Scapholunate ap stress"/>
          <p:cNvPicPr/>
          <p:nvPr/>
        </p:nvPicPr>
        <p:blipFill>
          <a:blip r:embed="rId1"/>
          <a:stretch/>
        </p:blipFill>
        <p:spPr>
          <a:xfrm>
            <a:off x="6172200" y="1752480"/>
            <a:ext cx="1884240" cy="251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aphicFrame>
        <p:nvGraphicFramePr>
          <p:cNvPr id="153" name="Object 6"/>
          <p:cNvGraphicFramePr/>
          <p:nvPr/>
        </p:nvGraphicFramePr>
        <p:xfrm>
          <a:off x="5791320" y="2895480"/>
          <a:ext cx="1676160" cy="11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895480"/>
                    <a:ext cx="167616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7"/>
          <p:cNvSpPr/>
          <p:nvPr/>
        </p:nvSpPr>
        <p:spPr>
          <a:xfrm>
            <a:off x="4267080" y="312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3200400" y="327672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ry Thomas Sig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 normally 1-2 m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14440" y="151920"/>
            <a:ext cx="48769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caphoid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14440" y="914400"/>
            <a:ext cx="4876920" cy="31240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difficult to see on x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require additional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require delayed im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iddle or proximal, risk osteonecr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ortho while patient in 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n doubt, splint &amp; re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arm, thumb sp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http://www.joint-pain-expert.net/images/tenderness_Scaphoid_fracture.jpg"/>
          <p:cNvPicPr/>
          <p:nvPr/>
        </p:nvPicPr>
        <p:blipFill>
          <a:blip r:embed="rId1"/>
          <a:stretch/>
        </p:blipFill>
        <p:spPr>
          <a:xfrm>
            <a:off x="3809880" y="4191120"/>
            <a:ext cx="1627200" cy="243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0" name="Picture 4" descr="http://radiology.casereports.net/index.php/rcr/article/viewFile/13/155/519"/>
          <p:cNvPicPr/>
          <p:nvPr/>
        </p:nvPicPr>
        <p:blipFill>
          <a:blip r:embed="rId2"/>
          <a:stretch/>
        </p:blipFill>
        <p:spPr>
          <a:xfrm>
            <a:off x="6095880" y="4191120"/>
            <a:ext cx="2354400" cy="236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23920" y="304560"/>
            <a:ext cx="38862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ip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86200" y="1752480"/>
            <a:ext cx="51055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reduction imperative: prolonged dislocati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scular necr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9" descr="http://www.ispub.com/ispub/ijos/volume_10_number_1_6/recurrent_traumatic_dislocation_of_the_hip_in_a_child/hip-fig2.jpg"/>
          <p:cNvPicPr/>
          <p:nvPr/>
        </p:nvPicPr>
        <p:blipFill>
          <a:blip r:embed="rId1"/>
          <a:stretch/>
        </p:blipFill>
        <p:spPr>
          <a:xfrm>
            <a:off x="2895480" y="3352680"/>
            <a:ext cx="3030480" cy="2667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4" name="Picture 11" descr="http://gait.aidi.udel.edu/educate/clcsimge/sickle5.jpg"/>
          <p:cNvPicPr/>
          <p:nvPr/>
        </p:nvPicPr>
        <p:blipFill>
          <a:blip r:embed="rId2"/>
          <a:stretch/>
        </p:blipFill>
        <p:spPr>
          <a:xfrm>
            <a:off x="6324480" y="3352680"/>
            <a:ext cx="2606760" cy="251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62520" y="152280"/>
            <a:ext cx="3962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Hip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8" descr="orhifra1"/>
          <p:cNvPicPr/>
          <p:nvPr/>
        </p:nvPicPr>
        <p:blipFill>
          <a:blip r:embed="rId1"/>
          <a:stretch/>
        </p:blipFill>
        <p:spPr>
          <a:xfrm>
            <a:off x="3733920" y="990720"/>
            <a:ext cx="2003400" cy="244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7" name="Rectangle 9"/>
          <p:cNvSpPr/>
          <p:nvPr/>
        </p:nvSpPr>
        <p:spPr>
          <a:xfrm>
            <a:off x="2212200" y="4038480"/>
            <a:ext cx="151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scula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ro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5" descr="http://marshallortho.com/img/hip%20fracture%20diagram.bmp"/>
          <p:cNvPicPr/>
          <p:nvPr/>
        </p:nvPicPr>
        <p:blipFill>
          <a:blip r:embed="rId2"/>
          <a:stretch/>
        </p:blipFill>
        <p:spPr>
          <a:xfrm>
            <a:off x="6019920" y="990720"/>
            <a:ext cx="2743200" cy="2485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9" name="Picture 17" descr="Petrochanteric fracture"/>
          <p:cNvPicPr/>
          <p:nvPr/>
        </p:nvPicPr>
        <p:blipFill>
          <a:blip r:embed="rId3"/>
          <a:stretch/>
        </p:blipFill>
        <p:spPr>
          <a:xfrm>
            <a:off x="6629400" y="3809880"/>
            <a:ext cx="2162160" cy="2343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70" name="Picture 19" descr="Sub-capital fracture"/>
          <p:cNvPicPr/>
          <p:nvPr/>
        </p:nvPicPr>
        <p:blipFill>
          <a:blip r:embed="rId4"/>
          <a:stretch/>
        </p:blipFill>
        <p:spPr>
          <a:xfrm>
            <a:off x="3733920" y="3809880"/>
            <a:ext cx="2162160" cy="233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1" name="TextBox 13"/>
          <p:cNvSpPr/>
          <p:nvPr/>
        </p:nvSpPr>
        <p:spPr>
          <a:xfrm>
            <a:off x="5943600" y="4419720"/>
            <a:ext cx="66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nee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14600" y="457164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reduce spon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associated with tibial plateau f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ighly associated with vascular injury - vascular study IMPE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5" descr="kneedisloc-ant-s"/>
          <p:cNvPicPr/>
          <p:nvPr/>
        </p:nvPicPr>
        <p:blipFill>
          <a:blip r:embed="rId1"/>
          <a:stretch/>
        </p:blipFill>
        <p:spPr>
          <a:xfrm>
            <a:off x="2819520" y="1905120"/>
            <a:ext cx="1904760" cy="2171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75" name="Picture 6" descr="knee-disloc-post-s"/>
          <p:cNvPicPr/>
          <p:nvPr/>
        </p:nvPicPr>
        <p:blipFill>
          <a:blip r:embed="rId2"/>
          <a:stretch/>
        </p:blipFill>
        <p:spPr>
          <a:xfrm>
            <a:off x="4876920" y="1447920"/>
            <a:ext cx="2022480" cy="26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76" name="Picture 7" descr="knee arteriogram"/>
          <p:cNvPicPr/>
          <p:nvPr/>
        </p:nvPicPr>
        <p:blipFill>
          <a:blip r:embed="rId3"/>
          <a:stretch/>
        </p:blipFill>
        <p:spPr>
          <a:xfrm>
            <a:off x="7010280" y="1447920"/>
            <a:ext cx="1905120" cy="26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7" name="Rectangle 8"/>
          <p:cNvSpPr/>
          <p:nvPr/>
        </p:nvSpPr>
        <p:spPr>
          <a:xfrm>
            <a:off x="2973600" y="40384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5259240" y="40384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7088040" y="40384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riogra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atellar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4495680"/>
            <a:ext cx="64771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verse fracture -&gt; inability to extend leg at the k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requires OR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6" descr="fracture_patella"/>
          <p:cNvPicPr/>
          <p:nvPr/>
        </p:nvPicPr>
        <p:blipFill>
          <a:blip r:embed="rId1"/>
          <a:stretch/>
        </p:blipFill>
        <p:spPr>
          <a:xfrm>
            <a:off x="5257800" y="1523880"/>
            <a:ext cx="2381400" cy="2819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00400" y="457200"/>
            <a:ext cx="5410080" cy="9144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aisonneuve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38280" y="52578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maisonneuve fx"/>
          <p:cNvPicPr/>
          <p:nvPr/>
        </p:nvPicPr>
        <p:blipFill>
          <a:blip r:embed="rId1"/>
          <a:stretch/>
        </p:blipFill>
        <p:spPr>
          <a:xfrm>
            <a:off x="3962520" y="1447920"/>
            <a:ext cx="267804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6" name="Picture 6" descr="maissoneuvre"/>
          <p:cNvPicPr/>
          <p:nvPr/>
        </p:nvPicPr>
        <p:blipFill>
          <a:blip r:embed="rId2"/>
          <a:stretch/>
        </p:blipFill>
        <p:spPr>
          <a:xfrm>
            <a:off x="7391520" y="1447920"/>
            <a:ext cx="1218960" cy="3657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76920" y="837720"/>
            <a:ext cx="3962160" cy="11430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i="1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19720" y="1980720"/>
            <a:ext cx="4419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 medical his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inju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m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24816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nkle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14600" y="464796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ly re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malleolar fractures and significant in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require surgical inter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1" descr="ankle_fracture_bimalleolar_dislocation_xray"/>
          <p:cNvPicPr/>
          <p:nvPr/>
        </p:nvPicPr>
        <p:blipFill>
          <a:blip r:embed="rId1"/>
          <a:stretch/>
        </p:blipFill>
        <p:spPr>
          <a:xfrm>
            <a:off x="4648320" y="1447920"/>
            <a:ext cx="2985840" cy="3162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2485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isfranc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62520" y="518112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5" descr="lisfranc"/>
          <p:cNvPicPr/>
          <p:nvPr/>
        </p:nvPicPr>
        <p:blipFill>
          <a:blip r:embed="rId1"/>
          <a:stretch/>
        </p:blipFill>
        <p:spPr>
          <a:xfrm>
            <a:off x="3962520" y="1600200"/>
            <a:ext cx="4930560" cy="3433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42670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ones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14440" y="52574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fifth_metatarsal_fractures_gallery"/>
          <p:cNvPicPr/>
          <p:nvPr/>
        </p:nvPicPr>
        <p:blipFill>
          <a:blip r:embed="rId1"/>
          <a:stretch/>
        </p:blipFill>
        <p:spPr>
          <a:xfrm>
            <a:off x="2819520" y="1447920"/>
            <a:ext cx="335268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96" name="Picture 6" descr="Jones Fracture"/>
          <p:cNvPicPr/>
          <p:nvPr/>
        </p:nvPicPr>
        <p:blipFill>
          <a:blip r:embed="rId2"/>
          <a:stretch/>
        </p:blipFill>
        <p:spPr>
          <a:xfrm>
            <a:off x="6248520" y="1447920"/>
            <a:ext cx="268596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14440" y="533520"/>
            <a:ext cx="4724280" cy="9144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ursemaid’s Elbow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00600" y="5638680"/>
            <a:ext cx="2819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ly 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5" descr="nurse"/>
          <p:cNvPicPr/>
          <p:nvPr/>
        </p:nvPicPr>
        <p:blipFill>
          <a:blip r:embed="rId1"/>
          <a:stretch/>
        </p:blipFill>
        <p:spPr>
          <a:xfrm>
            <a:off x="3200400" y="1600200"/>
            <a:ext cx="2438280" cy="1889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00" name="Picture 6" descr="ncemi nurse reduce"/>
          <p:cNvPicPr/>
          <p:nvPr/>
        </p:nvPicPr>
        <p:blipFill>
          <a:blip r:embed="rId2"/>
          <a:stretch/>
        </p:blipFill>
        <p:spPr>
          <a:xfrm>
            <a:off x="2590920" y="3733920"/>
            <a:ext cx="3047760" cy="1876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01" name="Picture 8" descr="nursemaid"/>
          <p:cNvPicPr/>
          <p:nvPr/>
        </p:nvPicPr>
        <p:blipFill>
          <a:blip r:embed="rId3"/>
          <a:stretch/>
        </p:blipFill>
        <p:spPr>
          <a:xfrm>
            <a:off x="6324480" y="1981080"/>
            <a:ext cx="2536920" cy="3429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6227640" y="3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2743200" y="380880"/>
            <a:ext cx="6248520" cy="83844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Supracondylar Fractur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365760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1" descr="supracondylar fx"/>
          <p:cNvPicPr/>
          <p:nvPr/>
        </p:nvPicPr>
        <p:blipFill>
          <a:blip r:embed="rId1"/>
          <a:stretch/>
        </p:blipFill>
        <p:spPr>
          <a:xfrm>
            <a:off x="4267080" y="1600200"/>
            <a:ext cx="4043520" cy="2338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6" name="Rectangle 14"/>
          <p:cNvSpPr/>
          <p:nvPr/>
        </p:nvSpPr>
        <p:spPr>
          <a:xfrm>
            <a:off x="3456000" y="422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2286000" y="4114800"/>
            <a:ext cx="67057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Common pediatric fractu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Significant risk for compartment syndrom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Volkmann’s Contractu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Unreliable parents? ADMIT for observ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Often require surgical interven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95320" y="761760"/>
            <a:ext cx="449604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nitial Treatment of Orthopedic Injuries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81280" y="2590560"/>
            <a:ext cx="51818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Remove jewelr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levat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trol pai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rrigate, dress, reduce,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plint, dT, IV antibiotic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P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95680" y="304560"/>
            <a:ext cx="4114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islocation +/-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9000" y="18288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ime dislocated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ifficult to re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results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ef of acute 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al of pressure from neurovascular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oration of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nt immediately post-reduction to avoid recurrent dis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physical exam and x-ray to confirm reduction &amp; r/o addt’l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00240" y="228600"/>
            <a:ext cx="3886200" cy="18288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arly Orthopedic Consult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ergent or Urgen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76360" y="22860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vascular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to initial injury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compartment 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educible dislo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ure + dis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of avascular necrosis (e.g. scaphoid, femoral ne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19720" y="1828440"/>
            <a:ext cx="4572000" cy="106668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Physical Exam</a:t>
            </a:r>
            <a:endParaRPr b="0" i="1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14600" y="2971440"/>
            <a:ext cx="6324480" cy="34290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ect (deformity, swelling, ski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lpate (step-off, tender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of motion (active &amp; passiv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vascular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8840" y="914400"/>
            <a:ext cx="380988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hysical Exam Document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62520" y="2590560"/>
            <a:ext cx="487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t above - Joint be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0" y="304560"/>
            <a:ext cx="403848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urovascular Compromis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33560" y="1981080"/>
            <a:ext cx="51051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ght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ensory or motor def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question of circulatory com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llor or cold distal to inju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ased capillary refill/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48320" y="761760"/>
            <a:ext cx="396216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mpartment Syndrom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6200" y="2361960"/>
            <a:ext cx="5105520" cy="3733560"/>
          </a:xfrm>
          <a:prstGeom prst="rect">
            <a:avLst/>
          </a:prstGeom>
          <a:solidFill>
            <a:srgbClr val="d2d2d2">
              <a:alpha val="15000"/>
            </a:srgbClr>
          </a:solidFill>
          <a:ln w="0">
            <a:noFill/>
          </a:ln>
        </p:spPr>
        <p:txBody>
          <a:bodyPr anchor="t">
            <a:normAutofit fontScale="86000"/>
          </a:bodyPr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85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aised pressure in a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osed fascial sp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85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duced capilla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erfusion below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evel needed for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issue viabili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14440" y="304560"/>
            <a:ext cx="487692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imb Compartment Syndrome Causes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14440" y="2133360"/>
            <a:ext cx="4876920" cy="419076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pe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ures: open or cl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x management (e.g. tight cas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cular/Iatroge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scular puncture: esp. anticoag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a-arterial drug admin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vasation of IV 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-tissue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h (e.g. Police K9 bi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tension:  Always worsens perfusion in compartment 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29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038480" cy="2743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6" name="Rectangle 1030"/>
          <p:cNvSpPr/>
          <p:nvPr/>
        </p:nvSpPr>
        <p:spPr>
          <a:xfrm>
            <a:off x="3048120" y="3276720"/>
            <a:ext cx="541008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limb contains a number of compartments at risk for C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arm: anterior(biceps-brachialis) and posterior(triceps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earm: volar(flexors) and dorsal(extensor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 gluteal, 2 thigh, 4 in the lower leg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7:23:40Z</dcterms:created>
  <dc:creator>Steinhart Rachel</dc:creator>
  <dc:description/>
  <dc:language>en-US</dc:language>
  <cp:lastModifiedBy>HCMARTINEZ</cp:lastModifiedBy>
  <dcterms:modified xsi:type="dcterms:W3CDTF">2010-04-29T11:01:08Z</dcterms:modified>
  <cp:revision>38</cp:revision>
  <dc:subject/>
  <dc:title>Orthopedic Emergencies</dc:title>
</cp:coreProperties>
</file>