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458-B97C-4BBC-B1F8-2AB53E9B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1E5-1D38-44D1-98A8-E74A9281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901-3901-425E-A94F-2E12107D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7E2-FD8F-47A8-8BD2-381769B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12AB-2756-4A23-9CBE-F335B214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F6B-F40D-41BA-B8A2-E7C7710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4097-443A-4257-BE7E-FCE53E44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2841-1F1D-49D8-88AB-0E192A90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8AF9-1AED-4A79-B5D7-4302D7F7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3EA6-D1F4-430A-BD45-5DBE0BF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2770-347F-491A-853E-1B832E2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809-72A4-4841-81D9-84C5A8A0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52C-A27E-46F3-B8E6-A9EA61D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E4D8-C46A-443F-9497-FCDDF4C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1DD0-DE7D-4A4A-907E-91880190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223B-18C4-4957-A777-49F72D7A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F7F9-9BE5-4F40-BD6E-CFBCCC85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137-0D53-4CA1-8027-516D07AB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C3F-C1E5-42F3-B646-0D2E238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91B-7311-48C4-84E8-0554D13E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095-2FD8-4381-BF04-79D5138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19F-70DF-481A-A3AB-6BC7AAE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F21-9CDD-4A85-B271-AA72F0E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256-13FB-4266-9E4C-2CDD138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089-180C-48B2-BE84-0B5742AB09A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77B2-F7FB-4C33-BEE6-631EDC635FC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tered Level of Conscious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Department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038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ef Neurologic/MM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limited due to patient’s inability to co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year, season, date, day, mo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state, county, town, hospital, fl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(3): Name 3 objects (patient repea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/Calculation (5): Serial 7’s or “WORLD” back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all (3): Recall 3 objects named previous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guage (2): Name a pencil and  w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tition (1): “No ifs, ands, or bu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Commands (6): Follow 3 stage verbal command, follow printed commands: “Close eyes”, “Write a sentence”, “Copy design” (intersecting pentag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re of &lt;24 ab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General Categ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Intracran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eed, infection, 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ic Disease Affecting C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, cardiac, pulmonary, infectious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ogenous Toxi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exposures, medications, drugs/et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/ETOH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nemonic: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WATCH DEA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metaboli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idosis, alkalosis, lytes, liver/renal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ra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NS patholog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leed, infxn, CVA, seizure,tumor, vasculi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poxi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emia, CO poisoning, resp/CV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icienc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12, folate, thiamine, niac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docrinopath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drenal, pancreatic, thyroid, parathyro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Vascula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TN encephalopathy, CVA, arrhythmia, shoc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xins/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avy Met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lead, manganese, mercu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by history/exam findings/vi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BC, comp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um ammonia/coag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liver d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2, folate leve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re helpful for inpt te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G w/ carboxyhemoglobin level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CO-poisoning). Also will uncover hypercarb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us w/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UA, CXR, Bld Cx, L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OX, ASA/Tylenol/ETOH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ocrin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edside CBG, TSH, calcium/phos levels, cortisol lev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rain, abdomen, chest depending on suspected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rrhythmia, o/d’s, 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ergency Department 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suspected underlying cause (infection, withdrawal, o/d, CVA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hreshold for RSI (inability to protect airway, coma, poor gag): treat easily reversible causes first (ex: hypoglycemia, narcotic o/d responsive to narcan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cute agitation with sedatives and neuroleptics to control behavior, facilitate procedures, protect staff, prevent rhab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restraint preferable to physical re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cations- Sedatives &amp; Neurole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azepam (Ativ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azolam (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- (Inapsine) not available in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 - injec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- dissolv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anzapine (Zyprexa) - dissol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iv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of choice in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/SL/IM/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xed with neuroleptic in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onset, relatively long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over neuroleptic in treating toxic effects of stimu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 (doses for EtOH w/d much hig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.5-2mg PO/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4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2mg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try to avoid when EtOH on-board as risk for respiratory suppression sig hig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dazol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with rapid onset, brief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used by paramed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ful for rapid sedation of dangerously agitated pat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ommended when EtOH involved - increased risk of respiratory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- 5 mg IM/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of choice for acute severe agitation, psychosis, delirium, &amp; for severe agitation w/EtOH on bo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mixed in syringe w/lorazepam and diphenhydramine (often included for dystonic rx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5mg 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5mg IV/IM (5mg usual dose) - IV only in ICU at CCR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u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otension, can lower seizure threshold, QT prolongation (IV fo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(Inaps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er acting and more sedating then Hald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likely to cause hypot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risk of QT prolongation/Tors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ECG/QT interval before adminis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0.625-5mg IV/IM (5mg usual do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en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lowly progressive  decline in mem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ium usually clear (in contrast to delirium)- patient oriented unless late stages of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rium can be superimposed on dementia- need corroborating history of baseline mental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i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confusional state- transient disorder with impairment of attention and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-less common for ED 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likely to cause severe dystonic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10 - 20 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&amp; Olanzapine (Zyprex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used for sundowning in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vailable in rapidly dissolving PO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idotes- “Coma Cocktail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amine (100mg IV/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(50ml of D50W IV pu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oxone (2-10mg SC/IM/IV or via ET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mazen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controversial- may induce refractory seizures in setting of long-term use or mixed o/d with seizure inducing agents like T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ETOH “just drunk”- higher incidence of intracrani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psych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dementia in old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corroborating in a patient who can’t tell you hx/sx’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ng hidden sources of infection by not undressing/rolling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stein,P. Delirium, Dementia, and Amnesia.http://emedicine.medsc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/article/793247-overview. Accessed February 15,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ason, O. Delirium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n Family Physici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ff,J. Altered Mental Status and Coma. In: Tintinalli JE, Krome RL, Ruiz E, eds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ergency Medicine: A Comprehensive Study Gu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6th ed. New York, NY: McGraw-Hill; 2004: 1390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7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s it importa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rium accounts for 10-15% of admissions to acute-care hospitals (though may not be primary diagn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uses of delirium may be fatal if not reversed/treated: CNS infection, severe hypoglycemia, DTs, thyroid storm, TCA o/d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Components of Delir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onset (hours-d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uctuating L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; falling asleep during interview. Waxing/waning con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language, organization, attention (may ask you to repeat questions, etc), disorientation to time/place/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al lability, sometimes ag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ptual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llucinations (visual&gt;auditory), de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log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it changes, tremor, asterixis, myocl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SM-IV 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sturbance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nsciousne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.e., reduced clarity of awareness about the environment) with reduced ability to focus, sustain, or shift atten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 change in cog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.g., memory deficit, disorientation, language disturbance) or development of a perceptual disturbance that is not better accounted for by a preexisting, established, or evolving dement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sturbance develops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ver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hort period of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usually hours to days) and tends to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luct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uring the course of a 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 from the history, physical examination, or laboratory findings indicate that the disturbance is caused by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rect physiologic consequences of a general medical cond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: DSM-IV-TR. Washington, D.C., American Psychiatric Association, 2000:143. Copyright 2000, American Psychiatric Associ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iating Delirium from Dementia and Psychiatric Psych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lir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men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Psychia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idi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d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 over 24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uctua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cious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&gt;Audi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ditory&gt;Vis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u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ually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a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rixis,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199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intinalli, J., et al. Emergency Medicine: A Comprehensive Study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/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nctions aff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mood, perception, orientation, speech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corroborating history from family, friends, caregivers: Key to diagnos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M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ug use h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/o psych d/o or prior similar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50 y.o. w/o prior psych hx- thing orga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mpt, disheveled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te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pilary constriction (Narcotics), dilation (anti-cholinergics, cocaine/meth, hallucinogen), asymmetry (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illed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OH, fruity (DKA), musty (fetor hepa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terixis, tremulousnous/agitation (w/d benzo or ETO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dden sources of infection (decubitus ulcers, cellulitis in hidden areas) - do full skin survey (undress and roll patien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le signs of head trau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motympanum, Battle sign, Raccoon’s eyes, otorhino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al Signs as C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tension (HTN emergency, preeclampsia, elevated ICP especially if also bradycardic, stimulant o/d, D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nsion (sepsis, various o/d’s, dehydration, et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cardia (fever, sepsis, dehydration, thyroid storm, o/d of stimulant, anticholinergics, theophylline, TCA, 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cardia (elevated ICP, asphyxia, o/d AV-node block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iratory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pnea (DKA, sepsis, ASA o/d, stimulant o/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pnea (narcotic/sedative o/d, 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 (infection, thyroid storm, heatstroke, aspirin toxicity, extreme adrenergic overflow of some drug o/d’s or DT’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hermia (infection, thyroid/adrenal insufficiency, expos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49:14Z</dcterms:created>
  <dc:creator>Katrina Rapa</dc:creator>
  <dc:description/>
  <dc:language>en-US</dc:language>
  <cp:lastModifiedBy>Steinhart Rachel</cp:lastModifiedBy>
  <dcterms:modified xsi:type="dcterms:W3CDTF">2010-03-15T05:48:33Z</dcterms:modified>
  <cp:revision>18</cp:revision>
  <dc:subject/>
  <dc:title>Altered Level of Consciousness</dc:title>
</cp:coreProperties>
</file>