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099-F2E0-450B-9F73-E995AE9E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9DA-F5B3-429E-BA22-E411A69D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271-BCB3-4619-9B29-5C57B679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14F-5F56-445E-A6D3-607E16EC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DD4B-D858-46FD-A7E8-7E29D41D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58BA-B671-4814-9BBB-8A130F15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5B56-9F8C-4DAA-9FD1-078214D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F2C3-AF37-4341-8205-DFB895C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D62-ED3F-4536-83C8-8ABAE42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BC8-B9BB-4662-AADF-AD8E3FB3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599A-4520-414C-925B-61CB683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5C0-06E2-4E95-9CC0-ACF97922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FAB-223C-456B-8768-9EA5493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8B9-6EB1-417C-8F8C-0205A8F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8789-588E-414E-8D0F-962AF7F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C6E-13CD-4F6D-9EB9-7FB56BBE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1077-A73F-4BE0-ADE9-7FD6C3F1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7CF-E208-472F-8B0B-A1FFC850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54F-59DB-4F9A-8F8C-96E0C9E7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449-45E0-4664-99C9-88DAAF0B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B54-AF94-45B0-A127-D59511B3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792-0536-4256-985A-1031161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9AE-084E-4D56-8E19-49804A12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565-D754-4959-956B-EDFF419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D593-021A-49AA-B3C9-BC11C9502D6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BE51-3493-46A6-87C6-CBAF188CF9B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tered Level of Conscious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y Department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038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rief Neurologic/MM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limited due to patient’s inability to coope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M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year, season, date, day, mon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ientation (5): state, county, town, hospital, flo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ation (3): Name 3 objects (patient repea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ntion/Calculation (5): Serial 7’s or “WORLD” back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all (3): Recall 3 objects named previous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guage (2): Name a pencil and  wa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tition (1): “No ifs, ands, or bu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Commands (6): Follow 3 stage verbal command, follow printed commands: “Close eyes”, “Write a sentence”, “Copy design” (intersecting pentag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ore of &lt;24 abno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General Categ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ary Intracran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eed, infection, 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ic Disease Affecting C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, cardiac, pulmonary, infectious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ogenous Toxi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exposures, medications, drugs/eto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/ETOH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nemonic: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WATCH DEA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Inf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ithdr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metabolic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cidosis, alkalosis, lytes, liver/renal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ra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CNS patholog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leed, infxn, CVA, seizure,tumor, vasculi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ypoxi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nemia, CO poisoning, resp/CV fail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eficienc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12, folate, thiamine, niac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docrinopathie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drenal, pancreatic, thyroid, parathyro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cute Vascula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TN encephalopathy, CVA, arrhythmia, shoc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oxins/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avy Met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lead, manganese, mercu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by history/exam findings/vit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BC, comp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um ammonia/coag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liver d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12, folate leve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ore helpful for inpt te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G w/ carboxyhemoglobin level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if suspect CO-poisoning). Also will uncover hypercarb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tious w/u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UA, CXR, Bld Cx, L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OX, ASA/Tylenol/ETOH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ocrin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edside CBG, TSH, calcium/phos levels, cortisol lev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rain, abdomen, chest depending on suspected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K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rrhythmia, o/d’s, M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9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ergency Department 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suspected underlying cause (infection, withdrawal, o/d, CVA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hreshold for RSI (inability to protect airway, coma, poor gag): treat easily reversible causes first (ex: hypoglycemia, narcotic o/d responsive to narcan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m acute agitation with sedatives and neuroleptics to control behavior, facilitate procedures, protect staff, prevent rhab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restraint preferable to physical re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dications- Sedatives &amp; Neurole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azepam (Ativ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azolam (Vers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- (Inapsine) not available in 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 - injec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- dissolv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anzapine (Zyprexa) - dissol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838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iv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of choice in 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/SL/IM/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mixed with neuroleptic in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onset, relatively long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over neuroleptic in treating toxic effects of stimu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 (doses for EtOH w/d much highe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.5-2mg PO/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4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2mg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tion: try to avoid when EtOH on-board as risk for respiratory suppression sig hig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dazol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zo with rapid onset, brief d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used by paramed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ful for rapid sedation of dangerously agitated pat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ommended when EtOH involved - increased risk of respiratory de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ult d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- 5 mg IM/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loperidol (Hald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g of choice for acute severe agitation, psychosis, delirium, &amp; for severe agitation w/EtOH on bo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mixed in syringe w/lorazepam and diphenhydramine (often included for dystonic rx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-5mg P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-5mg IV/IM (5mg usual dose) - IV only in ICU at CCR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u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otension, can lower seizure threshold, QT prolongation (IV for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peridol (Inaps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ter acting and more sedating then Hald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likely to cause hypoten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risk of QT prolongation/Tors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ECG/QT interval before adminis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0.625-5mg IV/IM (5mg usual do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en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lowly progressive  decline in memo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orium usually clear (in contrast to delirium)- patient oriented unless late stages of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rium can be superimposed on dementia- need corroborating history of baseline mental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i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confusional state- transient disorder with impairment of attention and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leptic Agents-less common for ED u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iprasidone (Geod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likely to cause severe dystonic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 dose: 10 - 20 mg 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peridone (Risperdal) &amp; Olanzapine (Zyprex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used for sundowning in dement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vailable in rapidly dissolving PO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tidotes- “Coma Cocktail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amine (100mg IV/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(50ml of D50W IV pus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loxone (2-10mg SC/IM/IV or via ET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mazen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controversial- may induce refractory seizures in setting of long-term use or mixed o/d with seizure inducing agents like T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ETOH “just drunk”- higher incidence of intracrani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psych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uming dementia in old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getting corroborating in a patient who can’t tell you hx/sx’s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sing hidden sources of infection by not undressing/rolling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rstein,P. Delirium, Dementia, and Amnesia.http://emedicine.medscap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/article/793247-overview. Accessed February 15, 20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eason, O. Delirium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n Family Physici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,200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ff,J. Altered Mental Status and Coma. In: Tintinalli JE, Krome RL, Ruiz E, eds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mergency Medicine: A Comprehensive Study Gu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6th ed. New York, NY: McGraw-Hill; 2004: 1390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37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is it importan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rium accounts for 10-15% of admissions to acute-care hospitals (though may not be primary diagnos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causes of delirium may be fatal if not reversed/treated: CNS infection, severe hypoglycemia, DTs, thyroid storm, TCA o/d, et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Components of Deliri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onset (hours-da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uctuating L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; falling asleep during interview. Waxing/waning conf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s in 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language, organization, attention (may ask you to repeat questions, etc), disorientation to time/place/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eep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al lability, sometimes agi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ptual disturb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llucinations (visual&gt;auditory), del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urologic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it changes, tremor, asterixis, myocl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SM-IV Cri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sturbance o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onsciousnes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.e., reduced clarity of awareness about the environment) with reduced ability to focus, sustain, or shift atten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A change in cog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e.g., memory deficit, disorientation, language disturbance) or development of a perceptual disturbance that is not better accounted for by a preexisting, established, or evolving dement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sturbance develops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ver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hort period of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usually hours to days) and tends to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luct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uring the course of a da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 from the history, physical examination, or laboratory findings indicate that the disturbance is caused by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irect physiologic consequences of a general medical cond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Diagnostic and statistical manual of mental disorders: DSM-IV-TR. Washington, D.C., American Psychiatric Association, 2000:143. Copyright 2000, American Psychiatric Associati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fferentiating Delirium from Dementia and Psychiatric Psycho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lir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Dement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Psychia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idi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d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 over 24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luctua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scious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orde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/-Impai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sual&gt;Audi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ditory&gt;Vis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lu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ns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ually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sta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ve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erixis, trem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ten 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01992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intinalli, J., et al. Emergency Medicine: A Comprehensive Study. 200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/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functions aff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ory, mood, perception, orientation, speech, e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corroborating history from family, friends, caregivers: Key to diagnos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fun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M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ug use h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/o psych d/o or prior similar present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&gt;50 y.o. w/o prior psych hx- thing orga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Appear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mpt, disheveled, e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cte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pilary constriction (Narcotics), dilation (anti-cholinergics, cocaine/meth, hallucinogen), asymmetry (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pilled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TOH, fruity (DKA), musty (fetor hepati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terixis, tremulousnous/agitation (w/d benzo or ETO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dden sources of infection (decubitus ulcers, cellulitis in hidden areas) - do full skin survey (undress and roll patien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tle signs of head trau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motympanum, Battle sign, Raccoon’s eyes, otorhinorrh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tal Signs as C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press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tension (HTN emergency, preeclampsia, elevated ICP especially if also bradycardic, stimulant o/d, D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ension (sepsis, various o/d’s, dehydration, et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rt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cardia (fever, sepsis, dehydration, thyroid storm, o/d of stimulant, anticholinergics, theophylline, TCA, 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cardia (elevated ICP, asphyxia, o/d AV-node block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piratory 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chypnea (DKA, sepsis, ASA o/d, stimulant o/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dypnea (narcotic/sedative o/d, CNS insul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ver (infection, thyroid storm, heatstroke, aspirin toxicity, extreme adrenergic overflow of some drug o/d’s or DT’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othermia (infection, thyroid/adrenal insufficiency, exposu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6:49:14Z</dcterms:created>
  <dc:creator>Katrina Rapa</dc:creator>
  <dc:description/>
  <dc:language>en-US</dc:language>
  <cp:lastModifiedBy>Steinhart Rachel</cp:lastModifiedBy>
  <dcterms:modified xsi:type="dcterms:W3CDTF">2010-03-15T05:48:33Z</dcterms:modified>
  <cp:revision>18</cp:revision>
  <dc:subject/>
  <dc:title>Altered Level of Consciousness</dc:title>
</cp:coreProperties>
</file>