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40CE-E2E9-444B-A8CA-5656DDC1F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5C9-BB02-4FA0-B531-D811B2EC1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s in ~ 50% of infants born between 28-32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ly related to premat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1F66-B873-4569-BCDE-743E67A84C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B6E3-7F08-4166-8432-3BD063B60E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6F7A-FB01-4073-96EC-6E92DA898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S, H influenza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7E82-8E17-4EDF-AC8D-BB1B1DA499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ria, 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96FB-2A05-4B47-8372-D326EC819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coli pneu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5B06-FFBA-40F6-A4AC-AD276CA19F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hyxia causes anal sphincter to relax, also leads to gasping respiratory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ery concerned about pulmonary hypertension, as this is also a fetal response to asphyx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780D-36AA-47DB-BFFE-D689B56D7A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C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7052-56BA-45E4-A890-2AB831727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delivery pulmonary vascular resistance plummets, in order to establish pulmonary blood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kids with PPHN, they never drop their resistance, leading in the worst case to a right to left shunt at the ductal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7E2F-A27C-467B-AAAE-EC29F50ABA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blood flow:  caused by compression of the pulmonary capillaries by fetal lung fl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monary arteries:  thick muscular layer present, very reactive to hypox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 fluid: fetal lungs secrete fluid, adequate lung volume is necessary for fet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al breathing: contributes to fetal lung development, moves fluid in and out of fetal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tant: necessary amount to support breathing after birth, present after ~ 34 weeks ge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F4B-7701-4CAC-AB2D-15DBE60A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857-BC3E-4575-A6FB-B187CD2C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FC1-585D-4DE9-A5FF-636A8453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C7C-46E4-4B91-8641-FFA99038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F7BA-F7CB-4F56-BC6C-B2DDAA01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057-DB31-47C2-9142-F71907A6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001A-046E-4F18-AD29-870DCCA4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2F13-2C93-4C25-A1F5-6E45DF9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7FFC-1209-4AAF-A3B3-9CA6ACA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838-DB5E-43D2-B2D1-A613574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938A-807B-4549-83EF-57706E6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F20-3C9C-4701-97B0-458DB6A3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C001-BF0D-4487-9CDB-4007A2AB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2A80-64D7-4E45-AE5B-08D56463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A3F6-7946-4BC8-9B4F-495BC90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FC6C-9A0A-4662-9416-EC3939C6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301-D3D9-44D8-9A39-325F9C6C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DB8-1652-4A12-BC3F-9B1F9C10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D29-DFE2-4D75-A47C-0F152DC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198-1D5D-48D0-8330-8AC76B29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1E8-7940-406B-8947-A121017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A40-F353-44B1-A314-D57552C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81E-51D2-41AF-89CD-58A3C498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482-CB91-4C63-8512-1290A83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D84B-0CDD-4F31-92EB-0043EB72F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DBAD-AAA1-4A47-B0B4-1BD07AF29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ldrenshospitaloakland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Joe, M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’s Hospital and Research Center at Oak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Children's Hospital Oakland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95480"/>
            <a:ext cx="2571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A3AA-BA0A-4399-91FE-72AB7D281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D4A0-00F8-44BD-BCDC-D7C0C0D00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born t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-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casian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surfactant deficienc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nal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hemorrh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onium aspi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tox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DCA1-8222-4635-87EF-9B796BA62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8102-2F72-4E41-B80A-038191994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3" descr="rds"/>
          <p:cNvPicPr/>
          <p:nvPr/>
        </p:nvPicPr>
        <p:blipFill>
          <a:blip r:embed="rId1"/>
          <a:stretch/>
        </p:blipFill>
        <p:spPr>
          <a:xfrm>
            <a:off x="1981080" y="762120"/>
            <a:ext cx="5114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B0C0-9871-4DCD-89B1-0A0C3AC32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veolar dis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use reticular granular or “ground glass”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ronch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a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087-7E8C-4FC1-AA6B-C354CB1F18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DS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FRC (CPAP vs. intub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ogenous surfac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anta 4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surf 3cc/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B77-938A-4244-9930-196BA5744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urfactant Therapy for R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mort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st benefit when used with antenatal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compliance, functional residual capacity, and oxyge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incidence of air l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6B3-CEB2-45AD-AD68-6AF52C5E8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genital 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organis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B strept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Coli, Klebsi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amydia, Ureaplasma, myco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. Influenza (nontype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C2D6-D78C-4D2B-A69E-7AA424BF8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isk Fa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ernal chorioamni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rupture of memb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natal exposures: Poor hand washing, open skin lesions, contaminated blood products, infected breast mi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B1B0-0F00-4979-BC20-36B982044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and ed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nchial pl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in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ilation/perfusion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1C94-47BA-4C73-9702-3E1661EE6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onatal Respirato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per airway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parenchym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eak syndr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ders of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F282-CF36-43B3-BAD0-DA8874A18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finding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4E3E-4E44-49CE-A3E9-F6AFCDBE9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Radiograph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lassic x-ray findings, in fact, the X-ray in pneumonia can look like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for 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C313-D89B-4AFC-BDBC-E14417019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2744img0001"/>
          <p:cNvPicPr/>
          <p:nvPr/>
        </p:nvPicPr>
        <p:blipFill>
          <a:blip r:embed="rId1"/>
          <a:stretch/>
        </p:blipFill>
        <p:spPr>
          <a:xfrm>
            <a:off x="930240" y="457200"/>
            <a:ext cx="72388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A568-856F-4FA6-95AB-9B58DB78C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2744img0002"/>
          <p:cNvPicPr/>
          <p:nvPr/>
        </p:nvPicPr>
        <p:blipFill>
          <a:blip r:embed="rId1"/>
          <a:stretch/>
        </p:blipFill>
        <p:spPr>
          <a:xfrm>
            <a:off x="1066680" y="574560"/>
            <a:ext cx="69343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D03-A686-4A34-9F58-1E80C1273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744img0003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A780-8850-41E1-A282-9D5301FAD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nia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support as indicated with either O2 or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with appropriate antimicrob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ampicillin/gentamicin or ampicillin/cefotax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r spectrum antibiotics for nosocomial bacter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0922-5ED2-4C80-823F-8093F35B4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onium contains epithelial cells and bile sa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ased with intrauterine stress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in 15% of all newborn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5-10% develop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962A-9AD0-4F28-ACE8-CEE3F5910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 plugging, with air tr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, leading to inactivation of surfac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tant inactivation leads to decreased compliance, and alveo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veolar collapse = loss of F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RC = V/Q mi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Q mismatch = desat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4DF1-6216-4EC0-B260-68ECBA070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conium aspiration: X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hyperexpansion mixed with patchy densities and atel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M009345968_MecAspiration_1_1.jpg"/>
          <p:cNvPicPr/>
          <p:nvPr/>
        </p:nvPicPr>
        <p:blipFill>
          <a:blip r:embed="rId1"/>
          <a:stretch/>
        </p:blipFill>
        <p:spPr>
          <a:xfrm>
            <a:off x="1828800" y="2971800"/>
            <a:ext cx="47242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E4D7-EC26-4D7E-856D-570F620EC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occur spontaneously during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when receiving positiv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occupying lesion within the chest displacing lung, and if under tension, compromising venou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A5A1-7EE0-4702-ACE2-35090CBA7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anal atr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rre Robi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cular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6497-3AE3-48DC-8508-76FA997B8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s with non-specific signs of 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, 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C66-6BE1-4A4D-A232-8A2E70610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pneumo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A8DE-EFFB-4668-A23A-AFFC4B937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neumothorax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2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gen washout (pneumo contains 21% O2, &gt;75% nitrogen, if lung has 100% O2, nitrogen will diffuse out of pneumothor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void positive pressure if 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cuate as needed by thoracentesis or chest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BF94-D50B-4BFB-A525-BF2C09171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elopmental disturba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o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deform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89D-3000-4878-9D92-ECB406470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lmonary hypoplas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ot be assessed radiographically, pulmonary hypoplasia is a pathologic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 pulmonary hypoplasia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pture of membranes with anhydramn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l anoma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 of the chest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diaphragmatic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FF94-B909-4318-8D94-3D4B103F4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phoi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el sounds in the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ssociated anoma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breath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ypox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2429-2DFB-4633-8002-C20F03D35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aphragmatic Hern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range in clinical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niation of bowel leads to altered development of the lungs bilate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FFBD-3641-4AA0-A7BA-7700F0207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cdh"/>
          <p:cNvPicPr/>
          <p:nvPr/>
        </p:nvPicPr>
        <p:blipFill>
          <a:blip r:embed="rId1"/>
          <a:stretch/>
        </p:blipFill>
        <p:spPr>
          <a:xfrm>
            <a:off x="2666880" y="419040"/>
            <a:ext cx="3810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E71-01FF-4C5C-AB36-5260627DB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sistent Pulmonary Hypertension of the Newbor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ulmonary hypertension is a pure vascular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ften present in a mixed picture as in the setting of meconium aspiration syndrome or 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15FA-E54B-40F5-8F6C-50701BCC2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sponse to an asphyxia event in utero, the fetus diverts all blood flow possible to vital organs (brain/heart/adr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eads to vasoconstriction of non-vital vascular beds, including the pulmonary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deling of smooth muscle ca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Content Placeholder 4" descr="Choanal atresia.jpg"/>
          <p:cNvPicPr/>
          <p:nvPr/>
        </p:nvPicPr>
        <p:blipFill>
          <a:blip r:embed="rId1"/>
          <a:stretch/>
        </p:blipFill>
        <p:spPr>
          <a:xfrm>
            <a:off x="838080" y="762120"/>
            <a:ext cx="2876760" cy="409572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9D72-7D99-4FB3-A1CE-69FBDABAE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Pierre Robin.jpg"/>
          <p:cNvPicPr/>
          <p:nvPr/>
        </p:nvPicPr>
        <p:blipFill>
          <a:blip r:embed="rId2"/>
          <a:stretch/>
        </p:blipFill>
        <p:spPr>
          <a:xfrm>
            <a:off x="4572000" y="5335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ierre Robin 2.jpg"/>
          <p:cNvPicPr/>
          <p:nvPr/>
        </p:nvPicPr>
        <p:blipFill>
          <a:blip r:embed="rId3"/>
          <a:stretch/>
        </p:blipFill>
        <p:spPr>
          <a:xfrm>
            <a:off x="4572000" y="3124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9907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anal Atre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876920" y="565776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erre Robin Syndro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E8A-8FEB-469A-9F9C-CBB41C667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 flipH="1">
            <a:off x="1447200" y="1523880"/>
            <a:ext cx="2361960" cy="381024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5105520" y="1523880"/>
            <a:ext cx="2133360" cy="3810240"/>
          </a:xfrm>
          <a:custGeom>
            <a:avLst/>
            <a:gdLst>
              <a:gd name="textAreaLeft" fmla="*/ 1227240 w 2133360"/>
              <a:gd name="textAreaRight" fmla="*/ 1800360 w 2133360"/>
              <a:gd name="textAreaTop" fmla="*/ 513720 h 3810240"/>
              <a:gd name="textAreaBottom" fmla="*/ 163080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362320" y="1828800"/>
            <a:ext cx="1676160" cy="20574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2438280" y="1828800"/>
            <a:ext cx="1371600" cy="1828800"/>
          </a:xfrm>
          <a:prstGeom prst="line">
            <a:avLst/>
          </a:prstGeom>
          <a:ln w="76320">
            <a:solidFill>
              <a:srgbClr val="a80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657600" y="3657600"/>
            <a:ext cx="1600200" cy="609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590920" y="5105520"/>
            <a:ext cx="3657600" cy="1295280"/>
          </a:xfrm>
          <a:custGeom>
            <a:avLst/>
            <a:gdLst>
              <a:gd name="textAreaLeft" fmla="*/ 852840 w 3657600"/>
              <a:gd name="textAreaRight" fmla="*/ 2803680 w 3657600"/>
              <a:gd name="textAreaTop" fmla="*/ 136440 h 1295280"/>
              <a:gd name="textAreaBottom" fmla="*/ 820080 h 1295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a804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419720" y="52578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10"/>
          <p:cNvSpPr/>
          <p:nvPr/>
        </p:nvSpPr>
        <p:spPr>
          <a:xfrm flipV="1" rot="16159800">
            <a:off x="3543120" y="3466800"/>
            <a:ext cx="838080" cy="1371600"/>
          </a:xfrm>
          <a:custGeom>
            <a:avLst/>
            <a:gdLst>
              <a:gd name="textAreaLeft" fmla="*/ 0 w 838080"/>
              <a:gd name="textAreaRight" fmla="*/ 718560 w 838080"/>
              <a:gd name="textAreaTop" fmla="*/ 914760 h 1371600"/>
              <a:gd name="textAreaBottom" fmla="*/ 137232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77800" y="3809880"/>
            <a:ext cx="114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V out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7696080" y="2133720"/>
            <a:ext cx="457200" cy="457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7924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769572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7924680" y="30481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"/>
          <p:cNvSpPr/>
          <p:nvPr/>
        </p:nvSpPr>
        <p:spPr>
          <a:xfrm>
            <a:off x="7543800" y="274320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 flipV="1">
            <a:off x="7924680" y="274320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014440" y="4614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3187080" y="46148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44956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11804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CF7-863F-48F5-AA2C-AF8811A35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Clinical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 with hypo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xemia out of proportion to degree of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pre and post ductal s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extrem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oxia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EA3-0D38-4B32-9D1B-502E3584D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      L shu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1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R        L sh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V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pulmonary blood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 rot="16220400">
            <a:off x="6472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 rot="16220400">
            <a:off x="1333080" y="952560"/>
            <a:ext cx="106704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1523880" y="53352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1219320" y="114300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523880" y="114300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0"/>
          <p:cNvSpPr/>
          <p:nvPr/>
        </p:nvSpPr>
        <p:spPr>
          <a:xfrm rot="16220400">
            <a:off x="61340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11"/>
          <p:cNvSpPr/>
          <p:nvPr/>
        </p:nvSpPr>
        <p:spPr>
          <a:xfrm rot="16220400">
            <a:off x="6819840" y="1028160"/>
            <a:ext cx="1066680" cy="380880"/>
          </a:xfrm>
          <a:prstGeom prst="flowChartDelay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11430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13"/>
          <p:cNvSpPr/>
          <p:nvPr/>
        </p:nvSpPr>
        <p:spPr>
          <a:xfrm>
            <a:off x="1828800" y="106668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73152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6629400" y="11430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6629400" y="175248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17"/>
          <p:cNvSpPr/>
          <p:nvPr/>
        </p:nvSpPr>
        <p:spPr>
          <a:xfrm flipV="1">
            <a:off x="1143000" y="144720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609480"/>
              <a:gd name="textAreaBottom" fmla="*/ 21708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09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7010280" y="609480"/>
            <a:ext cx="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6705720" y="1219320"/>
            <a:ext cx="304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7010280" y="1219320"/>
            <a:ext cx="304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3"/>
          <p:cNvSpPr/>
          <p:nvPr/>
        </p:nvSpPr>
        <p:spPr>
          <a:xfrm>
            <a:off x="213372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4"/>
          <p:cNvSpPr/>
          <p:nvPr/>
        </p:nvSpPr>
        <p:spPr>
          <a:xfrm>
            <a:off x="6934320" y="2438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55D4-F33A-47CC-9B1B-8A1CC5C15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ulmonary blood f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well satu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o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car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care: temperature regulation, fluids and lytes, 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6875-17F5-4EB8-A0A1-E8EBDB099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PHN: Treat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al ventilation or HF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ic 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745C-2B60-4802-831B-41BFC3C03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anal Atresia/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anotic when quiet or at rest, pink with cr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ss suction catheter through 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1E4A-EF69-488D-BD8E-5E774B086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per airway obstr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n oral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tion secre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require intub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94EB-24B7-458F-AAAC-B45029910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tal Lung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used by compression of the pulmonary capillaries by fetal lung fl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ck muscular layer present, very reactive to hypoxe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ng flui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tal lungs secrete fluid, adequate lung volume is necessary for fetal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es to fetal lung development, moves fluid in and out of fetal 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cessary amount to support breathing after birth, present after ~ 34 weeks g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1DB8-F018-40DB-9ED2-4C99F7A7F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of fetal lu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ulmonary blood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3BDF-1E73-438E-89AD-198C7BF5D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piratory Distress Syndr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of surfactant def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tant decreases surface tension and improves lung 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ace tension: intrinsic tendency for alveoli to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6:54:00Z</dcterms:created>
  <dc:creator>Priscilla Joe</dc:creator>
  <dc:description/>
  <dc:language>en-US</dc:language>
  <cp:lastModifiedBy>HCMARTINEZ</cp:lastModifiedBy>
  <dcterms:modified xsi:type="dcterms:W3CDTF">2010-06-02T07:01:53Z</dcterms:modified>
  <cp:revision>41</cp:revision>
  <dc:subject/>
  <dc:title>Neonatal Respiratory Distress</dc:title>
</cp:coreProperties>
</file>