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C1A9-23A1-4C80-B625-724BC58FD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5D46-BC15-494C-BD9B-531181C5F5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s in ~ 50% of infants born between 28-32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ly related to premat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93E8-4FE1-4449-B4BE-2FC3998D8B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F5E0-C254-454D-A5F6-6E44DA9563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9D74-5E36-41B0-A208-522FF4BAAB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S, H influenza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AF78-B91C-4C33-A6D4-FE2E04197F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ria, 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ADB6-F551-48FB-9B59-35E11FBEFF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coli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234B-483F-4ACD-B659-2A249D4BE7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hyxia causes anal sphincter to relax, also leads to gasping respiratory eff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concerned about pulmonary hypertension, as this is also a fetal response to asphyx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49D5-D1F6-4BC5-9E6C-7EFDEE0EA5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C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6245-52CA-4B80-80BB-B32FDE0992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delivery pulmonary vascular resistance plummets, in order to establish pulmonary blood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kids with PPHN, they never drop their resistance, leading in the worst case to a right to left shunt at the duct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3E27-B8C9-4F1A-9539-E1CBA89E7C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blood flow:  caused by compression of the pulmonary capillaries by fetal lung fl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monary arteries:  thick muscular layer present, very reactive to hypox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fluid: fetal lungs secrete fluid, adequate lung volume is necessary for fet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al breathing: contributes to fetal lung development, moves fluid in and out of fetal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tant: necessary amount to support breathing after birth, present after ~ 34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5E9-F713-4254-ABF4-3C09BD0A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C67-D8AA-4D81-8ED8-A33B53FE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232-2D14-4CC3-8DDC-01AB367B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50C-FD46-4B22-B826-01AA4B17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B286-7A86-4776-B048-1EFDBC78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DD33-95E6-44CF-A12E-0EF2D7AA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D881-2769-4C48-9051-13DEC7CA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031D-2298-4C33-A398-9C7798E2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51F5-0D7A-40C3-BE59-3DF7914B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108D-6D8B-4179-9FDB-7A50F982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F355-45F7-4E8D-B366-44B2B227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999-2CDE-4BA2-BCE0-FA7BBD36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812F-67E8-4801-A6DD-30AC7F95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1DB6-E720-4653-B0DE-EDA8734D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B4F0-E666-406A-ABE6-12AADCD2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5D6A-9AA4-43B6-AC87-588CE976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A6C2-7F2D-41A3-BC7A-7A45F148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CE2-D05E-45B5-AF03-5BA13E86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B0A-5F5F-41F7-99C4-44EAAAD3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DFA-3AA0-407F-980A-0C4E8321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B4D-A4B4-46C4-8296-5F5177A8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0FA-A6B1-473C-88D2-26BB7B49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081-C6D8-44EC-B53A-466E5CBF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A98-ADC9-492E-9E55-0A3655D0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11EB-8A75-468D-B802-888ECA773F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485C-2CD9-4578-AA1B-9933EC8EF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ildrenshospitaloakland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tr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Joe, M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’s Hospital and Research Center at Oak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Children's Hospital Oakland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895480"/>
            <a:ext cx="2571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E528-377F-4E01-B76A-4C94C1BDE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ACB2-56CF-4EA8-BB87-8779A883D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born t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casi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surfactant deficienc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nal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hy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h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onium aspi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DD18-4382-40CD-B0FE-927221685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C326-20FD-451B-A386-193AD671A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3" descr="rds"/>
          <p:cNvPicPr/>
          <p:nvPr/>
        </p:nvPicPr>
        <p:blipFill>
          <a:blip r:embed="rId1"/>
          <a:stretch/>
        </p:blipFill>
        <p:spPr>
          <a:xfrm>
            <a:off x="1981080" y="762120"/>
            <a:ext cx="5114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C9BF-9005-48AA-AE73-8F3208CA1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veolar dise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e reticular granular or “ground glass”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bronch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a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1574-AACC-41ED-B15B-B02174D4F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FRC (CPAP vs. intub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genous surf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anta 4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surf 3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E8ED-1F90-41DA-B71B-4F8DC5C71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urfactant Therapy for RD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st benefit when used with antenatal ster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n compliance, functional residual capacity, and oxyge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incidence of air l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8E41-D97B-4CDC-8C40-311DD2ADC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genital 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B streptococ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Coli, Klebsi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amydia, Ureaplasma, myco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. Influenza (nontype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A4F7-6F37-42C5-9E30-9070A5EDCC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chorioamnio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rupture of memb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natal exposures: Poor hand washing, open skin lesions, contaminated blood products, infected 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81E4-65D4-491E-B23E-4F5410F13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and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chial pl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in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ilation/perfusion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CE28-7A45-40B8-AC94-52EF54F8D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airway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parenchym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leak syndr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ders of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5033-02D2-494E-A55C-3FC28624A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7BB7-2C04-45CB-A37E-583AAE543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lassic x-ray findings, in fact, the X-ray in pneumonia can look like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ly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for 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054B-D646-48B4-B28B-C0F3DB7F9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2744img0001"/>
          <p:cNvPicPr/>
          <p:nvPr/>
        </p:nvPicPr>
        <p:blipFill>
          <a:blip r:embed="rId1"/>
          <a:stretch/>
        </p:blipFill>
        <p:spPr>
          <a:xfrm>
            <a:off x="930240" y="457200"/>
            <a:ext cx="72388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85CF-AB2E-4CEA-89A1-26825DD77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2744img0002"/>
          <p:cNvPicPr/>
          <p:nvPr/>
        </p:nvPicPr>
        <p:blipFill>
          <a:blip r:embed="rId1"/>
          <a:stretch/>
        </p:blipFill>
        <p:spPr>
          <a:xfrm>
            <a:off x="1066680" y="574560"/>
            <a:ext cx="693432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4FA5-FEE9-4694-A4ED-C0B523C53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2744img0003"/>
          <p:cNvPicPr/>
          <p:nvPr/>
        </p:nvPicPr>
        <p:blipFill>
          <a:blip r:embed="rId1"/>
          <a:stretch/>
        </p:blipFill>
        <p:spPr>
          <a:xfrm>
            <a:off x="1828800" y="8380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D97F-0A25-4BC2-83E5-E0F5A0AE0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support as indicated with either O2 or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with appropriate antimicrob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ampicillin/gentamicin or ampicillin/cefotax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spectrum antibiotics for nosocomial bacte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7CBF-4483-407F-81D9-30B694F5E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onium contains epithelial cells and bile sa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d with intrauterine stress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in 15% of all newbor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5-10% develop 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C975-DE17-446D-A15C-0D41CECA6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plugging, with air tr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leading to inactivation of surfac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tant inactivation leads to decreased compliance, and 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 = loss of F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RC = V/Q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/Q mismatch = 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26D9-E039-4835-98CC-7A6B4193D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: X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hyperexpansion mixed with patchy densities and atel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M009345968_MecAspiration_1_1.jpg"/>
          <p:cNvPicPr/>
          <p:nvPr/>
        </p:nvPicPr>
        <p:blipFill>
          <a:blip r:embed="rId1"/>
          <a:stretch/>
        </p:blipFill>
        <p:spPr>
          <a:xfrm>
            <a:off x="1828800" y="2971800"/>
            <a:ext cx="47242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DF1B-D13E-4AA3-812B-315A70BC4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occur spontaneously during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when receiving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occupying lesion within the chest displacing lung, and if under tension, compromising venous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5C11-91D6-4D36-847B-14F233E1D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anal atr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rre Robi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cular 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4537-CD14-4096-AD6B-1DFC38C0A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sign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qual, 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F01D-8FE9-496F-BB5D-837AEADA5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pneumo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2ACA-0DE6-43DC-8C3E-829EE98ED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en washout (pneumo contains 21% O2, &gt;75% nitrogen, if lung has 100% O2, nitrogen will diffuse out of pneumothor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avoid positive pressure if 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as needed by thoracentesis or ch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C959-2B56-4CE6-A790-3298FB7C5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elopmental disturb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o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al deform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90EE-2523-48AD-8F40-77AE8D724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lmonary hypoplas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assessed radiographically, pulmonary hypoplasia is a pathologic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pect pulmonary hypoplasia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pture of membranes with anhydramn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anoma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f the chest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AD10-3C60-4CBD-9CEC-195DFBE94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phoid abd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wel sounds in the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ociated anoma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hypox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5E17-C203-4109-B59D-6F19AEB17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range in clinical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niation of bowel leads to altered development of the lungs bila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3BF0-5EB9-47F4-BE95-6A814A7A9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cdh"/>
          <p:cNvPicPr/>
          <p:nvPr/>
        </p:nvPicPr>
        <p:blipFill>
          <a:blip r:embed="rId1"/>
          <a:stretch/>
        </p:blipFill>
        <p:spPr>
          <a:xfrm>
            <a:off x="2666880" y="41904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D2E-4A78-4666-BC46-52401061D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sistent Pulmonary Hypertension of the Newbor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hypertension is a pure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ften present in a mixed picture as in the setting of meconium aspiration syndrome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520-913E-4AFB-90F0-F685EC4AE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sponse to an asphyxia event in utero, the fetus diverts all blood flow possible to vital organs (brain/heart/adre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ads to vasoconstriction of non-vital vascular beds, including the pulmonary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deling of smooth muscle can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Content Placeholder 4" descr="Choanal atresia.jpg"/>
          <p:cNvPicPr/>
          <p:nvPr/>
        </p:nvPicPr>
        <p:blipFill>
          <a:blip r:embed="rId1"/>
          <a:stretch/>
        </p:blipFill>
        <p:spPr>
          <a:xfrm>
            <a:off x="838080" y="762120"/>
            <a:ext cx="2876760" cy="409572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E252-81F9-45C5-B791-808055CA2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Pierre Robin.jpg"/>
          <p:cNvPicPr/>
          <p:nvPr/>
        </p:nvPicPr>
        <p:blipFill>
          <a:blip r:embed="rId2"/>
          <a:stretch/>
        </p:blipFill>
        <p:spPr>
          <a:xfrm>
            <a:off x="4572000" y="5335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erre Robin 2.jpg"/>
          <p:cNvPicPr/>
          <p:nvPr/>
        </p:nvPicPr>
        <p:blipFill>
          <a:blip r:embed="rId3"/>
          <a:stretch/>
        </p:blipFill>
        <p:spPr>
          <a:xfrm>
            <a:off x="4572000" y="31240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990720" y="51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anal Atre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76920" y="56577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rre Robin Syndro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DF6B-C972-45DE-A243-0840D237D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 flipH="1">
            <a:off x="1447200" y="1523880"/>
            <a:ext cx="2361960" cy="381024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5105520" y="1523880"/>
            <a:ext cx="2133360" cy="3810240"/>
          </a:xfrm>
          <a:custGeom>
            <a:avLst/>
            <a:gdLst>
              <a:gd name="textAreaLeft" fmla="*/ 1227240 w 2133360"/>
              <a:gd name="textAreaRight" fmla="*/ 1800360 w 2133360"/>
              <a:gd name="textAreaTop" fmla="*/ 513720 h 3810240"/>
              <a:gd name="textAreaBottom" fmla="*/ 163080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362320" y="1828800"/>
            <a:ext cx="1676160" cy="20574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 flipV="1">
            <a:off x="2438280" y="1828800"/>
            <a:ext cx="1371600" cy="18288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657600" y="3657600"/>
            <a:ext cx="160020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590920" y="5105520"/>
            <a:ext cx="3657600" cy="1295280"/>
          </a:xfrm>
          <a:custGeom>
            <a:avLst/>
            <a:gdLst>
              <a:gd name="textAreaLeft" fmla="*/ 852840 w 3657600"/>
              <a:gd name="textAreaRight" fmla="*/ 2803680 w 3657600"/>
              <a:gd name="textAreaTop" fmla="*/ 136440 h 1295280"/>
              <a:gd name="textAreaBottom" fmla="*/ 820080 h 1295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a804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419720" y="5257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0"/>
          <p:cNvSpPr/>
          <p:nvPr/>
        </p:nvSpPr>
        <p:spPr>
          <a:xfrm flipV="1" rot="16159800">
            <a:off x="3543120" y="3466800"/>
            <a:ext cx="838080" cy="1371600"/>
          </a:xfrm>
          <a:custGeom>
            <a:avLst/>
            <a:gdLst>
              <a:gd name="textAreaLeft" fmla="*/ 0 w 838080"/>
              <a:gd name="textAreaRight" fmla="*/ 718560 w 838080"/>
              <a:gd name="textAreaTop" fmla="*/ 914760 h 1371600"/>
              <a:gd name="textAreaBottom" fmla="*/ 1372320 h 1371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277800" y="380988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V out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7696080" y="21337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79246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769572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792468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7543800" y="274320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 flipV="1">
            <a:off x="7924680" y="2743200"/>
            <a:ext cx="30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5014440" y="4614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187080" y="46148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44956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4118040" y="2590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3349-57FE-49CA-BEF7-82C72EA1E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distress with 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emia out of proportion to degree of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pre and post ductal s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oxia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B78C-4951-43E8-A3A5-E5F0364FF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R      L shu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1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R        L sh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 rot="16220400">
            <a:off x="6472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 rot="16220400">
            <a:off x="13330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1523880" y="5335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1219320" y="114300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523880" y="114300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0"/>
          <p:cNvSpPr/>
          <p:nvPr/>
        </p:nvSpPr>
        <p:spPr>
          <a:xfrm rot="16220400">
            <a:off x="61340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1"/>
          <p:cNvSpPr/>
          <p:nvPr/>
        </p:nvSpPr>
        <p:spPr>
          <a:xfrm rot="16220400">
            <a:off x="68198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11430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3"/>
          <p:cNvSpPr/>
          <p:nvPr/>
        </p:nvSpPr>
        <p:spPr>
          <a:xfrm>
            <a:off x="18288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73152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66294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6629400" y="175248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24480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17"/>
          <p:cNvSpPr/>
          <p:nvPr/>
        </p:nvSpPr>
        <p:spPr>
          <a:xfrm flipV="1">
            <a:off x="1143000" y="144720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609480"/>
              <a:gd name="textAreaBottom" fmla="*/ 21708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09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7010280" y="609480"/>
            <a:ext cx="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6705720" y="121932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7010280" y="121932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213372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4"/>
          <p:cNvSpPr/>
          <p:nvPr/>
        </p:nvSpPr>
        <p:spPr>
          <a:xfrm>
            <a:off x="6934320" y="2438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6979-27CD-4F83-8ABA-5316C7040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ulmonary blood f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well satu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o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care: temperature regulation, fluids and lytes,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D5C-FED8-4E3E-8DEA-94172359A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al ventilation or HF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ic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DF64-09DA-4165-9394-3769AB5B8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oanal Atresia/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otic when quiet or at rest, pink with cr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pass suction catheter through 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5DBA-7318-466E-A752-5BC8A49F5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n oral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tion secre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require intu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D18D-DF6F-400A-A77C-D808ED3B2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tal Lung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used by compression of the pulmonary capillaries by fetal lung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ck muscular layer present, very reactive to hypoxe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ng flui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tal lungs secrete fluid, adequate lung volume is necessary for fetal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es to fetal lung development, moves fluid in and out of fetal 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essary amount to support breathing after birth, present after ~ 34 weeks g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4F86-59D2-46BA-86E7-834FB4DD2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ance of fetal lung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ulmonary blood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517D-E91A-4888-98A6-33C0CEE4B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piratory Distress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of surfactant def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decreases surface tension and improves lung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tension: intrinsic tendency for alveoli to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6:54:00Z</dcterms:created>
  <dc:creator>Priscilla Joe</dc:creator>
  <dc:description/>
  <dc:language>en-US</dc:language>
  <cp:lastModifiedBy>HCMARTINEZ</cp:lastModifiedBy>
  <dcterms:modified xsi:type="dcterms:W3CDTF">2010-06-02T07:01:53Z</dcterms:modified>
  <cp:revision>41</cp:revision>
  <dc:subject/>
  <dc:title>Neonatal Respiratory Distress</dc:title>
</cp:coreProperties>
</file>